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538-C7E4-4CAC-9A0C-7767D8D2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C9D-466D-4156-A5A6-431F3D1D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A86-509E-43D4-AEF2-62320EE0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7FEF-BF51-439C-912D-9503A526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324-05B6-403D-A77F-7773212E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559-FED9-4131-895D-A34B2DD9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DEA-0DD7-4B16-80A0-44551843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8E0-DBCC-4DDC-B9C0-0A266DD1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CC3-139A-41FD-9417-3A587426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6CA-6C14-4EFE-B106-BCBC87E1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D01C-20FE-4666-A877-27E1722C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65B-4160-4FFF-96E6-5DA68817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1EEC-46F6-4262-9D20-6E8241C39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6392" t="5017" r="8314" b="55811"/>
          <a:stretch/>
        </p:blipFill>
        <p:spPr>
          <a:xfrm>
            <a:off x="0" y="0"/>
            <a:ext cx="7848720" cy="496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4120" y="4419720"/>
            <a:ext cx="384120" cy="322200"/>
          </a:xfrm>
          <a:custGeom>
            <a:avLst/>
            <a:gdLst/>
            <a:ahLst/>
            <a:rect l="l" t="t" r="r" b="b"/>
            <a:pathLst>
              <a:path w="1067" h="894">
                <a:moveTo>
                  <a:pt x="1736" y="13072"/>
                </a:moveTo>
                <a:cubicBezTo>
                  <a:pt x="1684" y="13125"/>
                  <a:pt x="1712" y="13088"/>
                  <a:pt x="1637" y="13122"/>
                </a:cubicBezTo>
                <a:cubicBezTo>
                  <a:pt x="1584" y="13146"/>
                  <a:pt x="1551" y="13146"/>
                  <a:pt x="1488" y="13146"/>
                </a:cubicBezTo>
                <a:cubicBezTo>
                  <a:pt x="1400" y="13146"/>
                  <a:pt x="1297" y="13163"/>
                  <a:pt x="1215" y="13122"/>
                </a:cubicBezTo>
                <a:cubicBezTo>
                  <a:pt x="1154" y="13091"/>
                  <a:pt x="1144" y="13026"/>
                  <a:pt x="1116" y="12973"/>
                </a:cubicBezTo>
                <a:cubicBezTo>
                  <a:pt x="1083" y="12910"/>
                  <a:pt x="1071" y="12821"/>
                  <a:pt x="1067" y="12750"/>
                </a:cubicBezTo>
                <a:cubicBezTo>
                  <a:pt x="1064" y="12693"/>
                  <a:pt x="1086" y="12600"/>
                  <a:pt x="1116" y="12551"/>
                </a:cubicBezTo>
                <a:cubicBezTo>
                  <a:pt x="1143" y="12507"/>
                  <a:pt x="1177" y="12465"/>
                  <a:pt x="1215" y="12427"/>
                </a:cubicBezTo>
                <a:cubicBezTo>
                  <a:pt x="1284" y="12358"/>
                  <a:pt x="1306" y="12365"/>
                  <a:pt x="1389" y="12328"/>
                </a:cubicBezTo>
                <a:cubicBezTo>
                  <a:pt x="1440" y="12305"/>
                  <a:pt x="1516" y="12288"/>
                  <a:pt x="1563" y="12278"/>
                </a:cubicBezTo>
                <a:cubicBezTo>
                  <a:pt x="1618" y="12267"/>
                  <a:pt x="1669" y="12284"/>
                  <a:pt x="1712" y="12303"/>
                </a:cubicBezTo>
                <a:cubicBezTo>
                  <a:pt x="1763" y="12326"/>
                  <a:pt x="1822" y="12348"/>
                  <a:pt x="1860" y="12378"/>
                </a:cubicBezTo>
                <a:cubicBezTo>
                  <a:pt x="1903" y="12412"/>
                  <a:pt x="1939" y="12404"/>
                  <a:pt x="1984" y="12427"/>
                </a:cubicBezTo>
                <a:cubicBezTo>
                  <a:pt x="2012" y="12441"/>
                  <a:pt x="2033" y="12500"/>
                  <a:pt x="2059" y="12526"/>
                </a:cubicBezTo>
                <a:cubicBezTo>
                  <a:pt x="2075" y="12541"/>
                  <a:pt x="2090" y="12577"/>
                  <a:pt x="2108" y="12601"/>
                </a:cubicBezTo>
                <a:cubicBezTo>
                  <a:pt x="2138" y="12641"/>
                  <a:pt x="2130" y="12651"/>
                  <a:pt x="2133" y="12700"/>
                </a:cubicBezTo>
                <a:cubicBezTo>
                  <a:pt x="2136" y="12761"/>
                  <a:pt x="2128" y="12792"/>
                  <a:pt x="2108" y="12849"/>
                </a:cubicBezTo>
                <a:cubicBezTo>
                  <a:pt x="2087" y="12912"/>
                  <a:pt x="2070" y="12955"/>
                  <a:pt x="2009" y="12998"/>
                </a:cubicBezTo>
                <a:cubicBezTo>
                  <a:pt x="1940" y="13046"/>
                  <a:pt x="1855" y="13079"/>
                  <a:pt x="1786" y="13122"/>
                </a:cubicBezTo>
                <a:cubicBezTo>
                  <a:pt x="1742" y="13143"/>
                  <a:pt x="1730" y="13146"/>
                  <a:pt x="1712" y="131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5062680"/>
            <a:ext cx="277920" cy="144360"/>
          </a:xfrm>
          <a:custGeom>
            <a:avLst/>
            <a:gdLst/>
            <a:ahLst/>
            <a:rect l="l" t="t" r="r" b="b"/>
            <a:pathLst>
              <a:path w="770" h="398">
                <a:moveTo>
                  <a:pt x="6350" y="14188"/>
                </a:moveTo>
                <a:cubicBezTo>
                  <a:pt x="6387" y="14176"/>
                  <a:pt x="6380" y="14166"/>
                  <a:pt x="6400" y="14139"/>
                </a:cubicBezTo>
                <a:cubicBezTo>
                  <a:pt x="6440" y="14085"/>
                  <a:pt x="6421" y="14089"/>
                  <a:pt x="6499" y="14089"/>
                </a:cubicBezTo>
                <a:cubicBezTo>
                  <a:pt x="6564" y="14089"/>
                  <a:pt x="6618" y="14097"/>
                  <a:pt x="6672" y="14139"/>
                </a:cubicBezTo>
                <a:cubicBezTo>
                  <a:pt x="6735" y="14188"/>
                  <a:pt x="6769" y="14282"/>
                  <a:pt x="6747" y="14362"/>
                </a:cubicBezTo>
                <a:cubicBezTo>
                  <a:pt x="6726" y="14438"/>
                  <a:pt x="6668" y="14457"/>
                  <a:pt x="6598" y="14461"/>
                </a:cubicBezTo>
                <a:cubicBezTo>
                  <a:pt x="6530" y="14465"/>
                  <a:pt x="6452" y="14476"/>
                  <a:pt x="6400" y="14436"/>
                </a:cubicBezTo>
              </a:path>
              <a:path w="770" h="398">
                <a:moveTo>
                  <a:pt x="7045" y="14089"/>
                </a:moveTo>
                <a:cubicBezTo>
                  <a:pt x="7069" y="14089"/>
                  <a:pt x="7078" y="14089"/>
                  <a:pt x="7094" y="14089"/>
                </a:cubicBezTo>
                <a:cubicBezTo>
                  <a:pt x="7072" y="14072"/>
                  <a:pt x="7029" y="14045"/>
                  <a:pt x="6995" y="14064"/>
                </a:cubicBezTo>
                <a:cubicBezTo>
                  <a:pt x="6962" y="14082"/>
                  <a:pt x="6892" y="14134"/>
                  <a:pt x="6871" y="14163"/>
                </a:cubicBezTo>
                <a:cubicBezTo>
                  <a:pt x="6835" y="14214"/>
                  <a:pt x="6778" y="14274"/>
                  <a:pt x="6772" y="14337"/>
                </a:cubicBezTo>
                <a:cubicBezTo>
                  <a:pt x="6766" y="14394"/>
                  <a:pt x="6788" y="14417"/>
                  <a:pt x="6846" y="14436"/>
                </a:cubicBezTo>
                <a:cubicBezTo>
                  <a:pt x="6910" y="14457"/>
                  <a:pt x="6987" y="14425"/>
                  <a:pt x="7045" y="14412"/>
                </a:cubicBezTo>
                <a:cubicBezTo>
                  <a:pt x="7078" y="14412"/>
                  <a:pt x="7094" y="14412"/>
                  <a:pt x="7119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71880" y="5205240"/>
            <a:ext cx="98280" cy="9864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8756" y="14511"/>
                </a:moveTo>
                <a:cubicBezTo>
                  <a:pt x="8808" y="14511"/>
                  <a:pt x="8806" y="14513"/>
                  <a:pt x="8806" y="14461"/>
                </a:cubicBezTo>
                <a:cubicBezTo>
                  <a:pt x="8765" y="14475"/>
                  <a:pt x="8743" y="14518"/>
                  <a:pt x="8706" y="14560"/>
                </a:cubicBezTo>
                <a:cubicBezTo>
                  <a:pt x="8667" y="14605"/>
                  <a:pt x="8584" y="14662"/>
                  <a:pt x="8558" y="14709"/>
                </a:cubicBezTo>
                <a:cubicBezTo>
                  <a:pt x="8558" y="14734"/>
                  <a:pt x="8558" y="14742"/>
                  <a:pt x="8533" y="14734"/>
                </a:cubicBezTo>
              </a:path>
              <a:path w="274" h="274">
                <a:moveTo>
                  <a:pt x="8781" y="14709"/>
                </a:moveTo>
                <a:cubicBezTo>
                  <a:pt x="8789" y="14709"/>
                  <a:pt x="8798" y="14709"/>
                  <a:pt x="8806" y="14709"/>
                </a:cubicBezTo>
                <a:cubicBezTo>
                  <a:pt x="8772" y="14650"/>
                  <a:pt x="8737" y="14578"/>
                  <a:pt x="8682" y="14536"/>
                </a:cubicBezTo>
                <a:cubicBezTo>
                  <a:pt x="8644" y="14507"/>
                  <a:pt x="8616" y="14495"/>
                  <a:pt x="8582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03720" y="5072040"/>
            <a:ext cx="438120" cy="196920"/>
          </a:xfrm>
          <a:custGeom>
            <a:avLst/>
            <a:gdLst/>
            <a:ahLst/>
            <a:rect l="l" t="t" r="r" b="b"/>
            <a:pathLst>
              <a:path w="1216" h="547">
                <a:moveTo>
                  <a:pt x="9178" y="14213"/>
                </a:moveTo>
                <a:cubicBezTo>
                  <a:pt x="9200" y="14162"/>
                  <a:pt x="9192" y="14151"/>
                  <a:pt x="9227" y="14139"/>
                </a:cubicBezTo>
                <a:cubicBezTo>
                  <a:pt x="9227" y="14291"/>
                  <a:pt x="9229" y="14441"/>
                  <a:pt x="9252" y="14585"/>
                </a:cubicBezTo>
                <a:cubicBezTo>
                  <a:pt x="9252" y="14602"/>
                  <a:pt x="9252" y="14618"/>
                  <a:pt x="9252" y="14635"/>
                </a:cubicBezTo>
              </a:path>
              <a:path w="1216" h="547">
                <a:moveTo>
                  <a:pt x="9475" y="14511"/>
                </a:moveTo>
                <a:cubicBezTo>
                  <a:pt x="9500" y="14511"/>
                  <a:pt x="9508" y="14511"/>
                  <a:pt x="9525" y="14511"/>
                </a:cubicBezTo>
              </a:path>
              <a:path w="1216" h="547">
                <a:moveTo>
                  <a:pt x="9847" y="14114"/>
                </a:moveTo>
                <a:cubicBezTo>
                  <a:pt x="9855" y="14106"/>
                  <a:pt x="9864" y="14097"/>
                  <a:pt x="9872" y="14089"/>
                </a:cubicBezTo>
                <a:cubicBezTo>
                  <a:pt x="9872" y="14144"/>
                  <a:pt x="9850" y="14182"/>
                  <a:pt x="9847" y="14238"/>
                </a:cubicBezTo>
                <a:cubicBezTo>
                  <a:pt x="9843" y="14315"/>
                  <a:pt x="9801" y="14361"/>
                  <a:pt x="9847" y="14436"/>
                </a:cubicBezTo>
                <a:cubicBezTo>
                  <a:pt x="9878" y="14487"/>
                  <a:pt x="9940" y="14502"/>
                  <a:pt x="9996" y="14486"/>
                </a:cubicBezTo>
                <a:cubicBezTo>
                  <a:pt x="10060" y="14468"/>
                  <a:pt x="10134" y="14432"/>
                  <a:pt x="10195" y="14412"/>
                </a:cubicBezTo>
                <a:cubicBezTo>
                  <a:pt x="10263" y="14389"/>
                  <a:pt x="10293" y="14362"/>
                  <a:pt x="10368" y="14362"/>
                </a:cubicBezTo>
                <a:cubicBezTo>
                  <a:pt x="10376" y="14362"/>
                  <a:pt x="10385" y="14362"/>
                  <a:pt x="10393" y="14362"/>
                </a:cubicBezTo>
                <a:cubicBezTo>
                  <a:pt x="10393" y="14415"/>
                  <a:pt x="10381" y="14399"/>
                  <a:pt x="10368" y="14436"/>
                </a:cubicBezTo>
              </a:path>
              <a:path w="1216" h="547">
                <a:moveTo>
                  <a:pt x="10220" y="14337"/>
                </a:moveTo>
                <a:cubicBezTo>
                  <a:pt x="10203" y="14329"/>
                  <a:pt x="10187" y="14320"/>
                  <a:pt x="10170" y="14312"/>
                </a:cubicBezTo>
                <a:cubicBezTo>
                  <a:pt x="10126" y="14386"/>
                  <a:pt x="10160" y="14432"/>
                  <a:pt x="10170" y="14511"/>
                </a:cubicBezTo>
                <a:cubicBezTo>
                  <a:pt x="10170" y="14577"/>
                  <a:pt x="10170" y="14594"/>
                  <a:pt x="10170" y="14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3240" y="5116680"/>
            <a:ext cx="81000" cy="63360"/>
          </a:xfrm>
          <a:custGeom>
            <a:avLst/>
            <a:gdLst/>
            <a:ahLst/>
            <a:rect l="l" t="t" r="r" b="b"/>
            <a:pathLst>
              <a:path w="225" h="175">
                <a:moveTo>
                  <a:pt x="11683" y="14213"/>
                </a:moveTo>
                <a:cubicBezTo>
                  <a:pt x="11630" y="14213"/>
                  <a:pt x="11613" y="14233"/>
                  <a:pt x="11559" y="14238"/>
                </a:cubicBezTo>
                <a:cubicBezTo>
                  <a:pt x="11534" y="14238"/>
                  <a:pt x="11526" y="14238"/>
                  <a:pt x="11509" y="14238"/>
                </a:cubicBezTo>
              </a:path>
              <a:path w="225" h="175">
                <a:moveTo>
                  <a:pt x="11683" y="14337"/>
                </a:moveTo>
                <a:cubicBezTo>
                  <a:pt x="11724" y="14357"/>
                  <a:pt x="11740" y="14355"/>
                  <a:pt x="11733" y="14387"/>
                </a:cubicBezTo>
                <a:cubicBezTo>
                  <a:pt x="11658" y="14387"/>
                  <a:pt x="11584" y="14387"/>
                  <a:pt x="11509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94200" y="5000760"/>
            <a:ext cx="955800" cy="223560"/>
          </a:xfrm>
          <a:custGeom>
            <a:avLst/>
            <a:gdLst/>
            <a:ahLst/>
            <a:rect l="l" t="t" r="r" b="b"/>
            <a:pathLst>
              <a:path w="2655" h="621">
                <a:moveTo>
                  <a:pt x="13990" y="13965"/>
                </a:moveTo>
                <a:cubicBezTo>
                  <a:pt x="14013" y="13942"/>
                  <a:pt x="14021" y="13938"/>
                  <a:pt x="14015" y="13915"/>
                </a:cubicBezTo>
                <a:cubicBezTo>
                  <a:pt x="13952" y="13915"/>
                  <a:pt x="13897" y="13905"/>
                  <a:pt x="13841" y="13940"/>
                </a:cubicBezTo>
                <a:cubicBezTo>
                  <a:pt x="13803" y="13963"/>
                  <a:pt x="13759" y="13996"/>
                  <a:pt x="13717" y="14015"/>
                </a:cubicBezTo>
                <a:cubicBezTo>
                  <a:pt x="13692" y="14015"/>
                  <a:pt x="13684" y="14015"/>
                  <a:pt x="13692" y="14039"/>
                </a:cubicBezTo>
                <a:cubicBezTo>
                  <a:pt x="13733" y="14069"/>
                  <a:pt x="13804" y="14075"/>
                  <a:pt x="13841" y="14114"/>
                </a:cubicBezTo>
                <a:cubicBezTo>
                  <a:pt x="13883" y="14159"/>
                  <a:pt x="13951" y="14249"/>
                  <a:pt x="13965" y="14312"/>
                </a:cubicBezTo>
                <a:cubicBezTo>
                  <a:pt x="13982" y="14387"/>
                  <a:pt x="13958" y="14425"/>
                  <a:pt x="13891" y="14436"/>
                </a:cubicBezTo>
                <a:cubicBezTo>
                  <a:pt x="13822" y="14447"/>
                  <a:pt x="13704" y="14449"/>
                  <a:pt x="13643" y="14412"/>
                </a:cubicBezTo>
                <a:cubicBezTo>
                  <a:pt x="13611" y="14392"/>
                  <a:pt x="13601" y="14368"/>
                  <a:pt x="13593" y="14337"/>
                </a:cubicBezTo>
              </a:path>
              <a:path w="2655" h="621">
                <a:moveTo>
                  <a:pt x="13891" y="13891"/>
                </a:moveTo>
                <a:cubicBezTo>
                  <a:pt x="13891" y="13944"/>
                  <a:pt x="13883" y="13992"/>
                  <a:pt x="13866" y="14039"/>
                </a:cubicBezTo>
                <a:cubicBezTo>
                  <a:pt x="13833" y="14132"/>
                  <a:pt x="13862" y="14218"/>
                  <a:pt x="13841" y="14312"/>
                </a:cubicBezTo>
                <a:cubicBezTo>
                  <a:pt x="13827" y="14375"/>
                  <a:pt x="13816" y="14418"/>
                  <a:pt x="13816" y="14486"/>
                </a:cubicBezTo>
                <a:cubicBezTo>
                  <a:pt x="13816" y="14494"/>
                  <a:pt x="13816" y="14503"/>
                  <a:pt x="13816" y="14511"/>
                </a:cubicBezTo>
              </a:path>
              <a:path w="2655" h="621">
                <a:moveTo>
                  <a:pt x="14263" y="14064"/>
                </a:moveTo>
                <a:cubicBezTo>
                  <a:pt x="14255" y="14064"/>
                  <a:pt x="14246" y="14064"/>
                  <a:pt x="14238" y="14064"/>
                </a:cubicBezTo>
                <a:cubicBezTo>
                  <a:pt x="14248" y="14025"/>
                  <a:pt x="14266" y="13993"/>
                  <a:pt x="14312" y="13990"/>
                </a:cubicBezTo>
                <a:cubicBezTo>
                  <a:pt x="14372" y="13986"/>
                  <a:pt x="14419" y="13946"/>
                  <a:pt x="14486" y="13965"/>
                </a:cubicBezTo>
                <a:cubicBezTo>
                  <a:pt x="14533" y="13978"/>
                  <a:pt x="14580" y="14018"/>
                  <a:pt x="14585" y="14064"/>
                </a:cubicBezTo>
                <a:cubicBezTo>
                  <a:pt x="14589" y="14100"/>
                  <a:pt x="14496" y="14152"/>
                  <a:pt x="14461" y="14163"/>
                </a:cubicBezTo>
                <a:cubicBezTo>
                  <a:pt x="14422" y="14176"/>
                  <a:pt x="14422" y="14171"/>
                  <a:pt x="14412" y="14213"/>
                </a:cubicBezTo>
                <a:cubicBezTo>
                  <a:pt x="14452" y="14213"/>
                  <a:pt x="14505" y="14219"/>
                  <a:pt x="14536" y="14238"/>
                </a:cubicBezTo>
                <a:cubicBezTo>
                  <a:pt x="14552" y="14248"/>
                  <a:pt x="14615" y="14313"/>
                  <a:pt x="14585" y="14337"/>
                </a:cubicBezTo>
                <a:cubicBezTo>
                  <a:pt x="14554" y="14361"/>
                  <a:pt x="14504" y="14362"/>
                  <a:pt x="14461" y="14362"/>
                </a:cubicBezTo>
                <a:cubicBezTo>
                  <a:pt x="14428" y="14362"/>
                  <a:pt x="14395" y="14362"/>
                  <a:pt x="14362" y="14362"/>
                </a:cubicBezTo>
              </a:path>
              <a:path w="2655" h="621">
                <a:moveTo>
                  <a:pt x="14908" y="14064"/>
                </a:moveTo>
                <a:cubicBezTo>
                  <a:pt x="14948" y="14064"/>
                  <a:pt x="14890" y="14085"/>
                  <a:pt x="14883" y="14089"/>
                </a:cubicBezTo>
                <a:cubicBezTo>
                  <a:pt x="14861" y="14100"/>
                  <a:pt x="14831" y="14138"/>
                  <a:pt x="14883" y="14163"/>
                </a:cubicBezTo>
                <a:cubicBezTo>
                  <a:pt x="14925" y="14183"/>
                  <a:pt x="14990" y="14193"/>
                  <a:pt x="15032" y="14213"/>
                </a:cubicBezTo>
                <a:cubicBezTo>
                  <a:pt x="15077" y="14234"/>
                  <a:pt x="15118" y="14319"/>
                  <a:pt x="15131" y="14362"/>
                </a:cubicBezTo>
                <a:cubicBezTo>
                  <a:pt x="15146" y="14410"/>
                  <a:pt x="15097" y="14458"/>
                  <a:pt x="15056" y="14461"/>
                </a:cubicBezTo>
                <a:cubicBezTo>
                  <a:pt x="14999" y="14465"/>
                  <a:pt x="14940" y="14461"/>
                  <a:pt x="14883" y="14461"/>
                </a:cubicBezTo>
              </a:path>
              <a:path w="2655" h="621">
                <a:moveTo>
                  <a:pt x="15180" y="14089"/>
                </a:moveTo>
                <a:cubicBezTo>
                  <a:pt x="15180" y="14064"/>
                  <a:pt x="15180" y="14056"/>
                  <a:pt x="15180" y="14039"/>
                </a:cubicBezTo>
                <a:cubicBezTo>
                  <a:pt x="15106" y="14039"/>
                  <a:pt x="15031" y="14039"/>
                  <a:pt x="14957" y="14039"/>
                </a:cubicBezTo>
              </a:path>
              <a:path w="2655" h="621">
                <a:moveTo>
                  <a:pt x="15354" y="14163"/>
                </a:moveTo>
                <a:cubicBezTo>
                  <a:pt x="15354" y="14117"/>
                  <a:pt x="15362" y="14092"/>
                  <a:pt x="15404" y="14064"/>
                </a:cubicBezTo>
                <a:cubicBezTo>
                  <a:pt x="15465" y="14025"/>
                  <a:pt x="15532" y="14039"/>
                  <a:pt x="15602" y="14039"/>
                </a:cubicBezTo>
                <a:cubicBezTo>
                  <a:pt x="15685" y="14039"/>
                  <a:pt x="15697" y="14094"/>
                  <a:pt x="15701" y="14163"/>
                </a:cubicBezTo>
                <a:cubicBezTo>
                  <a:pt x="15705" y="14231"/>
                  <a:pt x="15675" y="14295"/>
                  <a:pt x="15602" y="14312"/>
                </a:cubicBezTo>
                <a:cubicBezTo>
                  <a:pt x="15538" y="14327"/>
                  <a:pt x="15480" y="14303"/>
                  <a:pt x="15429" y="14288"/>
                </a:cubicBezTo>
                <a:cubicBezTo>
                  <a:pt x="15386" y="14275"/>
                  <a:pt x="15404" y="14233"/>
                  <a:pt x="15404" y="14188"/>
                </a:cubicBezTo>
              </a:path>
              <a:path w="2655" h="621">
                <a:moveTo>
                  <a:pt x="15900" y="14114"/>
                </a:moveTo>
                <a:cubicBezTo>
                  <a:pt x="15945" y="14069"/>
                  <a:pt x="15987" y="14011"/>
                  <a:pt x="16049" y="13990"/>
                </a:cubicBezTo>
                <a:cubicBezTo>
                  <a:pt x="16100" y="13973"/>
                  <a:pt x="16165" y="13998"/>
                  <a:pt x="16197" y="14039"/>
                </a:cubicBezTo>
                <a:cubicBezTo>
                  <a:pt x="16269" y="14130"/>
                  <a:pt x="16256" y="14211"/>
                  <a:pt x="16222" y="14312"/>
                </a:cubicBezTo>
                <a:cubicBezTo>
                  <a:pt x="16194" y="14397"/>
                  <a:pt x="16124" y="14454"/>
                  <a:pt x="16024" y="14412"/>
                </a:cubicBezTo>
                <a:cubicBezTo>
                  <a:pt x="15916" y="14367"/>
                  <a:pt x="15880" y="14294"/>
                  <a:pt x="15875" y="14188"/>
                </a:cubicBezTo>
                <a:cubicBezTo>
                  <a:pt x="15875" y="14172"/>
                  <a:pt x="15875" y="14155"/>
                  <a:pt x="15875" y="14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71880" y="5599080"/>
            <a:ext cx="223920" cy="142920"/>
          </a:xfrm>
          <a:custGeom>
            <a:avLst/>
            <a:gdLst/>
            <a:ahLst/>
            <a:rect l="l" t="t" r="r" b="b"/>
            <a:pathLst>
              <a:path w="621" h="397">
                <a:moveTo>
                  <a:pt x="8582" y="15701"/>
                </a:moveTo>
                <a:cubicBezTo>
                  <a:pt x="8551" y="15691"/>
                  <a:pt x="8543" y="15683"/>
                  <a:pt x="8533" y="15652"/>
                </a:cubicBezTo>
                <a:cubicBezTo>
                  <a:pt x="8568" y="15625"/>
                  <a:pt x="8636" y="15585"/>
                  <a:pt x="8682" y="15577"/>
                </a:cubicBezTo>
                <a:cubicBezTo>
                  <a:pt x="8762" y="15563"/>
                  <a:pt x="8862" y="15644"/>
                  <a:pt x="8880" y="15726"/>
                </a:cubicBezTo>
                <a:cubicBezTo>
                  <a:pt x="8900" y="15818"/>
                  <a:pt x="8850" y="15924"/>
                  <a:pt x="8756" y="15949"/>
                </a:cubicBezTo>
                <a:cubicBezTo>
                  <a:pt x="8706" y="15963"/>
                  <a:pt x="8670" y="15947"/>
                  <a:pt x="8632" y="15925"/>
                </a:cubicBezTo>
              </a:path>
              <a:path w="621" h="397">
                <a:moveTo>
                  <a:pt x="9029" y="15602"/>
                </a:moveTo>
                <a:cubicBezTo>
                  <a:pt x="9068" y="15564"/>
                  <a:pt x="9100" y="15547"/>
                  <a:pt x="9054" y="15553"/>
                </a:cubicBezTo>
                <a:cubicBezTo>
                  <a:pt x="9014" y="15622"/>
                  <a:pt x="8961" y="15669"/>
                  <a:pt x="8954" y="15751"/>
                </a:cubicBezTo>
                <a:cubicBezTo>
                  <a:pt x="8948" y="15827"/>
                  <a:pt x="8928" y="15931"/>
                  <a:pt x="9029" y="15949"/>
                </a:cubicBezTo>
                <a:cubicBezTo>
                  <a:pt x="9097" y="15949"/>
                  <a:pt x="9116" y="15952"/>
                  <a:pt x="9153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37000" y="5626080"/>
            <a:ext cx="88920" cy="6192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10046" y="15627"/>
                </a:moveTo>
                <a:cubicBezTo>
                  <a:pt x="10054" y="15627"/>
                  <a:pt x="10063" y="15627"/>
                  <a:pt x="10071" y="15627"/>
                </a:cubicBezTo>
                <a:cubicBezTo>
                  <a:pt x="10019" y="15666"/>
                  <a:pt x="10004" y="15628"/>
                  <a:pt x="9947" y="15652"/>
                </a:cubicBezTo>
                <a:cubicBezTo>
                  <a:pt x="9905" y="15670"/>
                  <a:pt x="9861" y="15673"/>
                  <a:pt x="9823" y="15701"/>
                </a:cubicBezTo>
              </a:path>
              <a:path w="249" h="175">
                <a:moveTo>
                  <a:pt x="10021" y="15726"/>
                </a:moveTo>
                <a:cubicBezTo>
                  <a:pt x="10021" y="15751"/>
                  <a:pt x="10021" y="15759"/>
                  <a:pt x="10021" y="15776"/>
                </a:cubicBezTo>
                <a:cubicBezTo>
                  <a:pt x="9974" y="15776"/>
                  <a:pt x="9942" y="15798"/>
                  <a:pt x="9897" y="15801"/>
                </a:cubicBezTo>
                <a:cubicBezTo>
                  <a:pt x="9880" y="15801"/>
                  <a:pt x="9864" y="15801"/>
                  <a:pt x="9847" y="158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73680" y="5411880"/>
            <a:ext cx="706320" cy="473040"/>
          </a:xfrm>
          <a:custGeom>
            <a:avLst/>
            <a:gdLst/>
            <a:ahLst/>
            <a:rect l="l" t="t" r="r" b="b"/>
            <a:pathLst>
              <a:path w="1961" h="1315">
                <a:moveTo>
                  <a:pt x="11038" y="15156"/>
                </a:moveTo>
                <a:cubicBezTo>
                  <a:pt x="11038" y="15104"/>
                  <a:pt x="11033" y="15103"/>
                  <a:pt x="11063" y="15081"/>
                </a:cubicBezTo>
                <a:cubicBezTo>
                  <a:pt x="11121" y="15037"/>
                  <a:pt x="11117" y="15019"/>
                  <a:pt x="11187" y="15056"/>
                </a:cubicBezTo>
                <a:cubicBezTo>
                  <a:pt x="11231" y="15078"/>
                  <a:pt x="11242" y="15081"/>
                  <a:pt x="11261" y="15106"/>
                </a:cubicBezTo>
                <a:cubicBezTo>
                  <a:pt x="11246" y="15169"/>
                  <a:pt x="11210" y="15190"/>
                  <a:pt x="11162" y="15230"/>
                </a:cubicBezTo>
                <a:cubicBezTo>
                  <a:pt x="11137" y="15250"/>
                  <a:pt x="11090" y="15290"/>
                  <a:pt x="11112" y="15329"/>
                </a:cubicBezTo>
                <a:cubicBezTo>
                  <a:pt x="11151" y="15398"/>
                  <a:pt x="11209" y="15357"/>
                  <a:pt x="11261" y="15379"/>
                </a:cubicBezTo>
                <a:cubicBezTo>
                  <a:pt x="11294" y="15393"/>
                  <a:pt x="11303" y="15405"/>
                  <a:pt x="11311" y="15429"/>
                </a:cubicBezTo>
                <a:cubicBezTo>
                  <a:pt x="11298" y="15467"/>
                  <a:pt x="11263" y="15475"/>
                  <a:pt x="11212" y="15478"/>
                </a:cubicBezTo>
                <a:cubicBezTo>
                  <a:pt x="11179" y="15480"/>
                  <a:pt x="11145" y="15478"/>
                  <a:pt x="11112" y="15478"/>
                </a:cubicBezTo>
              </a:path>
              <a:path w="1961" h="1315">
                <a:moveTo>
                  <a:pt x="11584" y="15131"/>
                </a:moveTo>
                <a:cubicBezTo>
                  <a:pt x="11600" y="15123"/>
                  <a:pt x="11617" y="15114"/>
                  <a:pt x="11633" y="15106"/>
                </a:cubicBezTo>
                <a:cubicBezTo>
                  <a:pt x="11623" y="15147"/>
                  <a:pt x="11587" y="15163"/>
                  <a:pt x="11584" y="15205"/>
                </a:cubicBezTo>
                <a:cubicBezTo>
                  <a:pt x="11580" y="15258"/>
                  <a:pt x="11574" y="15298"/>
                  <a:pt x="11633" y="15304"/>
                </a:cubicBezTo>
                <a:cubicBezTo>
                  <a:pt x="11664" y="15307"/>
                  <a:pt x="11739" y="15325"/>
                  <a:pt x="11757" y="15354"/>
                </a:cubicBezTo>
                <a:cubicBezTo>
                  <a:pt x="11794" y="15415"/>
                  <a:pt x="11674" y="15398"/>
                  <a:pt x="11658" y="15404"/>
                </a:cubicBezTo>
                <a:cubicBezTo>
                  <a:pt x="11618" y="15424"/>
                  <a:pt x="11612" y="15433"/>
                  <a:pt x="11584" y="15429"/>
                </a:cubicBezTo>
              </a:path>
              <a:path w="1961" h="1315">
                <a:moveTo>
                  <a:pt x="11906" y="15106"/>
                </a:moveTo>
                <a:cubicBezTo>
                  <a:pt x="11839" y="15106"/>
                  <a:pt x="11787" y="15098"/>
                  <a:pt x="11733" y="15131"/>
                </a:cubicBezTo>
              </a:path>
              <a:path w="1961" h="1315">
                <a:moveTo>
                  <a:pt x="12055" y="15280"/>
                </a:moveTo>
                <a:cubicBezTo>
                  <a:pt x="12047" y="15280"/>
                  <a:pt x="12038" y="15280"/>
                  <a:pt x="12030" y="15280"/>
                </a:cubicBezTo>
                <a:cubicBezTo>
                  <a:pt x="12045" y="15221"/>
                  <a:pt x="12068" y="15210"/>
                  <a:pt x="12129" y="15205"/>
                </a:cubicBezTo>
                <a:cubicBezTo>
                  <a:pt x="12185" y="15200"/>
                  <a:pt x="12241" y="15250"/>
                  <a:pt x="12254" y="15304"/>
                </a:cubicBezTo>
                <a:cubicBezTo>
                  <a:pt x="12270" y="15370"/>
                  <a:pt x="12218" y="15438"/>
                  <a:pt x="12154" y="15453"/>
                </a:cubicBezTo>
                <a:cubicBezTo>
                  <a:pt x="12105" y="15464"/>
                  <a:pt x="12041" y="15461"/>
                  <a:pt x="12005" y="15429"/>
                </a:cubicBezTo>
                <a:cubicBezTo>
                  <a:pt x="11997" y="15421"/>
                  <a:pt x="11989" y="15412"/>
                  <a:pt x="11981" y="15404"/>
                </a:cubicBezTo>
              </a:path>
              <a:path w="1961" h="1315">
                <a:moveTo>
                  <a:pt x="12427" y="15304"/>
                </a:moveTo>
                <a:cubicBezTo>
                  <a:pt x="12427" y="15329"/>
                  <a:pt x="12427" y="15337"/>
                  <a:pt x="12402" y="15329"/>
                </a:cubicBezTo>
                <a:cubicBezTo>
                  <a:pt x="12402" y="15283"/>
                  <a:pt x="12396" y="15265"/>
                  <a:pt x="12427" y="15230"/>
                </a:cubicBezTo>
                <a:cubicBezTo>
                  <a:pt x="12478" y="15172"/>
                  <a:pt x="12559" y="15204"/>
                  <a:pt x="12601" y="15255"/>
                </a:cubicBezTo>
                <a:cubicBezTo>
                  <a:pt x="12644" y="15308"/>
                  <a:pt x="12669" y="15376"/>
                  <a:pt x="12626" y="15429"/>
                </a:cubicBezTo>
                <a:cubicBezTo>
                  <a:pt x="12568" y="15502"/>
                  <a:pt x="12522" y="15469"/>
                  <a:pt x="12452" y="15453"/>
                </a:cubicBezTo>
                <a:cubicBezTo>
                  <a:pt x="12424" y="15453"/>
                  <a:pt x="12413" y="15451"/>
                  <a:pt x="12402" y="15429"/>
                </a:cubicBezTo>
              </a:path>
              <a:path w="1961" h="1315">
                <a:moveTo>
                  <a:pt x="12973" y="15602"/>
                </a:moveTo>
                <a:cubicBezTo>
                  <a:pt x="12982" y="15668"/>
                  <a:pt x="12974" y="15638"/>
                  <a:pt x="12998" y="15677"/>
                </a:cubicBezTo>
                <a:cubicBezTo>
                  <a:pt x="12957" y="15683"/>
                  <a:pt x="12935" y="15696"/>
                  <a:pt x="12898" y="15701"/>
                </a:cubicBezTo>
                <a:cubicBezTo>
                  <a:pt x="12719" y="15724"/>
                  <a:pt x="12526" y="15696"/>
                  <a:pt x="12353" y="15677"/>
                </a:cubicBezTo>
                <a:cubicBezTo>
                  <a:pt x="12162" y="15657"/>
                  <a:pt x="11970" y="15678"/>
                  <a:pt x="11782" y="15652"/>
                </a:cubicBezTo>
                <a:cubicBezTo>
                  <a:pt x="11641" y="15633"/>
                  <a:pt x="11493" y="15656"/>
                  <a:pt x="11361" y="15677"/>
                </a:cubicBezTo>
                <a:cubicBezTo>
                  <a:pt x="11324" y="15683"/>
                  <a:pt x="11291" y="15682"/>
                  <a:pt x="11261" y="15701"/>
                </a:cubicBezTo>
                <a:cubicBezTo>
                  <a:pt x="11235" y="15717"/>
                  <a:pt x="11238" y="15710"/>
                  <a:pt x="11212" y="15726"/>
                </a:cubicBezTo>
              </a:path>
              <a:path w="1961" h="1315">
                <a:moveTo>
                  <a:pt x="11584" y="15949"/>
                </a:moveTo>
                <a:cubicBezTo>
                  <a:pt x="11616" y="15888"/>
                  <a:pt x="11609" y="16020"/>
                  <a:pt x="11609" y="16049"/>
                </a:cubicBezTo>
                <a:cubicBezTo>
                  <a:pt x="11609" y="16131"/>
                  <a:pt x="11621" y="16196"/>
                  <a:pt x="11633" y="16272"/>
                </a:cubicBezTo>
                <a:cubicBezTo>
                  <a:pt x="11633" y="16288"/>
                  <a:pt x="11633" y="16305"/>
                  <a:pt x="11633" y="16321"/>
                </a:cubicBezTo>
              </a:path>
              <a:path w="1961" h="1315">
                <a:moveTo>
                  <a:pt x="11931" y="16272"/>
                </a:moveTo>
                <a:cubicBezTo>
                  <a:pt x="11956" y="16272"/>
                  <a:pt x="11964" y="16272"/>
                  <a:pt x="11956" y="16297"/>
                </a:cubicBezTo>
              </a:path>
              <a:path w="1961" h="1315">
                <a:moveTo>
                  <a:pt x="12154" y="15999"/>
                </a:moveTo>
                <a:cubicBezTo>
                  <a:pt x="12177" y="15976"/>
                  <a:pt x="12181" y="15968"/>
                  <a:pt x="12204" y="15974"/>
                </a:cubicBezTo>
                <a:cubicBezTo>
                  <a:pt x="12204" y="16027"/>
                  <a:pt x="12184" y="16044"/>
                  <a:pt x="12179" y="16098"/>
                </a:cubicBezTo>
                <a:cubicBezTo>
                  <a:pt x="12176" y="16131"/>
                  <a:pt x="12179" y="16164"/>
                  <a:pt x="12179" y="16197"/>
                </a:cubicBezTo>
                <a:cubicBezTo>
                  <a:pt x="12284" y="16197"/>
                  <a:pt x="12378" y="16195"/>
                  <a:pt x="12477" y="16173"/>
                </a:cubicBezTo>
                <a:cubicBezTo>
                  <a:pt x="12523" y="16163"/>
                  <a:pt x="12559" y="16158"/>
                  <a:pt x="12601" y="16148"/>
                </a:cubicBezTo>
              </a:path>
              <a:path w="1961" h="1315">
                <a:moveTo>
                  <a:pt x="12427" y="16049"/>
                </a:moveTo>
                <a:cubicBezTo>
                  <a:pt x="12381" y="16108"/>
                  <a:pt x="12416" y="16129"/>
                  <a:pt x="12427" y="16197"/>
                </a:cubicBezTo>
                <a:cubicBezTo>
                  <a:pt x="12438" y="16261"/>
                  <a:pt x="12413" y="16295"/>
                  <a:pt x="12452" y="163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8840" y="5562720"/>
            <a:ext cx="79200" cy="6336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13940" y="15453"/>
                </a:moveTo>
                <a:cubicBezTo>
                  <a:pt x="13890" y="15453"/>
                  <a:pt x="13882" y="15464"/>
                  <a:pt x="13841" y="15478"/>
                </a:cubicBezTo>
                <a:cubicBezTo>
                  <a:pt x="13808" y="15489"/>
                  <a:pt x="13752" y="15478"/>
                  <a:pt x="13717" y="15478"/>
                </a:cubicBezTo>
              </a:path>
              <a:path w="224" h="175">
                <a:moveTo>
                  <a:pt x="13891" y="15577"/>
                </a:moveTo>
                <a:cubicBezTo>
                  <a:pt x="13891" y="15585"/>
                  <a:pt x="13891" y="15594"/>
                  <a:pt x="13891" y="15602"/>
                </a:cubicBezTo>
                <a:cubicBezTo>
                  <a:pt x="13846" y="15602"/>
                  <a:pt x="13830" y="15617"/>
                  <a:pt x="13791" y="15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3800" y="5537160"/>
            <a:ext cx="839520" cy="177840"/>
          </a:xfrm>
          <a:custGeom>
            <a:avLst/>
            <a:gdLst/>
            <a:ahLst/>
            <a:rect l="l" t="t" r="r" b="b"/>
            <a:pathLst>
              <a:path w="2333" h="497">
                <a:moveTo>
                  <a:pt x="15429" y="15453"/>
                </a:moveTo>
                <a:cubicBezTo>
                  <a:pt x="15469" y="15443"/>
                  <a:pt x="15492" y="15436"/>
                  <a:pt x="15503" y="15404"/>
                </a:cubicBezTo>
                <a:cubicBezTo>
                  <a:pt x="15450" y="15364"/>
                  <a:pt x="15417" y="15376"/>
                  <a:pt x="15354" y="15404"/>
                </a:cubicBezTo>
                <a:cubicBezTo>
                  <a:pt x="15315" y="15421"/>
                  <a:pt x="15250" y="15433"/>
                  <a:pt x="15230" y="15478"/>
                </a:cubicBezTo>
                <a:cubicBezTo>
                  <a:pt x="15212" y="15518"/>
                  <a:pt x="15250" y="15558"/>
                  <a:pt x="15280" y="15577"/>
                </a:cubicBezTo>
                <a:cubicBezTo>
                  <a:pt x="15338" y="15614"/>
                  <a:pt x="15401" y="15631"/>
                  <a:pt x="15453" y="15677"/>
                </a:cubicBezTo>
                <a:cubicBezTo>
                  <a:pt x="15501" y="15720"/>
                  <a:pt x="15519" y="15740"/>
                  <a:pt x="15478" y="15776"/>
                </a:cubicBezTo>
                <a:cubicBezTo>
                  <a:pt x="15412" y="15833"/>
                  <a:pt x="15397" y="15836"/>
                  <a:pt x="15304" y="15801"/>
                </a:cubicBezTo>
                <a:cubicBezTo>
                  <a:pt x="15259" y="15784"/>
                  <a:pt x="15239" y="15777"/>
                  <a:pt x="15205" y="15751"/>
                </a:cubicBezTo>
              </a:path>
              <a:path w="2333" h="497">
                <a:moveTo>
                  <a:pt x="15329" y="15429"/>
                </a:moveTo>
                <a:cubicBezTo>
                  <a:pt x="15337" y="15412"/>
                  <a:pt x="15346" y="15396"/>
                  <a:pt x="15354" y="15379"/>
                </a:cubicBezTo>
                <a:cubicBezTo>
                  <a:pt x="15354" y="15536"/>
                  <a:pt x="15354" y="15693"/>
                  <a:pt x="15354" y="15850"/>
                </a:cubicBezTo>
              </a:path>
              <a:path w="2333" h="497">
                <a:moveTo>
                  <a:pt x="15701" y="15528"/>
                </a:moveTo>
                <a:cubicBezTo>
                  <a:pt x="15701" y="15503"/>
                  <a:pt x="15701" y="15495"/>
                  <a:pt x="15701" y="15478"/>
                </a:cubicBezTo>
                <a:cubicBezTo>
                  <a:pt x="15770" y="15478"/>
                  <a:pt x="15810" y="15487"/>
                  <a:pt x="15875" y="15503"/>
                </a:cubicBezTo>
                <a:cubicBezTo>
                  <a:pt x="15924" y="15515"/>
                  <a:pt x="15925" y="15527"/>
                  <a:pt x="15925" y="15577"/>
                </a:cubicBezTo>
                <a:cubicBezTo>
                  <a:pt x="15925" y="15644"/>
                  <a:pt x="15921" y="15655"/>
                  <a:pt x="15875" y="15701"/>
                </a:cubicBezTo>
                <a:cubicBezTo>
                  <a:pt x="15843" y="15733"/>
                  <a:pt x="15806" y="15757"/>
                  <a:pt x="15801" y="15801"/>
                </a:cubicBezTo>
                <a:cubicBezTo>
                  <a:pt x="15801" y="15809"/>
                  <a:pt x="15801" y="15817"/>
                  <a:pt x="15801" y="15825"/>
                </a:cubicBezTo>
                <a:cubicBezTo>
                  <a:pt x="15847" y="15825"/>
                  <a:pt x="15864" y="15808"/>
                  <a:pt x="15900" y="15801"/>
                </a:cubicBezTo>
                <a:cubicBezTo>
                  <a:pt x="15968" y="15787"/>
                  <a:pt x="16012" y="15820"/>
                  <a:pt x="16073" y="15825"/>
                </a:cubicBezTo>
                <a:cubicBezTo>
                  <a:pt x="16098" y="15825"/>
                  <a:pt x="16106" y="15825"/>
                  <a:pt x="16123" y="15825"/>
                </a:cubicBezTo>
              </a:path>
              <a:path w="2333" h="497">
                <a:moveTo>
                  <a:pt x="16321" y="15528"/>
                </a:moveTo>
                <a:cubicBezTo>
                  <a:pt x="16321" y="15500"/>
                  <a:pt x="16323" y="15489"/>
                  <a:pt x="16346" y="15478"/>
                </a:cubicBezTo>
                <a:cubicBezTo>
                  <a:pt x="16305" y="15488"/>
                  <a:pt x="16277" y="15507"/>
                  <a:pt x="16272" y="15553"/>
                </a:cubicBezTo>
                <a:cubicBezTo>
                  <a:pt x="16264" y="15627"/>
                  <a:pt x="16293" y="15608"/>
                  <a:pt x="16346" y="15627"/>
                </a:cubicBezTo>
                <a:cubicBezTo>
                  <a:pt x="16410" y="15650"/>
                  <a:pt x="16467" y="15654"/>
                  <a:pt x="16520" y="15701"/>
                </a:cubicBezTo>
                <a:cubicBezTo>
                  <a:pt x="16563" y="15740"/>
                  <a:pt x="16587" y="15754"/>
                  <a:pt x="16545" y="15801"/>
                </a:cubicBezTo>
                <a:cubicBezTo>
                  <a:pt x="16518" y="15831"/>
                  <a:pt x="16461" y="15847"/>
                  <a:pt x="16421" y="15850"/>
                </a:cubicBezTo>
                <a:cubicBezTo>
                  <a:pt x="16369" y="15853"/>
                  <a:pt x="16364" y="15864"/>
                  <a:pt x="16321" y="15875"/>
                </a:cubicBezTo>
              </a:path>
              <a:path w="2333" h="497">
                <a:moveTo>
                  <a:pt x="16619" y="15528"/>
                </a:moveTo>
                <a:cubicBezTo>
                  <a:pt x="16619" y="15520"/>
                  <a:pt x="16619" y="15511"/>
                  <a:pt x="16619" y="15503"/>
                </a:cubicBezTo>
                <a:cubicBezTo>
                  <a:pt x="16543" y="15503"/>
                  <a:pt x="16485" y="15509"/>
                  <a:pt x="16421" y="15528"/>
                </a:cubicBezTo>
                <a:cubicBezTo>
                  <a:pt x="16396" y="15528"/>
                  <a:pt x="16388" y="15528"/>
                  <a:pt x="16371" y="15528"/>
                </a:cubicBezTo>
              </a:path>
              <a:path w="2333" h="497">
                <a:moveTo>
                  <a:pt x="16793" y="15677"/>
                </a:moveTo>
                <a:cubicBezTo>
                  <a:pt x="16754" y="15664"/>
                  <a:pt x="16770" y="15636"/>
                  <a:pt x="16793" y="15602"/>
                </a:cubicBezTo>
                <a:cubicBezTo>
                  <a:pt x="16817" y="15567"/>
                  <a:pt x="16902" y="15544"/>
                  <a:pt x="16942" y="15553"/>
                </a:cubicBezTo>
                <a:cubicBezTo>
                  <a:pt x="17021" y="15570"/>
                  <a:pt x="17055" y="15653"/>
                  <a:pt x="17041" y="15726"/>
                </a:cubicBezTo>
                <a:cubicBezTo>
                  <a:pt x="17026" y="15804"/>
                  <a:pt x="16957" y="15822"/>
                  <a:pt x="16892" y="15825"/>
                </a:cubicBezTo>
                <a:cubicBezTo>
                  <a:pt x="16826" y="15829"/>
                  <a:pt x="16783" y="15825"/>
                  <a:pt x="16768" y="15751"/>
                </a:cubicBezTo>
                <a:cubicBezTo>
                  <a:pt x="16768" y="15743"/>
                  <a:pt x="16768" y="15734"/>
                  <a:pt x="16768" y="15726"/>
                </a:cubicBezTo>
              </a:path>
              <a:path w="2333" h="497">
                <a:moveTo>
                  <a:pt x="17338" y="15726"/>
                </a:moveTo>
                <a:cubicBezTo>
                  <a:pt x="17316" y="15749"/>
                  <a:pt x="17311" y="15757"/>
                  <a:pt x="17289" y="15751"/>
                </a:cubicBezTo>
                <a:cubicBezTo>
                  <a:pt x="17289" y="15700"/>
                  <a:pt x="17291" y="15694"/>
                  <a:pt x="17314" y="15652"/>
                </a:cubicBezTo>
                <a:cubicBezTo>
                  <a:pt x="17359" y="15571"/>
                  <a:pt x="17370" y="15577"/>
                  <a:pt x="17462" y="15577"/>
                </a:cubicBezTo>
                <a:cubicBezTo>
                  <a:pt x="17536" y="15577"/>
                  <a:pt x="17535" y="15670"/>
                  <a:pt x="17537" y="15726"/>
                </a:cubicBezTo>
                <a:cubicBezTo>
                  <a:pt x="17541" y="15815"/>
                  <a:pt x="17529" y="15870"/>
                  <a:pt x="17438" y="15875"/>
                </a:cubicBezTo>
                <a:cubicBezTo>
                  <a:pt x="17346" y="15880"/>
                  <a:pt x="17286" y="15795"/>
                  <a:pt x="17239" y="15726"/>
                </a:cubicBezTo>
                <a:cubicBezTo>
                  <a:pt x="17196" y="15662"/>
                  <a:pt x="17212" y="15615"/>
                  <a:pt x="17239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4247" t="4704" r="11440" b="36177"/>
          <a:stretch/>
        </p:blipFill>
        <p:spPr>
          <a:xfrm>
            <a:off x="0" y="0"/>
            <a:ext cx="6553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7189" t="63827" r="10459" b="16236"/>
          <a:stretch/>
        </p:blipFill>
        <p:spPr>
          <a:xfrm>
            <a:off x="0" y="0"/>
            <a:ext cx="88390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6762" t="6144" r="7943" b="36163"/>
          <a:stretch/>
        </p:blipFill>
        <p:spPr>
          <a:xfrm>
            <a:off x="0" y="0"/>
            <a:ext cx="6629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7374" t="46329" r="5373" b="6663"/>
          <a:stretch/>
        </p:blipFill>
        <p:spPr>
          <a:xfrm>
            <a:off x="0" y="0"/>
            <a:ext cx="723888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8152" t="6484" r="7536" b="72862"/>
          <a:stretch/>
        </p:blipFill>
        <p:spPr>
          <a:xfrm>
            <a:off x="0" y="0"/>
            <a:ext cx="89917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7170" t="29279" r="6559" b="13743"/>
          <a:stretch/>
        </p:blipFill>
        <p:spPr>
          <a:xfrm>
            <a:off x="0" y="0"/>
            <a:ext cx="6705720" cy="6095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38200" y="2224080"/>
            <a:ext cx="473040" cy="169920"/>
          </a:xfrm>
          <a:custGeom>
            <a:avLst/>
            <a:gdLst/>
            <a:ahLst/>
            <a:rect l="l" t="t" r="r" b="b"/>
            <a:pathLst>
              <a:path w="1315" h="473">
                <a:moveTo>
                  <a:pt x="4018" y="6449"/>
                </a:moveTo>
                <a:cubicBezTo>
                  <a:pt x="4018" y="6457"/>
                  <a:pt x="4018" y="6466"/>
                  <a:pt x="4018" y="6474"/>
                </a:cubicBezTo>
                <a:cubicBezTo>
                  <a:pt x="3982" y="6461"/>
                  <a:pt x="3994" y="6444"/>
                  <a:pt x="3994" y="6400"/>
                </a:cubicBezTo>
                <a:cubicBezTo>
                  <a:pt x="3994" y="6361"/>
                  <a:pt x="4024" y="6304"/>
                  <a:pt x="4043" y="6276"/>
                </a:cubicBezTo>
                <a:cubicBezTo>
                  <a:pt x="4060" y="6251"/>
                  <a:pt x="4140" y="6233"/>
                  <a:pt x="4167" y="6226"/>
                </a:cubicBezTo>
                <a:cubicBezTo>
                  <a:pt x="4224" y="6212"/>
                  <a:pt x="4272" y="6244"/>
                  <a:pt x="4316" y="6276"/>
                </a:cubicBezTo>
                <a:cubicBezTo>
                  <a:pt x="4358" y="6307"/>
                  <a:pt x="4389" y="6358"/>
                  <a:pt x="4415" y="6400"/>
                </a:cubicBezTo>
                <a:cubicBezTo>
                  <a:pt x="4430" y="6424"/>
                  <a:pt x="4466" y="6543"/>
                  <a:pt x="4440" y="6573"/>
                </a:cubicBezTo>
                <a:cubicBezTo>
                  <a:pt x="4408" y="6611"/>
                  <a:pt x="4336" y="6645"/>
                  <a:pt x="4291" y="6648"/>
                </a:cubicBezTo>
                <a:cubicBezTo>
                  <a:pt x="4231" y="6652"/>
                  <a:pt x="4139" y="6611"/>
                  <a:pt x="4118" y="6548"/>
                </a:cubicBezTo>
                <a:cubicBezTo>
                  <a:pt x="4104" y="6505"/>
                  <a:pt x="4093" y="6448"/>
                  <a:pt x="4093" y="6400"/>
                </a:cubicBezTo>
                <a:cubicBezTo>
                  <a:pt x="4093" y="6358"/>
                  <a:pt x="4108" y="6359"/>
                  <a:pt x="4142" y="6350"/>
                </a:cubicBezTo>
              </a:path>
              <a:path w="1315" h="473">
                <a:moveTo>
                  <a:pt x="4638" y="6548"/>
                </a:moveTo>
                <a:cubicBezTo>
                  <a:pt x="4646" y="6548"/>
                  <a:pt x="4655" y="6548"/>
                  <a:pt x="4663" y="6548"/>
                </a:cubicBezTo>
              </a:path>
              <a:path w="1315" h="473">
                <a:moveTo>
                  <a:pt x="4837" y="6201"/>
                </a:moveTo>
                <a:cubicBezTo>
                  <a:pt x="4877" y="6171"/>
                  <a:pt x="4904" y="6164"/>
                  <a:pt x="4911" y="6226"/>
                </a:cubicBezTo>
                <a:cubicBezTo>
                  <a:pt x="4923" y="6336"/>
                  <a:pt x="4899" y="6474"/>
                  <a:pt x="4936" y="6548"/>
                </a:cubicBezTo>
                <a:cubicBezTo>
                  <a:pt x="4965" y="6605"/>
                  <a:pt x="4985" y="6544"/>
                  <a:pt x="5035" y="6524"/>
                </a:cubicBezTo>
                <a:cubicBezTo>
                  <a:pt x="5068" y="6511"/>
                  <a:pt x="5146" y="6508"/>
                  <a:pt x="5184" y="6499"/>
                </a:cubicBezTo>
                <a:cubicBezTo>
                  <a:pt x="5230" y="6487"/>
                  <a:pt x="5275" y="6499"/>
                  <a:pt x="5308" y="6524"/>
                </a:cubicBezTo>
              </a:path>
              <a:path w="1315" h="473">
                <a:moveTo>
                  <a:pt x="5110" y="6424"/>
                </a:moveTo>
                <a:cubicBezTo>
                  <a:pt x="5093" y="6416"/>
                  <a:pt x="5077" y="6408"/>
                  <a:pt x="5060" y="6400"/>
                </a:cubicBezTo>
                <a:cubicBezTo>
                  <a:pt x="5060" y="6483"/>
                  <a:pt x="5060" y="6565"/>
                  <a:pt x="5060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46680" y="1751040"/>
            <a:ext cx="233280" cy="123840"/>
          </a:xfrm>
          <a:custGeom>
            <a:avLst/>
            <a:gdLst/>
            <a:ahLst/>
            <a:rect l="l" t="t" r="r" b="b"/>
            <a:pathLst>
              <a:path w="646" h="348">
                <a:moveTo>
                  <a:pt x="11038" y="5035"/>
                </a:moveTo>
                <a:cubicBezTo>
                  <a:pt x="11013" y="5035"/>
                  <a:pt x="10989" y="5035"/>
                  <a:pt x="10964" y="5035"/>
                </a:cubicBezTo>
                <a:cubicBezTo>
                  <a:pt x="10964" y="4979"/>
                  <a:pt x="10973" y="4957"/>
                  <a:pt x="10988" y="4911"/>
                </a:cubicBezTo>
                <a:cubicBezTo>
                  <a:pt x="11007" y="4853"/>
                  <a:pt x="11055" y="4862"/>
                  <a:pt x="11112" y="4862"/>
                </a:cubicBezTo>
                <a:cubicBezTo>
                  <a:pt x="11174" y="4862"/>
                  <a:pt x="11239" y="4847"/>
                  <a:pt x="11286" y="4887"/>
                </a:cubicBezTo>
                <a:cubicBezTo>
                  <a:pt x="11368" y="4957"/>
                  <a:pt x="11361" y="5009"/>
                  <a:pt x="11361" y="5110"/>
                </a:cubicBezTo>
                <a:cubicBezTo>
                  <a:pt x="11361" y="5192"/>
                  <a:pt x="11314" y="5206"/>
                  <a:pt x="11237" y="5209"/>
                </a:cubicBezTo>
                <a:cubicBezTo>
                  <a:pt x="11151" y="5213"/>
                  <a:pt x="11068" y="5181"/>
                  <a:pt x="11013" y="5110"/>
                </a:cubicBezTo>
                <a:cubicBezTo>
                  <a:pt x="10988" y="5078"/>
                  <a:pt x="10971" y="4978"/>
                  <a:pt x="10988" y="4936"/>
                </a:cubicBezTo>
                <a:cubicBezTo>
                  <a:pt x="11011" y="4913"/>
                  <a:pt x="11015" y="4905"/>
                  <a:pt x="11038" y="4911"/>
                </a:cubicBezTo>
              </a:path>
              <a:path w="646" h="348">
                <a:moveTo>
                  <a:pt x="11609" y="5135"/>
                </a:moveTo>
                <a:lnTo>
                  <a:pt x="11609" y="5135"/>
                </a:lnTo>
                <a:lnTo>
                  <a:pt x="11609" y="5135"/>
                </a:lnTo>
                <a:lnTo>
                  <a:pt x="11609" y="5135"/>
                </a:lnTo>
                <a:lnTo>
                  <a:pt x="11609" y="513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21080" y="1724040"/>
            <a:ext cx="9720" cy="133200"/>
          </a:xfrm>
          <a:custGeom>
            <a:avLst/>
            <a:gdLst/>
            <a:ahLst/>
            <a:rect l="l" t="t" r="r" b="b"/>
            <a:pathLst>
              <a:path w="26" h="373">
                <a:moveTo>
                  <a:pt x="12005" y="4812"/>
                </a:moveTo>
                <a:cubicBezTo>
                  <a:pt x="12005" y="4770"/>
                  <a:pt x="12005" y="4845"/>
                  <a:pt x="12005" y="4887"/>
                </a:cubicBezTo>
                <a:cubicBezTo>
                  <a:pt x="12005" y="4978"/>
                  <a:pt x="12010" y="5050"/>
                  <a:pt x="12030" y="5135"/>
                </a:cubicBezTo>
                <a:cubicBezTo>
                  <a:pt x="12030" y="5143"/>
                  <a:pt x="12030" y="5151"/>
                  <a:pt x="12030" y="5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6040" y="2401920"/>
            <a:ext cx="482760" cy="214200"/>
          </a:xfrm>
          <a:custGeom>
            <a:avLst/>
            <a:gdLst/>
            <a:ahLst/>
            <a:rect l="l" t="t" r="r" b="b"/>
            <a:pathLst>
              <a:path w="1341" h="597">
                <a:moveTo>
                  <a:pt x="11013" y="6970"/>
                </a:moveTo>
                <a:cubicBezTo>
                  <a:pt x="11013" y="6938"/>
                  <a:pt x="10997" y="6859"/>
                  <a:pt x="11038" y="6846"/>
                </a:cubicBezTo>
                <a:cubicBezTo>
                  <a:pt x="11099" y="6827"/>
                  <a:pt x="11166" y="6858"/>
                  <a:pt x="11212" y="6896"/>
                </a:cubicBezTo>
                <a:cubicBezTo>
                  <a:pt x="11293" y="6962"/>
                  <a:pt x="11306" y="7045"/>
                  <a:pt x="11311" y="7144"/>
                </a:cubicBezTo>
                <a:cubicBezTo>
                  <a:pt x="11315" y="7225"/>
                  <a:pt x="11257" y="7264"/>
                  <a:pt x="11187" y="7268"/>
                </a:cubicBezTo>
                <a:cubicBezTo>
                  <a:pt x="11077" y="7274"/>
                  <a:pt x="11053" y="7203"/>
                  <a:pt x="11013" y="7119"/>
                </a:cubicBezTo>
                <a:cubicBezTo>
                  <a:pt x="10979" y="7048"/>
                  <a:pt x="10974" y="6984"/>
                  <a:pt x="11013" y="6921"/>
                </a:cubicBezTo>
              </a:path>
              <a:path w="1341" h="597">
                <a:moveTo>
                  <a:pt x="11633" y="7144"/>
                </a:moveTo>
                <a:cubicBezTo>
                  <a:pt x="11658" y="7144"/>
                  <a:pt x="11666" y="7144"/>
                  <a:pt x="11683" y="7144"/>
                </a:cubicBezTo>
              </a:path>
              <a:path w="1341" h="597">
                <a:moveTo>
                  <a:pt x="12204" y="6772"/>
                </a:moveTo>
                <a:cubicBezTo>
                  <a:pt x="12258" y="6749"/>
                  <a:pt x="12289" y="6752"/>
                  <a:pt x="12303" y="6697"/>
                </a:cubicBezTo>
                <a:cubicBezTo>
                  <a:pt x="12254" y="6660"/>
                  <a:pt x="12253" y="6669"/>
                  <a:pt x="12204" y="6697"/>
                </a:cubicBezTo>
                <a:cubicBezTo>
                  <a:pt x="12146" y="6730"/>
                  <a:pt x="12086" y="6762"/>
                  <a:pt x="12030" y="6796"/>
                </a:cubicBezTo>
                <a:cubicBezTo>
                  <a:pt x="11972" y="6831"/>
                  <a:pt x="11956" y="6830"/>
                  <a:pt x="11956" y="6896"/>
                </a:cubicBezTo>
                <a:cubicBezTo>
                  <a:pt x="11956" y="6940"/>
                  <a:pt x="12013" y="6985"/>
                  <a:pt x="12055" y="6995"/>
                </a:cubicBezTo>
                <a:cubicBezTo>
                  <a:pt x="12116" y="7009"/>
                  <a:pt x="12152" y="7023"/>
                  <a:pt x="12204" y="7069"/>
                </a:cubicBezTo>
                <a:cubicBezTo>
                  <a:pt x="12234" y="7096"/>
                  <a:pt x="12245" y="7108"/>
                  <a:pt x="12254" y="7144"/>
                </a:cubicBezTo>
                <a:cubicBezTo>
                  <a:pt x="12246" y="7167"/>
                  <a:pt x="12212" y="7182"/>
                  <a:pt x="12179" y="7193"/>
                </a:cubicBezTo>
                <a:cubicBezTo>
                  <a:pt x="12130" y="7209"/>
                  <a:pt x="12085" y="7149"/>
                  <a:pt x="12055" y="7119"/>
                </a:cubicBezTo>
                <a:cubicBezTo>
                  <a:pt x="12003" y="7067"/>
                  <a:pt x="12050" y="6978"/>
                  <a:pt x="12080" y="6921"/>
                </a:cubicBezTo>
                <a:cubicBezTo>
                  <a:pt x="12119" y="6849"/>
                  <a:pt x="12207" y="6741"/>
                  <a:pt x="12278" y="6697"/>
                </a:cubicBezTo>
                <a:cubicBezTo>
                  <a:pt x="12303" y="6697"/>
                  <a:pt x="12311" y="6697"/>
                  <a:pt x="12328" y="66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81200" y="3357720"/>
            <a:ext cx="196920" cy="27000"/>
          </a:xfrm>
          <a:custGeom>
            <a:avLst/>
            <a:gdLst/>
            <a:ahLst/>
            <a:rect l="l" t="t" r="r" b="b"/>
            <a:pathLst>
              <a:path w="546" h="75">
                <a:moveTo>
                  <a:pt x="7689" y="9376"/>
                </a:moveTo>
                <a:cubicBezTo>
                  <a:pt x="7697" y="9376"/>
                  <a:pt x="7706" y="9376"/>
                  <a:pt x="7714" y="9376"/>
                </a:cubicBezTo>
                <a:cubicBezTo>
                  <a:pt x="7701" y="9338"/>
                  <a:pt x="7685" y="9351"/>
                  <a:pt x="7640" y="9351"/>
                </a:cubicBezTo>
                <a:cubicBezTo>
                  <a:pt x="7591" y="9351"/>
                  <a:pt x="7581" y="9340"/>
                  <a:pt x="7541" y="9327"/>
                </a:cubicBezTo>
                <a:cubicBezTo>
                  <a:pt x="7463" y="9302"/>
                  <a:pt x="7334" y="9330"/>
                  <a:pt x="7268" y="9351"/>
                </a:cubicBezTo>
                <a:cubicBezTo>
                  <a:pt x="7249" y="9357"/>
                  <a:pt x="7214" y="9351"/>
                  <a:pt x="7193" y="9351"/>
                </a:cubicBezTo>
                <a:cubicBezTo>
                  <a:pt x="7180" y="9391"/>
                  <a:pt x="7182" y="9361"/>
                  <a:pt x="7169" y="9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40120" y="3197160"/>
            <a:ext cx="465120" cy="160560"/>
          </a:xfrm>
          <a:custGeom>
            <a:avLst/>
            <a:gdLst/>
            <a:ahLst/>
            <a:rect l="l" t="t" r="r" b="b"/>
            <a:pathLst>
              <a:path w="1291" h="448">
                <a:moveTo>
                  <a:pt x="10691" y="9029"/>
                </a:moveTo>
                <a:cubicBezTo>
                  <a:pt x="10663" y="8991"/>
                  <a:pt x="10666" y="8978"/>
                  <a:pt x="10666" y="8930"/>
                </a:cubicBezTo>
                <a:cubicBezTo>
                  <a:pt x="10666" y="8900"/>
                  <a:pt x="10707" y="8884"/>
                  <a:pt x="10740" y="8880"/>
                </a:cubicBezTo>
                <a:cubicBezTo>
                  <a:pt x="10793" y="8874"/>
                  <a:pt x="10849" y="8873"/>
                  <a:pt x="10889" y="8905"/>
                </a:cubicBezTo>
                <a:cubicBezTo>
                  <a:pt x="10935" y="8942"/>
                  <a:pt x="10961" y="8988"/>
                  <a:pt x="10988" y="9029"/>
                </a:cubicBezTo>
                <a:cubicBezTo>
                  <a:pt x="11020" y="9078"/>
                  <a:pt x="11013" y="9117"/>
                  <a:pt x="11013" y="9178"/>
                </a:cubicBezTo>
                <a:cubicBezTo>
                  <a:pt x="11013" y="9221"/>
                  <a:pt x="10951" y="9262"/>
                  <a:pt x="10914" y="9277"/>
                </a:cubicBezTo>
                <a:cubicBezTo>
                  <a:pt x="10870" y="9295"/>
                  <a:pt x="10777" y="9277"/>
                  <a:pt x="10740" y="9252"/>
                </a:cubicBezTo>
                <a:cubicBezTo>
                  <a:pt x="10718" y="9237"/>
                  <a:pt x="10672" y="9153"/>
                  <a:pt x="10666" y="9128"/>
                </a:cubicBezTo>
                <a:cubicBezTo>
                  <a:pt x="10659" y="9097"/>
                  <a:pt x="10656" y="9021"/>
                  <a:pt x="10691" y="9004"/>
                </a:cubicBezTo>
                <a:cubicBezTo>
                  <a:pt x="10699" y="9004"/>
                  <a:pt x="10708" y="9004"/>
                  <a:pt x="10716" y="9004"/>
                </a:cubicBezTo>
              </a:path>
              <a:path w="1291" h="448">
                <a:moveTo>
                  <a:pt x="11361" y="9277"/>
                </a:moveTo>
                <a:lnTo>
                  <a:pt x="11361" y="9277"/>
                </a:lnTo>
                <a:lnTo>
                  <a:pt x="11361" y="9277"/>
                </a:lnTo>
                <a:lnTo>
                  <a:pt x="11361" y="9277"/>
                </a:lnTo>
                <a:lnTo>
                  <a:pt x="11361" y="9277"/>
                </a:lnTo>
                <a:lnTo>
                  <a:pt x="11361" y="9277"/>
                </a:lnTo>
              </a:path>
              <a:path w="1291" h="448">
                <a:moveTo>
                  <a:pt x="11733" y="8905"/>
                </a:moveTo>
                <a:cubicBezTo>
                  <a:pt x="11741" y="8897"/>
                  <a:pt x="11749" y="8888"/>
                  <a:pt x="11757" y="8880"/>
                </a:cubicBezTo>
                <a:cubicBezTo>
                  <a:pt x="11723" y="8892"/>
                  <a:pt x="11724" y="8916"/>
                  <a:pt x="11708" y="8954"/>
                </a:cubicBezTo>
                <a:cubicBezTo>
                  <a:pt x="11686" y="9006"/>
                  <a:pt x="11664" y="9073"/>
                  <a:pt x="11658" y="9128"/>
                </a:cubicBezTo>
                <a:cubicBezTo>
                  <a:pt x="11653" y="9183"/>
                  <a:pt x="11648" y="9237"/>
                  <a:pt x="11683" y="9277"/>
                </a:cubicBezTo>
                <a:cubicBezTo>
                  <a:pt x="11718" y="9316"/>
                  <a:pt x="11731" y="9327"/>
                  <a:pt x="11782" y="9327"/>
                </a:cubicBezTo>
                <a:cubicBezTo>
                  <a:pt x="11874" y="9327"/>
                  <a:pt x="11832" y="9310"/>
                  <a:pt x="11881" y="9277"/>
                </a:cubicBezTo>
                <a:cubicBezTo>
                  <a:pt x="11914" y="9255"/>
                  <a:pt x="11950" y="9257"/>
                  <a:pt x="11956" y="9203"/>
                </a:cubicBezTo>
                <a:cubicBezTo>
                  <a:pt x="11956" y="9195"/>
                  <a:pt x="11956" y="9186"/>
                  <a:pt x="11956" y="9178"/>
                </a:cubicBezTo>
                <a:cubicBezTo>
                  <a:pt x="11881" y="9178"/>
                  <a:pt x="11826" y="9174"/>
                  <a:pt x="11757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27720" y="3241800"/>
            <a:ext cx="142560" cy="16020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12923" y="9029"/>
                </a:moveTo>
                <a:cubicBezTo>
                  <a:pt x="12923" y="9021"/>
                  <a:pt x="12923" y="9012"/>
                  <a:pt x="12923" y="9004"/>
                </a:cubicBezTo>
                <a:cubicBezTo>
                  <a:pt x="12865" y="9004"/>
                  <a:pt x="12870" y="9024"/>
                  <a:pt x="12824" y="9054"/>
                </a:cubicBezTo>
                <a:cubicBezTo>
                  <a:pt x="12785" y="9079"/>
                  <a:pt x="12733" y="9106"/>
                  <a:pt x="12700" y="9128"/>
                </a:cubicBezTo>
                <a:cubicBezTo>
                  <a:pt x="12665" y="9152"/>
                  <a:pt x="12641" y="9172"/>
                  <a:pt x="12626" y="9203"/>
                </a:cubicBezTo>
                <a:cubicBezTo>
                  <a:pt x="12590" y="9214"/>
                  <a:pt x="12590" y="9216"/>
                  <a:pt x="12626" y="9227"/>
                </a:cubicBezTo>
              </a:path>
              <a:path w="398" h="448">
                <a:moveTo>
                  <a:pt x="12923" y="9203"/>
                </a:moveTo>
                <a:cubicBezTo>
                  <a:pt x="12915" y="9203"/>
                  <a:pt x="12906" y="9203"/>
                  <a:pt x="12898" y="9203"/>
                </a:cubicBezTo>
                <a:cubicBezTo>
                  <a:pt x="12881" y="9177"/>
                  <a:pt x="12821" y="9153"/>
                  <a:pt x="12774" y="9128"/>
                </a:cubicBezTo>
                <a:cubicBezTo>
                  <a:pt x="12717" y="9098"/>
                  <a:pt x="12660" y="9087"/>
                  <a:pt x="12601" y="9079"/>
                </a:cubicBezTo>
                <a:cubicBezTo>
                  <a:pt x="12588" y="9039"/>
                  <a:pt x="12589" y="9069"/>
                  <a:pt x="12576" y="9029"/>
                </a:cubicBezTo>
              </a:path>
              <a:path w="398" h="448">
                <a:moveTo>
                  <a:pt x="12973" y="9451"/>
                </a:moveTo>
                <a:cubicBezTo>
                  <a:pt x="12865" y="9451"/>
                  <a:pt x="12758" y="9451"/>
                  <a:pt x="12650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29120" y="3197160"/>
            <a:ext cx="500040" cy="187560"/>
          </a:xfrm>
          <a:custGeom>
            <a:avLst/>
            <a:gdLst/>
            <a:ahLst/>
            <a:rect l="l" t="t" r="r" b="b"/>
            <a:pathLst>
              <a:path w="1390" h="522">
                <a:moveTo>
                  <a:pt x="13692" y="9029"/>
                </a:moveTo>
                <a:cubicBezTo>
                  <a:pt x="13702" y="8989"/>
                  <a:pt x="13734" y="8970"/>
                  <a:pt x="13742" y="8954"/>
                </a:cubicBezTo>
                <a:cubicBezTo>
                  <a:pt x="13752" y="8934"/>
                  <a:pt x="13783" y="8916"/>
                  <a:pt x="13816" y="8905"/>
                </a:cubicBezTo>
                <a:cubicBezTo>
                  <a:pt x="13848" y="8894"/>
                  <a:pt x="13886" y="8890"/>
                  <a:pt x="13915" y="8880"/>
                </a:cubicBezTo>
                <a:cubicBezTo>
                  <a:pt x="13960" y="8865"/>
                  <a:pt x="13982" y="8894"/>
                  <a:pt x="14015" y="8905"/>
                </a:cubicBezTo>
                <a:cubicBezTo>
                  <a:pt x="14042" y="8914"/>
                  <a:pt x="14061" y="8940"/>
                  <a:pt x="14064" y="8979"/>
                </a:cubicBezTo>
                <a:cubicBezTo>
                  <a:pt x="14069" y="9044"/>
                  <a:pt x="14111" y="9070"/>
                  <a:pt x="14064" y="9128"/>
                </a:cubicBezTo>
                <a:cubicBezTo>
                  <a:pt x="14033" y="9166"/>
                  <a:pt x="14024" y="9201"/>
                  <a:pt x="13990" y="9227"/>
                </a:cubicBezTo>
                <a:cubicBezTo>
                  <a:pt x="13948" y="9259"/>
                  <a:pt x="13932" y="9263"/>
                  <a:pt x="13891" y="9227"/>
                </a:cubicBezTo>
                <a:cubicBezTo>
                  <a:pt x="13835" y="9178"/>
                  <a:pt x="13791" y="9159"/>
                  <a:pt x="13767" y="9079"/>
                </a:cubicBezTo>
                <a:cubicBezTo>
                  <a:pt x="13753" y="9033"/>
                  <a:pt x="13761" y="8963"/>
                  <a:pt x="13791" y="8930"/>
                </a:cubicBezTo>
                <a:cubicBezTo>
                  <a:pt x="13816" y="8905"/>
                  <a:pt x="13824" y="8897"/>
                  <a:pt x="13841" y="8880"/>
                </a:cubicBezTo>
              </a:path>
              <a:path w="1390" h="522">
                <a:moveTo>
                  <a:pt x="14461" y="9227"/>
                </a:moveTo>
                <a:cubicBezTo>
                  <a:pt x="14453" y="9227"/>
                  <a:pt x="14444" y="9227"/>
                  <a:pt x="14436" y="9227"/>
                </a:cubicBezTo>
              </a:path>
              <a:path w="1390" h="522">
                <a:moveTo>
                  <a:pt x="14957" y="8930"/>
                </a:moveTo>
                <a:cubicBezTo>
                  <a:pt x="14957" y="8905"/>
                  <a:pt x="14957" y="8897"/>
                  <a:pt x="14982" y="8905"/>
                </a:cubicBezTo>
                <a:cubicBezTo>
                  <a:pt x="14943" y="8895"/>
                  <a:pt x="14927" y="8880"/>
                  <a:pt x="14883" y="8880"/>
                </a:cubicBezTo>
                <a:cubicBezTo>
                  <a:pt x="14832" y="8880"/>
                  <a:pt x="14799" y="8873"/>
                  <a:pt x="14759" y="8905"/>
                </a:cubicBezTo>
                <a:cubicBezTo>
                  <a:pt x="14724" y="8933"/>
                  <a:pt x="14734" y="8963"/>
                  <a:pt x="14734" y="9004"/>
                </a:cubicBezTo>
                <a:cubicBezTo>
                  <a:pt x="14734" y="9034"/>
                  <a:pt x="14775" y="9050"/>
                  <a:pt x="14808" y="9054"/>
                </a:cubicBezTo>
                <a:cubicBezTo>
                  <a:pt x="14849" y="9059"/>
                  <a:pt x="14881" y="9006"/>
                  <a:pt x="14908" y="8979"/>
                </a:cubicBezTo>
                <a:cubicBezTo>
                  <a:pt x="14943" y="8943"/>
                  <a:pt x="14955" y="8917"/>
                  <a:pt x="14982" y="8880"/>
                </a:cubicBezTo>
                <a:cubicBezTo>
                  <a:pt x="14996" y="8948"/>
                  <a:pt x="15007" y="8979"/>
                  <a:pt x="15007" y="9054"/>
                </a:cubicBezTo>
                <a:cubicBezTo>
                  <a:pt x="15007" y="9140"/>
                  <a:pt x="15031" y="9247"/>
                  <a:pt x="15056" y="9327"/>
                </a:cubicBezTo>
                <a:cubicBezTo>
                  <a:pt x="15076" y="9367"/>
                  <a:pt x="15085" y="9373"/>
                  <a:pt x="15081" y="9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08920" y="3251160"/>
            <a:ext cx="71280" cy="6192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9869" y="9079"/>
                </a:moveTo>
                <a:cubicBezTo>
                  <a:pt x="19877" y="9079"/>
                  <a:pt x="19885" y="9079"/>
                  <a:pt x="19893" y="9079"/>
                </a:cubicBezTo>
                <a:cubicBezTo>
                  <a:pt x="19893" y="9027"/>
                  <a:pt x="19896" y="9029"/>
                  <a:pt x="19844" y="9029"/>
                </a:cubicBezTo>
                <a:cubicBezTo>
                  <a:pt x="19793" y="9029"/>
                  <a:pt x="19758" y="9013"/>
                  <a:pt x="19745" y="9054"/>
                </a:cubicBezTo>
              </a:path>
              <a:path w="199" h="175">
                <a:moveTo>
                  <a:pt x="19918" y="9203"/>
                </a:moveTo>
                <a:cubicBezTo>
                  <a:pt x="19926" y="9203"/>
                  <a:pt x="19935" y="9203"/>
                  <a:pt x="19943" y="9203"/>
                </a:cubicBezTo>
                <a:cubicBezTo>
                  <a:pt x="19910" y="9203"/>
                  <a:pt x="19877" y="9203"/>
                  <a:pt x="19844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4040" y="3143160"/>
            <a:ext cx="716040" cy="258840"/>
          </a:xfrm>
          <a:custGeom>
            <a:avLst/>
            <a:gdLst/>
            <a:ahLst/>
            <a:rect l="l" t="t" r="r" b="b"/>
            <a:pathLst>
              <a:path w="1986" h="721">
                <a:moveTo>
                  <a:pt x="20340" y="8979"/>
                </a:moveTo>
                <a:cubicBezTo>
                  <a:pt x="20302" y="8966"/>
                  <a:pt x="20315" y="8950"/>
                  <a:pt x="20315" y="8905"/>
                </a:cubicBezTo>
                <a:cubicBezTo>
                  <a:pt x="20315" y="8859"/>
                  <a:pt x="20322" y="8834"/>
                  <a:pt x="20365" y="8806"/>
                </a:cubicBezTo>
                <a:cubicBezTo>
                  <a:pt x="20439" y="8759"/>
                  <a:pt x="20509" y="8795"/>
                  <a:pt x="20563" y="8855"/>
                </a:cubicBezTo>
                <a:cubicBezTo>
                  <a:pt x="20613" y="8911"/>
                  <a:pt x="20678" y="9024"/>
                  <a:pt x="20662" y="9103"/>
                </a:cubicBezTo>
                <a:cubicBezTo>
                  <a:pt x="20642" y="9202"/>
                  <a:pt x="20569" y="9203"/>
                  <a:pt x="20489" y="9203"/>
                </a:cubicBezTo>
                <a:cubicBezTo>
                  <a:pt x="20410" y="9203"/>
                  <a:pt x="20331" y="9183"/>
                  <a:pt x="20290" y="9103"/>
                </a:cubicBezTo>
                <a:cubicBezTo>
                  <a:pt x="20290" y="9095"/>
                  <a:pt x="20290" y="9087"/>
                  <a:pt x="20290" y="9079"/>
                </a:cubicBezTo>
              </a:path>
              <a:path w="1986" h="721">
                <a:moveTo>
                  <a:pt x="20886" y="9153"/>
                </a:moveTo>
                <a:cubicBezTo>
                  <a:pt x="20894" y="9161"/>
                  <a:pt x="20902" y="9170"/>
                  <a:pt x="20910" y="9178"/>
                </a:cubicBezTo>
              </a:path>
              <a:path w="1986" h="721">
                <a:moveTo>
                  <a:pt x="21258" y="8855"/>
                </a:moveTo>
                <a:cubicBezTo>
                  <a:pt x="21282" y="8830"/>
                  <a:pt x="21290" y="8822"/>
                  <a:pt x="21307" y="8806"/>
                </a:cubicBezTo>
                <a:cubicBezTo>
                  <a:pt x="21268" y="8844"/>
                  <a:pt x="21226" y="8877"/>
                  <a:pt x="21208" y="8930"/>
                </a:cubicBezTo>
                <a:cubicBezTo>
                  <a:pt x="21202" y="8949"/>
                  <a:pt x="21208" y="8984"/>
                  <a:pt x="21208" y="9004"/>
                </a:cubicBezTo>
                <a:cubicBezTo>
                  <a:pt x="21262" y="9004"/>
                  <a:pt x="21308" y="9009"/>
                  <a:pt x="21357" y="9029"/>
                </a:cubicBezTo>
                <a:cubicBezTo>
                  <a:pt x="21395" y="9044"/>
                  <a:pt x="21462" y="9060"/>
                  <a:pt x="21481" y="9103"/>
                </a:cubicBezTo>
                <a:cubicBezTo>
                  <a:pt x="21497" y="9138"/>
                  <a:pt x="21477" y="9180"/>
                  <a:pt x="21456" y="9203"/>
                </a:cubicBezTo>
                <a:cubicBezTo>
                  <a:pt x="21420" y="9243"/>
                  <a:pt x="21357" y="9227"/>
                  <a:pt x="21307" y="9227"/>
                </a:cubicBezTo>
                <a:cubicBezTo>
                  <a:pt x="21279" y="9227"/>
                  <a:pt x="21269" y="9225"/>
                  <a:pt x="21258" y="9203"/>
                </a:cubicBezTo>
              </a:path>
              <a:path w="1986" h="721">
                <a:moveTo>
                  <a:pt x="21530" y="8781"/>
                </a:moveTo>
                <a:cubicBezTo>
                  <a:pt x="21538" y="8781"/>
                  <a:pt x="21547" y="8781"/>
                  <a:pt x="21555" y="8781"/>
                </a:cubicBezTo>
                <a:cubicBezTo>
                  <a:pt x="21515" y="8805"/>
                  <a:pt x="21456" y="8818"/>
                  <a:pt x="21406" y="8830"/>
                </a:cubicBezTo>
                <a:cubicBezTo>
                  <a:pt x="21382" y="8830"/>
                  <a:pt x="21373" y="8830"/>
                  <a:pt x="21357" y="8830"/>
                </a:cubicBezTo>
              </a:path>
              <a:path w="1986" h="721">
                <a:moveTo>
                  <a:pt x="21754" y="8731"/>
                </a:moveTo>
                <a:cubicBezTo>
                  <a:pt x="21779" y="8731"/>
                  <a:pt x="21787" y="8731"/>
                  <a:pt x="21803" y="8731"/>
                </a:cubicBezTo>
                <a:cubicBezTo>
                  <a:pt x="21803" y="8805"/>
                  <a:pt x="21789" y="8858"/>
                  <a:pt x="21779" y="8930"/>
                </a:cubicBezTo>
                <a:cubicBezTo>
                  <a:pt x="21770" y="8995"/>
                  <a:pt x="21764" y="9104"/>
                  <a:pt x="21803" y="9153"/>
                </a:cubicBezTo>
                <a:cubicBezTo>
                  <a:pt x="21834" y="9193"/>
                  <a:pt x="21880" y="9178"/>
                  <a:pt x="21927" y="9178"/>
                </a:cubicBezTo>
                <a:cubicBezTo>
                  <a:pt x="21966" y="9178"/>
                  <a:pt x="22067" y="9170"/>
                  <a:pt x="22101" y="9153"/>
                </a:cubicBezTo>
                <a:cubicBezTo>
                  <a:pt x="22145" y="9131"/>
                  <a:pt x="22172" y="9128"/>
                  <a:pt x="22225" y="9128"/>
                </a:cubicBezTo>
                <a:cubicBezTo>
                  <a:pt x="22250" y="9128"/>
                  <a:pt x="22258" y="9128"/>
                  <a:pt x="22275" y="9128"/>
                </a:cubicBezTo>
              </a:path>
              <a:path w="1986" h="721">
                <a:moveTo>
                  <a:pt x="22101" y="9029"/>
                </a:moveTo>
                <a:cubicBezTo>
                  <a:pt x="22056" y="9014"/>
                  <a:pt x="22054" y="9081"/>
                  <a:pt x="22051" y="9153"/>
                </a:cubicBezTo>
                <a:cubicBezTo>
                  <a:pt x="22048" y="9236"/>
                  <a:pt x="22051" y="9325"/>
                  <a:pt x="22076" y="9401"/>
                </a:cubicBezTo>
                <a:cubicBezTo>
                  <a:pt x="22084" y="9418"/>
                  <a:pt x="22093" y="9434"/>
                  <a:pt x="22101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2240" y="1276200"/>
            <a:ext cx="54000" cy="3672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17859" y="3547"/>
                </a:moveTo>
                <a:cubicBezTo>
                  <a:pt x="17859" y="3611"/>
                  <a:pt x="17867" y="3488"/>
                  <a:pt x="17909" y="3572"/>
                </a:cubicBezTo>
                <a:cubicBezTo>
                  <a:pt x="17916" y="3586"/>
                  <a:pt x="17909" y="3630"/>
                  <a:pt x="17909" y="3646"/>
                </a:cubicBezTo>
                <a:cubicBezTo>
                  <a:pt x="17862" y="3646"/>
                  <a:pt x="17846" y="3652"/>
                  <a:pt x="17810" y="3621"/>
                </a:cubicBezTo>
                <a:cubicBezTo>
                  <a:pt x="17802" y="3613"/>
                  <a:pt x="17793" y="3605"/>
                  <a:pt x="17785" y="3597"/>
                </a:cubicBezTo>
                <a:cubicBezTo>
                  <a:pt x="17829" y="3564"/>
                  <a:pt x="17851" y="3572"/>
                  <a:pt x="17909" y="3572"/>
                </a:cubicBezTo>
                <a:cubicBezTo>
                  <a:pt x="17917" y="3572"/>
                  <a:pt x="17926" y="3572"/>
                  <a:pt x="17934" y="35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00840" y="1571760"/>
            <a:ext cx="1509480" cy="598320"/>
          </a:xfrm>
          <a:custGeom>
            <a:avLst/>
            <a:gdLst/>
            <a:ahLst/>
            <a:rect l="l" t="t" r="r" b="b"/>
            <a:pathLst>
              <a:path w="4193" h="1663">
                <a:moveTo>
                  <a:pt x="17363" y="5755"/>
                </a:moveTo>
                <a:cubicBezTo>
                  <a:pt x="17355" y="5755"/>
                  <a:pt x="17346" y="5755"/>
                  <a:pt x="17338" y="5755"/>
                </a:cubicBezTo>
                <a:cubicBezTo>
                  <a:pt x="17348" y="5726"/>
                  <a:pt x="17372" y="5710"/>
                  <a:pt x="17413" y="5705"/>
                </a:cubicBezTo>
                <a:cubicBezTo>
                  <a:pt x="17443" y="5702"/>
                  <a:pt x="17459" y="5748"/>
                  <a:pt x="17462" y="5779"/>
                </a:cubicBezTo>
                <a:cubicBezTo>
                  <a:pt x="17467" y="5828"/>
                  <a:pt x="17462" y="5857"/>
                  <a:pt x="17438" y="5879"/>
                </a:cubicBezTo>
                <a:cubicBezTo>
                  <a:pt x="17415" y="5902"/>
                  <a:pt x="17411" y="5910"/>
                  <a:pt x="17388" y="5904"/>
                </a:cubicBezTo>
                <a:cubicBezTo>
                  <a:pt x="17371" y="5882"/>
                  <a:pt x="17344" y="5838"/>
                  <a:pt x="17363" y="5804"/>
                </a:cubicBezTo>
                <a:cubicBezTo>
                  <a:pt x="17372" y="5787"/>
                  <a:pt x="17445" y="5758"/>
                  <a:pt x="17462" y="5779"/>
                </a:cubicBezTo>
                <a:cubicBezTo>
                  <a:pt x="17462" y="5787"/>
                  <a:pt x="17462" y="5796"/>
                  <a:pt x="17462" y="5804"/>
                </a:cubicBezTo>
              </a:path>
              <a:path w="4193" h="1663">
                <a:moveTo>
                  <a:pt x="18901" y="5556"/>
                </a:moveTo>
                <a:cubicBezTo>
                  <a:pt x="18901" y="5600"/>
                  <a:pt x="18902" y="5596"/>
                  <a:pt x="18876" y="5631"/>
                </a:cubicBezTo>
                <a:cubicBezTo>
                  <a:pt x="18840" y="5582"/>
                  <a:pt x="18862" y="5559"/>
                  <a:pt x="18901" y="5507"/>
                </a:cubicBezTo>
                <a:cubicBezTo>
                  <a:pt x="18951" y="5441"/>
                  <a:pt x="18962" y="5414"/>
                  <a:pt x="19050" y="5407"/>
                </a:cubicBezTo>
                <a:cubicBezTo>
                  <a:pt x="19137" y="5400"/>
                  <a:pt x="19162" y="5450"/>
                  <a:pt x="19199" y="5531"/>
                </a:cubicBezTo>
                <a:cubicBezTo>
                  <a:pt x="19223" y="5583"/>
                  <a:pt x="19252" y="5746"/>
                  <a:pt x="19224" y="5804"/>
                </a:cubicBezTo>
                <a:cubicBezTo>
                  <a:pt x="19188" y="5880"/>
                  <a:pt x="19098" y="5901"/>
                  <a:pt x="19025" y="5904"/>
                </a:cubicBezTo>
                <a:cubicBezTo>
                  <a:pt x="18947" y="5907"/>
                  <a:pt x="18871" y="5863"/>
                  <a:pt x="18852" y="5779"/>
                </a:cubicBezTo>
                <a:cubicBezTo>
                  <a:pt x="18838" y="5719"/>
                  <a:pt x="18889" y="5692"/>
                  <a:pt x="18926" y="5655"/>
                </a:cubicBezTo>
              </a:path>
              <a:path w="4193" h="1663">
                <a:moveTo>
                  <a:pt x="19645" y="5829"/>
                </a:moveTo>
                <a:cubicBezTo>
                  <a:pt x="19645" y="5854"/>
                  <a:pt x="19645" y="5862"/>
                  <a:pt x="19645" y="5879"/>
                </a:cubicBezTo>
              </a:path>
              <a:path w="4193" h="1663">
                <a:moveTo>
                  <a:pt x="19943" y="5680"/>
                </a:moveTo>
                <a:cubicBezTo>
                  <a:pt x="19927" y="5675"/>
                  <a:pt x="19882" y="5657"/>
                  <a:pt x="19869" y="5631"/>
                </a:cubicBezTo>
                <a:cubicBezTo>
                  <a:pt x="19850" y="5593"/>
                  <a:pt x="19869" y="5509"/>
                  <a:pt x="19893" y="5482"/>
                </a:cubicBezTo>
                <a:cubicBezTo>
                  <a:pt x="19932" y="5437"/>
                  <a:pt x="19997" y="5452"/>
                  <a:pt x="20042" y="5482"/>
                </a:cubicBezTo>
                <a:cubicBezTo>
                  <a:pt x="20087" y="5512"/>
                  <a:pt x="20130" y="5580"/>
                  <a:pt x="20141" y="5631"/>
                </a:cubicBezTo>
                <a:cubicBezTo>
                  <a:pt x="20152" y="5681"/>
                  <a:pt x="20149" y="5742"/>
                  <a:pt x="20117" y="5779"/>
                </a:cubicBezTo>
                <a:cubicBezTo>
                  <a:pt x="20082" y="5819"/>
                  <a:pt x="20052" y="5810"/>
                  <a:pt x="20017" y="5779"/>
                </a:cubicBezTo>
                <a:cubicBezTo>
                  <a:pt x="19984" y="5750"/>
                  <a:pt x="19948" y="5722"/>
                  <a:pt x="19943" y="5680"/>
                </a:cubicBezTo>
                <a:cubicBezTo>
                  <a:pt x="19943" y="5672"/>
                  <a:pt x="19943" y="5663"/>
                  <a:pt x="19943" y="5655"/>
                </a:cubicBezTo>
              </a:path>
              <a:path w="4193" h="1663">
                <a:moveTo>
                  <a:pt x="20638" y="5432"/>
                </a:moveTo>
                <a:cubicBezTo>
                  <a:pt x="20696" y="5432"/>
                  <a:pt x="20741" y="5442"/>
                  <a:pt x="20786" y="5407"/>
                </a:cubicBezTo>
                <a:cubicBezTo>
                  <a:pt x="20734" y="5407"/>
                  <a:pt x="20715" y="5387"/>
                  <a:pt x="20662" y="5383"/>
                </a:cubicBezTo>
                <a:cubicBezTo>
                  <a:pt x="20625" y="5380"/>
                  <a:pt x="20564" y="5415"/>
                  <a:pt x="20538" y="5432"/>
                </a:cubicBezTo>
                <a:cubicBezTo>
                  <a:pt x="20496" y="5460"/>
                  <a:pt x="20489" y="5485"/>
                  <a:pt x="20489" y="5531"/>
                </a:cubicBezTo>
                <a:cubicBezTo>
                  <a:pt x="20489" y="5569"/>
                  <a:pt x="20494" y="5597"/>
                  <a:pt x="20538" y="5606"/>
                </a:cubicBezTo>
                <a:cubicBezTo>
                  <a:pt x="20606" y="5621"/>
                  <a:pt x="20654" y="5636"/>
                  <a:pt x="20712" y="5680"/>
                </a:cubicBezTo>
                <a:cubicBezTo>
                  <a:pt x="20731" y="5695"/>
                  <a:pt x="20784" y="5751"/>
                  <a:pt x="20786" y="5755"/>
                </a:cubicBezTo>
                <a:cubicBezTo>
                  <a:pt x="20786" y="5779"/>
                  <a:pt x="20786" y="5788"/>
                  <a:pt x="20786" y="5804"/>
                </a:cubicBezTo>
                <a:cubicBezTo>
                  <a:pt x="20749" y="5817"/>
                  <a:pt x="20765" y="5829"/>
                  <a:pt x="20712" y="5829"/>
                </a:cubicBezTo>
                <a:cubicBezTo>
                  <a:pt x="20686" y="5829"/>
                  <a:pt x="20625" y="5822"/>
                  <a:pt x="20613" y="5804"/>
                </a:cubicBezTo>
                <a:cubicBezTo>
                  <a:pt x="20589" y="5768"/>
                  <a:pt x="20628" y="5705"/>
                  <a:pt x="20638" y="5680"/>
                </a:cubicBezTo>
                <a:cubicBezTo>
                  <a:pt x="20674" y="5588"/>
                  <a:pt x="20709" y="5537"/>
                  <a:pt x="20762" y="5457"/>
                </a:cubicBezTo>
                <a:cubicBezTo>
                  <a:pt x="20768" y="5447"/>
                  <a:pt x="20821" y="5335"/>
                  <a:pt x="20861" y="5383"/>
                </a:cubicBezTo>
                <a:cubicBezTo>
                  <a:pt x="20861" y="5391"/>
                  <a:pt x="20861" y="5399"/>
                  <a:pt x="20861" y="5407"/>
                </a:cubicBezTo>
              </a:path>
              <a:path w="4193" h="1663">
                <a:moveTo>
                  <a:pt x="19794" y="4589"/>
                </a:moveTo>
                <a:cubicBezTo>
                  <a:pt x="19769" y="4589"/>
                  <a:pt x="19761" y="4589"/>
                  <a:pt x="19769" y="4614"/>
                </a:cubicBezTo>
                <a:cubicBezTo>
                  <a:pt x="19753" y="4591"/>
                  <a:pt x="19727" y="4547"/>
                  <a:pt x="19745" y="4514"/>
                </a:cubicBezTo>
                <a:cubicBezTo>
                  <a:pt x="19766" y="4476"/>
                  <a:pt x="19785" y="4449"/>
                  <a:pt x="19819" y="4415"/>
                </a:cubicBezTo>
                <a:cubicBezTo>
                  <a:pt x="19855" y="4379"/>
                  <a:pt x="19893" y="4370"/>
                  <a:pt x="19943" y="4366"/>
                </a:cubicBezTo>
                <a:cubicBezTo>
                  <a:pt x="19985" y="4363"/>
                  <a:pt x="20031" y="4404"/>
                  <a:pt x="20067" y="4415"/>
                </a:cubicBezTo>
                <a:cubicBezTo>
                  <a:pt x="20093" y="4423"/>
                  <a:pt x="20127" y="4477"/>
                  <a:pt x="20141" y="4514"/>
                </a:cubicBezTo>
                <a:cubicBezTo>
                  <a:pt x="20164" y="4572"/>
                  <a:pt x="20129" y="4637"/>
                  <a:pt x="20117" y="4688"/>
                </a:cubicBezTo>
                <a:cubicBezTo>
                  <a:pt x="20110" y="4718"/>
                  <a:pt x="20059" y="4748"/>
                  <a:pt x="20017" y="4762"/>
                </a:cubicBezTo>
                <a:cubicBezTo>
                  <a:pt x="19975" y="4776"/>
                  <a:pt x="19923" y="4762"/>
                  <a:pt x="19893" y="4738"/>
                </a:cubicBezTo>
                <a:cubicBezTo>
                  <a:pt x="19853" y="4706"/>
                  <a:pt x="19844" y="4687"/>
                  <a:pt x="19844" y="4638"/>
                </a:cubicBezTo>
                <a:cubicBezTo>
                  <a:pt x="19844" y="4571"/>
                  <a:pt x="19851" y="4543"/>
                  <a:pt x="19869" y="4490"/>
                </a:cubicBezTo>
                <a:cubicBezTo>
                  <a:pt x="19882" y="4452"/>
                  <a:pt x="19898" y="4465"/>
                  <a:pt x="19943" y="4465"/>
                </a:cubicBezTo>
                <a:cubicBezTo>
                  <a:pt x="19951" y="4465"/>
                  <a:pt x="19960" y="4465"/>
                  <a:pt x="19968" y="4465"/>
                </a:cubicBezTo>
              </a:path>
              <a:path w="4193" h="1663">
                <a:moveTo>
                  <a:pt x="20365" y="4638"/>
                </a:moveTo>
                <a:cubicBezTo>
                  <a:pt x="20365" y="4671"/>
                  <a:pt x="20375" y="4743"/>
                  <a:pt x="20389" y="4713"/>
                </a:cubicBezTo>
                <a:cubicBezTo>
                  <a:pt x="20417" y="4654"/>
                  <a:pt x="20367" y="4598"/>
                  <a:pt x="20414" y="4539"/>
                </a:cubicBezTo>
                <a:cubicBezTo>
                  <a:pt x="20444" y="4501"/>
                  <a:pt x="20498" y="4473"/>
                  <a:pt x="20538" y="4465"/>
                </a:cubicBezTo>
                <a:cubicBezTo>
                  <a:pt x="20604" y="4452"/>
                  <a:pt x="20678" y="4464"/>
                  <a:pt x="20737" y="4490"/>
                </a:cubicBezTo>
                <a:cubicBezTo>
                  <a:pt x="20777" y="4510"/>
                  <a:pt x="20784" y="4518"/>
                  <a:pt x="20811" y="4514"/>
                </a:cubicBezTo>
              </a:path>
              <a:path w="4193" h="1663">
                <a:moveTo>
                  <a:pt x="18256" y="5755"/>
                </a:moveTo>
                <a:cubicBezTo>
                  <a:pt x="18191" y="5755"/>
                  <a:pt x="18143" y="5740"/>
                  <a:pt x="18083" y="5730"/>
                </a:cubicBezTo>
                <a:cubicBezTo>
                  <a:pt x="17989" y="5714"/>
                  <a:pt x="17902" y="5752"/>
                  <a:pt x="17810" y="5755"/>
                </a:cubicBezTo>
                <a:cubicBezTo>
                  <a:pt x="17520" y="5764"/>
                  <a:pt x="17227" y="5740"/>
                  <a:pt x="16942" y="5779"/>
                </a:cubicBezTo>
                <a:cubicBezTo>
                  <a:pt x="16877" y="5788"/>
                  <a:pt x="16807" y="5798"/>
                  <a:pt x="16743" y="5804"/>
                </a:cubicBezTo>
                <a:cubicBezTo>
                  <a:pt x="16719" y="5806"/>
                  <a:pt x="16693" y="5804"/>
                  <a:pt x="16669" y="5804"/>
                </a:cubicBezTo>
              </a:path>
              <a:path w="4193" h="1663">
                <a:moveTo>
                  <a:pt x="18455" y="5730"/>
                </a:moveTo>
                <a:cubicBezTo>
                  <a:pt x="18498" y="5730"/>
                  <a:pt x="18431" y="5733"/>
                  <a:pt x="18405" y="5755"/>
                </a:cubicBezTo>
                <a:cubicBezTo>
                  <a:pt x="18355" y="5798"/>
                  <a:pt x="18322" y="5855"/>
                  <a:pt x="18281" y="5904"/>
                </a:cubicBezTo>
                <a:cubicBezTo>
                  <a:pt x="18248" y="5943"/>
                  <a:pt x="18218" y="5982"/>
                  <a:pt x="18207" y="6028"/>
                </a:cubicBezTo>
                <a:cubicBezTo>
                  <a:pt x="18279" y="5954"/>
                  <a:pt x="18344" y="5884"/>
                  <a:pt x="18405" y="5804"/>
                </a:cubicBezTo>
                <a:cubicBezTo>
                  <a:pt x="18417" y="5789"/>
                  <a:pt x="18475" y="5708"/>
                  <a:pt x="18479" y="5705"/>
                </a:cubicBezTo>
                <a:cubicBezTo>
                  <a:pt x="18487" y="5705"/>
                  <a:pt x="18496" y="5705"/>
                  <a:pt x="18504" y="5705"/>
                </a:cubicBezTo>
                <a:cubicBezTo>
                  <a:pt x="18456" y="5668"/>
                  <a:pt x="18388" y="5638"/>
                  <a:pt x="18331" y="5606"/>
                </a:cubicBezTo>
                <a:cubicBezTo>
                  <a:pt x="18280" y="5577"/>
                  <a:pt x="18170" y="5525"/>
                  <a:pt x="18132" y="5482"/>
                </a:cubicBezTo>
                <a:cubicBezTo>
                  <a:pt x="18132" y="5454"/>
                  <a:pt x="18130" y="5443"/>
                  <a:pt x="18107" y="54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86800" y="1527120"/>
            <a:ext cx="187200" cy="169920"/>
          </a:xfrm>
          <a:custGeom>
            <a:avLst/>
            <a:gdLst/>
            <a:ahLst/>
            <a:rect l="l" t="t" r="r" b="b"/>
            <a:pathLst>
              <a:path w="522" h="472">
                <a:moveTo>
                  <a:pt x="22126" y="4465"/>
                </a:moveTo>
                <a:cubicBezTo>
                  <a:pt x="22151" y="4465"/>
                  <a:pt x="22159" y="4465"/>
                  <a:pt x="22151" y="4490"/>
                </a:cubicBezTo>
                <a:cubicBezTo>
                  <a:pt x="22055" y="4490"/>
                  <a:pt x="21971" y="4478"/>
                  <a:pt x="21878" y="4465"/>
                </a:cubicBezTo>
                <a:cubicBezTo>
                  <a:pt x="21817" y="4456"/>
                  <a:pt x="21768" y="4440"/>
                  <a:pt x="21704" y="4440"/>
                </a:cubicBezTo>
                <a:cubicBezTo>
                  <a:pt x="21671" y="4440"/>
                  <a:pt x="21601" y="4480"/>
                  <a:pt x="21630" y="4465"/>
                </a:cubicBezTo>
                <a:cubicBezTo>
                  <a:pt x="21638" y="4457"/>
                  <a:pt x="21646" y="4448"/>
                  <a:pt x="21654" y="4440"/>
                </a:cubicBezTo>
              </a:path>
              <a:path w="522" h="472">
                <a:moveTo>
                  <a:pt x="21952" y="4242"/>
                </a:moveTo>
                <a:cubicBezTo>
                  <a:pt x="21989" y="4254"/>
                  <a:pt x="21990" y="4319"/>
                  <a:pt x="21977" y="4366"/>
                </a:cubicBezTo>
                <a:cubicBezTo>
                  <a:pt x="21953" y="4451"/>
                  <a:pt x="21952" y="4523"/>
                  <a:pt x="21952" y="4614"/>
                </a:cubicBezTo>
                <a:cubicBezTo>
                  <a:pt x="21952" y="4650"/>
                  <a:pt x="21934" y="4679"/>
                  <a:pt x="21927" y="47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02280" y="2500200"/>
            <a:ext cx="142920" cy="152640"/>
          </a:xfrm>
          <a:custGeom>
            <a:avLst/>
            <a:gdLst/>
            <a:ahLst/>
            <a:rect l="l" t="t" r="r" b="b"/>
            <a:pathLst>
              <a:path w="398" h="423">
                <a:moveTo>
                  <a:pt x="19224" y="7218"/>
                </a:moveTo>
                <a:cubicBezTo>
                  <a:pt x="19224" y="7243"/>
                  <a:pt x="19224" y="7251"/>
                  <a:pt x="19199" y="7243"/>
                </a:cubicBezTo>
                <a:cubicBezTo>
                  <a:pt x="19192" y="7222"/>
                  <a:pt x="19154" y="7205"/>
                  <a:pt x="19174" y="7169"/>
                </a:cubicBezTo>
                <a:cubicBezTo>
                  <a:pt x="19198" y="7127"/>
                  <a:pt x="19206" y="7056"/>
                  <a:pt x="19248" y="7020"/>
                </a:cubicBezTo>
                <a:cubicBezTo>
                  <a:pt x="19298" y="6977"/>
                  <a:pt x="19358" y="6949"/>
                  <a:pt x="19422" y="6945"/>
                </a:cubicBezTo>
                <a:cubicBezTo>
                  <a:pt x="19505" y="6940"/>
                  <a:pt x="19556" y="7019"/>
                  <a:pt x="19571" y="7094"/>
                </a:cubicBezTo>
                <a:cubicBezTo>
                  <a:pt x="19585" y="7164"/>
                  <a:pt x="19575" y="7288"/>
                  <a:pt x="19521" y="7342"/>
                </a:cubicBezTo>
                <a:cubicBezTo>
                  <a:pt x="19451" y="7413"/>
                  <a:pt x="19378" y="7350"/>
                  <a:pt x="19323" y="7317"/>
                </a:cubicBezTo>
                <a:cubicBezTo>
                  <a:pt x="19276" y="7289"/>
                  <a:pt x="19213" y="7237"/>
                  <a:pt x="19248" y="7169"/>
                </a:cubicBezTo>
                <a:cubicBezTo>
                  <a:pt x="19271" y="7146"/>
                  <a:pt x="19279" y="7142"/>
                  <a:pt x="19273" y="71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88120" y="2446200"/>
            <a:ext cx="420840" cy="189000"/>
          </a:xfrm>
          <a:custGeom>
            <a:avLst/>
            <a:gdLst/>
            <a:ahLst/>
            <a:rect l="l" t="t" r="r" b="b"/>
            <a:pathLst>
              <a:path w="1167" h="522">
                <a:moveTo>
                  <a:pt x="19968" y="7317"/>
                </a:moveTo>
                <a:cubicBezTo>
                  <a:pt x="19976" y="7317"/>
                  <a:pt x="19985" y="7317"/>
                  <a:pt x="19993" y="7317"/>
                </a:cubicBezTo>
              </a:path>
              <a:path w="1167" h="522">
                <a:moveTo>
                  <a:pt x="20265" y="6896"/>
                </a:moveTo>
                <a:cubicBezTo>
                  <a:pt x="20292" y="6860"/>
                  <a:pt x="20282" y="6857"/>
                  <a:pt x="20315" y="6846"/>
                </a:cubicBezTo>
                <a:cubicBezTo>
                  <a:pt x="20303" y="6896"/>
                  <a:pt x="20259" y="6916"/>
                  <a:pt x="20241" y="6970"/>
                </a:cubicBezTo>
                <a:cubicBezTo>
                  <a:pt x="20232" y="6996"/>
                  <a:pt x="20241" y="7041"/>
                  <a:pt x="20241" y="7069"/>
                </a:cubicBezTo>
                <a:cubicBezTo>
                  <a:pt x="20308" y="7069"/>
                  <a:pt x="20387" y="7052"/>
                  <a:pt x="20439" y="7094"/>
                </a:cubicBezTo>
                <a:cubicBezTo>
                  <a:pt x="20473" y="7121"/>
                  <a:pt x="20509" y="7178"/>
                  <a:pt x="20513" y="7218"/>
                </a:cubicBezTo>
                <a:cubicBezTo>
                  <a:pt x="20520" y="7282"/>
                  <a:pt x="20457" y="7268"/>
                  <a:pt x="20414" y="7268"/>
                </a:cubicBezTo>
                <a:cubicBezTo>
                  <a:pt x="20343" y="7268"/>
                  <a:pt x="20304" y="7271"/>
                  <a:pt x="20241" y="7243"/>
                </a:cubicBezTo>
              </a:path>
              <a:path w="1167" h="522">
                <a:moveTo>
                  <a:pt x="20588" y="6871"/>
                </a:moveTo>
                <a:cubicBezTo>
                  <a:pt x="20608" y="6802"/>
                  <a:pt x="20612" y="6796"/>
                  <a:pt x="20538" y="6796"/>
                </a:cubicBezTo>
                <a:cubicBezTo>
                  <a:pt x="20476" y="6796"/>
                  <a:pt x="20436" y="6786"/>
                  <a:pt x="20389" y="6821"/>
                </a:cubicBezTo>
              </a:path>
              <a:path w="1167" h="522">
                <a:moveTo>
                  <a:pt x="20786" y="6871"/>
                </a:moveTo>
                <a:cubicBezTo>
                  <a:pt x="20786" y="6829"/>
                  <a:pt x="20778" y="6813"/>
                  <a:pt x="20811" y="6821"/>
                </a:cubicBezTo>
                <a:cubicBezTo>
                  <a:pt x="20867" y="6840"/>
                  <a:pt x="20820" y="6871"/>
                  <a:pt x="20811" y="6921"/>
                </a:cubicBezTo>
                <a:cubicBezTo>
                  <a:pt x="20799" y="6986"/>
                  <a:pt x="20791" y="7055"/>
                  <a:pt x="20786" y="7119"/>
                </a:cubicBezTo>
                <a:cubicBezTo>
                  <a:pt x="20782" y="7172"/>
                  <a:pt x="20822" y="7169"/>
                  <a:pt x="20861" y="7169"/>
                </a:cubicBezTo>
                <a:cubicBezTo>
                  <a:pt x="20908" y="7169"/>
                  <a:pt x="20940" y="7149"/>
                  <a:pt x="20985" y="7144"/>
                </a:cubicBezTo>
                <a:cubicBezTo>
                  <a:pt x="21036" y="7139"/>
                  <a:pt x="21121" y="7130"/>
                  <a:pt x="21134" y="7169"/>
                </a:cubicBezTo>
              </a:path>
              <a:path w="1167" h="522">
                <a:moveTo>
                  <a:pt x="21034" y="7020"/>
                </a:moveTo>
                <a:cubicBezTo>
                  <a:pt x="21026" y="7012"/>
                  <a:pt x="21018" y="7003"/>
                  <a:pt x="21010" y="6995"/>
                </a:cubicBezTo>
                <a:cubicBezTo>
                  <a:pt x="21010" y="7068"/>
                  <a:pt x="21019" y="7124"/>
                  <a:pt x="21034" y="7193"/>
                </a:cubicBezTo>
                <a:cubicBezTo>
                  <a:pt x="21034" y="7201"/>
                  <a:pt x="21034" y="7210"/>
                  <a:pt x="21034" y="72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05800" y="2428920"/>
            <a:ext cx="509400" cy="169920"/>
          </a:xfrm>
          <a:custGeom>
            <a:avLst/>
            <a:gdLst/>
            <a:ahLst/>
            <a:rect l="l" t="t" r="r" b="b"/>
            <a:pathLst>
              <a:path w="1415" h="472">
                <a:moveTo>
                  <a:pt x="21630" y="7020"/>
                </a:moveTo>
                <a:cubicBezTo>
                  <a:pt x="21685" y="7020"/>
                  <a:pt x="21730" y="7020"/>
                  <a:pt x="21654" y="7020"/>
                </a:cubicBezTo>
                <a:cubicBezTo>
                  <a:pt x="21571" y="7020"/>
                  <a:pt x="21489" y="7020"/>
                  <a:pt x="21406" y="7020"/>
                </a:cubicBezTo>
              </a:path>
              <a:path w="1415" h="472">
                <a:moveTo>
                  <a:pt x="21506" y="6896"/>
                </a:moveTo>
                <a:cubicBezTo>
                  <a:pt x="21544" y="6909"/>
                  <a:pt x="21553" y="6944"/>
                  <a:pt x="21555" y="6995"/>
                </a:cubicBezTo>
                <a:cubicBezTo>
                  <a:pt x="21558" y="7069"/>
                  <a:pt x="21555" y="7144"/>
                  <a:pt x="21555" y="7218"/>
                </a:cubicBezTo>
              </a:path>
              <a:path w="1415" h="472">
                <a:moveTo>
                  <a:pt x="21927" y="6970"/>
                </a:moveTo>
                <a:cubicBezTo>
                  <a:pt x="21927" y="7037"/>
                  <a:pt x="21927" y="6933"/>
                  <a:pt x="21927" y="6921"/>
                </a:cubicBezTo>
                <a:cubicBezTo>
                  <a:pt x="21927" y="6871"/>
                  <a:pt x="21932" y="6807"/>
                  <a:pt x="21977" y="6772"/>
                </a:cubicBezTo>
                <a:cubicBezTo>
                  <a:pt x="22000" y="6754"/>
                  <a:pt x="22088" y="6782"/>
                  <a:pt x="22101" y="6796"/>
                </a:cubicBezTo>
                <a:cubicBezTo>
                  <a:pt x="22155" y="6855"/>
                  <a:pt x="22151" y="6947"/>
                  <a:pt x="22151" y="7020"/>
                </a:cubicBezTo>
                <a:cubicBezTo>
                  <a:pt x="22151" y="7079"/>
                  <a:pt x="22115" y="7129"/>
                  <a:pt x="22051" y="7144"/>
                </a:cubicBezTo>
                <a:cubicBezTo>
                  <a:pt x="22005" y="7155"/>
                  <a:pt x="21938" y="7152"/>
                  <a:pt x="21927" y="7119"/>
                </a:cubicBezTo>
              </a:path>
              <a:path w="1415" h="472">
                <a:moveTo>
                  <a:pt x="22299" y="7119"/>
                </a:moveTo>
                <a:cubicBezTo>
                  <a:pt x="22327" y="7119"/>
                  <a:pt x="22338" y="7121"/>
                  <a:pt x="22349" y="7144"/>
                </a:cubicBezTo>
              </a:path>
              <a:path w="1415" h="472">
                <a:moveTo>
                  <a:pt x="22547" y="6945"/>
                </a:moveTo>
                <a:cubicBezTo>
                  <a:pt x="22547" y="6894"/>
                  <a:pt x="22538" y="6859"/>
                  <a:pt x="22572" y="6821"/>
                </a:cubicBezTo>
                <a:cubicBezTo>
                  <a:pt x="22608" y="6780"/>
                  <a:pt x="22660" y="6728"/>
                  <a:pt x="22721" y="6747"/>
                </a:cubicBezTo>
                <a:cubicBezTo>
                  <a:pt x="22792" y="6769"/>
                  <a:pt x="22817" y="6828"/>
                  <a:pt x="22820" y="6896"/>
                </a:cubicBezTo>
                <a:cubicBezTo>
                  <a:pt x="22822" y="6953"/>
                  <a:pt x="22838" y="7040"/>
                  <a:pt x="22771" y="7069"/>
                </a:cubicBezTo>
                <a:cubicBezTo>
                  <a:pt x="22716" y="7093"/>
                  <a:pt x="22681" y="7054"/>
                  <a:pt x="22647" y="7020"/>
                </a:cubicBezTo>
                <a:cubicBezTo>
                  <a:pt x="22622" y="6995"/>
                  <a:pt x="22614" y="6987"/>
                  <a:pt x="22597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40840" y="2411280"/>
            <a:ext cx="115920" cy="160560"/>
          </a:xfrm>
          <a:custGeom>
            <a:avLst/>
            <a:gdLst/>
            <a:ahLst/>
            <a:rect l="l" t="t" r="r" b="b"/>
            <a:pathLst>
              <a:path w="323" h="448">
                <a:moveTo>
                  <a:pt x="23366" y="6796"/>
                </a:moveTo>
                <a:cubicBezTo>
                  <a:pt x="23418" y="6774"/>
                  <a:pt x="23428" y="6784"/>
                  <a:pt x="23440" y="6747"/>
                </a:cubicBezTo>
                <a:cubicBezTo>
                  <a:pt x="23409" y="6723"/>
                  <a:pt x="23333" y="6687"/>
                  <a:pt x="23292" y="6697"/>
                </a:cubicBezTo>
                <a:cubicBezTo>
                  <a:pt x="23258" y="6705"/>
                  <a:pt x="23183" y="6761"/>
                  <a:pt x="23168" y="6796"/>
                </a:cubicBezTo>
                <a:cubicBezTo>
                  <a:pt x="23168" y="6821"/>
                  <a:pt x="23168" y="6829"/>
                  <a:pt x="23168" y="6846"/>
                </a:cubicBezTo>
                <a:cubicBezTo>
                  <a:pt x="23210" y="6857"/>
                  <a:pt x="23278" y="6892"/>
                  <a:pt x="23316" y="6921"/>
                </a:cubicBezTo>
                <a:cubicBezTo>
                  <a:pt x="23371" y="6964"/>
                  <a:pt x="23420" y="7027"/>
                  <a:pt x="23440" y="7094"/>
                </a:cubicBezTo>
                <a:cubicBezTo>
                  <a:pt x="23440" y="7122"/>
                  <a:pt x="23438" y="7133"/>
                  <a:pt x="23416" y="7144"/>
                </a:cubicBezTo>
                <a:cubicBezTo>
                  <a:pt x="23364" y="7144"/>
                  <a:pt x="23283" y="7160"/>
                  <a:pt x="23242" y="7119"/>
                </a:cubicBezTo>
                <a:cubicBezTo>
                  <a:pt x="23185" y="7061"/>
                  <a:pt x="23193" y="7007"/>
                  <a:pt x="23242" y="6945"/>
                </a:cubicBezTo>
                <a:cubicBezTo>
                  <a:pt x="23282" y="6894"/>
                  <a:pt x="23381" y="6773"/>
                  <a:pt x="23440" y="6747"/>
                </a:cubicBezTo>
                <a:cubicBezTo>
                  <a:pt x="23457" y="6747"/>
                  <a:pt x="23473" y="6747"/>
                  <a:pt x="23490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70840" y="2776680"/>
            <a:ext cx="115920" cy="72720"/>
          </a:xfrm>
          <a:custGeom>
            <a:avLst/>
            <a:gdLst/>
            <a:ahLst/>
            <a:rect l="l" t="t" r="r" b="b"/>
            <a:pathLst>
              <a:path w="324" h="200">
                <a:moveTo>
                  <a:pt x="20141" y="7739"/>
                </a:moveTo>
                <a:cubicBezTo>
                  <a:pt x="20166" y="7739"/>
                  <a:pt x="20174" y="7739"/>
                  <a:pt x="20191" y="7739"/>
                </a:cubicBezTo>
                <a:cubicBezTo>
                  <a:pt x="20178" y="7701"/>
                  <a:pt x="20162" y="7714"/>
                  <a:pt x="20117" y="7714"/>
                </a:cubicBezTo>
                <a:cubicBezTo>
                  <a:pt x="20051" y="7714"/>
                  <a:pt x="20044" y="7722"/>
                  <a:pt x="19993" y="7739"/>
                </a:cubicBezTo>
                <a:cubicBezTo>
                  <a:pt x="19974" y="7745"/>
                  <a:pt x="19938" y="7739"/>
                  <a:pt x="19918" y="7739"/>
                </a:cubicBezTo>
              </a:path>
              <a:path w="324" h="200">
                <a:moveTo>
                  <a:pt x="20216" y="7913"/>
                </a:moveTo>
                <a:cubicBezTo>
                  <a:pt x="20224" y="7913"/>
                  <a:pt x="20233" y="7913"/>
                  <a:pt x="20241" y="7913"/>
                </a:cubicBezTo>
                <a:cubicBezTo>
                  <a:pt x="20199" y="7881"/>
                  <a:pt x="20173" y="7888"/>
                  <a:pt x="20117" y="7888"/>
                </a:cubicBezTo>
                <a:cubicBezTo>
                  <a:pt x="20085" y="7888"/>
                  <a:pt x="20072" y="7905"/>
                  <a:pt x="20042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2670120"/>
            <a:ext cx="723960" cy="179280"/>
          </a:xfrm>
          <a:custGeom>
            <a:avLst/>
            <a:gdLst/>
            <a:ahLst/>
            <a:rect l="l" t="t" r="r" b="b"/>
            <a:pathLst>
              <a:path w="2010" h="497">
                <a:moveTo>
                  <a:pt x="21332" y="7665"/>
                </a:moveTo>
                <a:cubicBezTo>
                  <a:pt x="21332" y="7729"/>
                  <a:pt x="21332" y="7626"/>
                  <a:pt x="21332" y="7615"/>
                </a:cubicBezTo>
                <a:cubicBezTo>
                  <a:pt x="21332" y="7591"/>
                  <a:pt x="21358" y="7528"/>
                  <a:pt x="21382" y="7516"/>
                </a:cubicBezTo>
                <a:cubicBezTo>
                  <a:pt x="21401" y="7506"/>
                  <a:pt x="21453" y="7476"/>
                  <a:pt x="21481" y="7491"/>
                </a:cubicBezTo>
                <a:cubicBezTo>
                  <a:pt x="21529" y="7518"/>
                  <a:pt x="21582" y="7564"/>
                  <a:pt x="21605" y="7615"/>
                </a:cubicBezTo>
                <a:cubicBezTo>
                  <a:pt x="21631" y="7671"/>
                  <a:pt x="21678" y="7773"/>
                  <a:pt x="21654" y="7838"/>
                </a:cubicBezTo>
                <a:cubicBezTo>
                  <a:pt x="21629" y="7905"/>
                  <a:pt x="21595" y="7913"/>
                  <a:pt x="21530" y="7913"/>
                </a:cubicBezTo>
                <a:cubicBezTo>
                  <a:pt x="21449" y="7913"/>
                  <a:pt x="21407" y="7913"/>
                  <a:pt x="21357" y="7838"/>
                </a:cubicBezTo>
                <a:cubicBezTo>
                  <a:pt x="21321" y="7785"/>
                  <a:pt x="21332" y="7726"/>
                  <a:pt x="21332" y="7665"/>
                </a:cubicBezTo>
                <a:cubicBezTo>
                  <a:pt x="21332" y="7622"/>
                  <a:pt x="21348" y="7624"/>
                  <a:pt x="21382" y="7615"/>
                </a:cubicBezTo>
              </a:path>
              <a:path w="2010" h="497">
                <a:moveTo>
                  <a:pt x="22002" y="7913"/>
                </a:moveTo>
                <a:cubicBezTo>
                  <a:pt x="22002" y="7888"/>
                  <a:pt x="22002" y="7880"/>
                  <a:pt x="22027" y="7888"/>
                </a:cubicBezTo>
              </a:path>
              <a:path w="2010" h="497">
                <a:moveTo>
                  <a:pt x="22399" y="7516"/>
                </a:moveTo>
                <a:cubicBezTo>
                  <a:pt x="22423" y="7482"/>
                  <a:pt x="22444" y="7471"/>
                  <a:pt x="22448" y="7441"/>
                </a:cubicBezTo>
                <a:cubicBezTo>
                  <a:pt x="22448" y="7433"/>
                  <a:pt x="22448" y="7425"/>
                  <a:pt x="22448" y="7417"/>
                </a:cubicBezTo>
                <a:cubicBezTo>
                  <a:pt x="22432" y="7496"/>
                  <a:pt x="22394" y="7502"/>
                  <a:pt x="22349" y="7565"/>
                </a:cubicBezTo>
                <a:cubicBezTo>
                  <a:pt x="22318" y="7609"/>
                  <a:pt x="22268" y="7734"/>
                  <a:pt x="22299" y="7789"/>
                </a:cubicBezTo>
                <a:cubicBezTo>
                  <a:pt x="22347" y="7875"/>
                  <a:pt x="22383" y="7888"/>
                  <a:pt x="22473" y="7888"/>
                </a:cubicBezTo>
                <a:cubicBezTo>
                  <a:pt x="22548" y="7888"/>
                  <a:pt x="22566" y="7858"/>
                  <a:pt x="22572" y="7789"/>
                </a:cubicBezTo>
                <a:cubicBezTo>
                  <a:pt x="22577" y="7729"/>
                  <a:pt x="22517" y="7718"/>
                  <a:pt x="22473" y="7714"/>
                </a:cubicBezTo>
                <a:cubicBezTo>
                  <a:pt x="22438" y="7711"/>
                  <a:pt x="22408" y="7732"/>
                  <a:pt x="22374" y="7739"/>
                </a:cubicBezTo>
              </a:path>
              <a:path w="2010" h="497">
                <a:moveTo>
                  <a:pt x="22820" y="7615"/>
                </a:moveTo>
                <a:cubicBezTo>
                  <a:pt x="22820" y="7564"/>
                  <a:pt x="22811" y="7529"/>
                  <a:pt x="22845" y="7491"/>
                </a:cubicBezTo>
                <a:cubicBezTo>
                  <a:pt x="22894" y="7436"/>
                  <a:pt x="22921" y="7441"/>
                  <a:pt x="22994" y="7441"/>
                </a:cubicBezTo>
                <a:cubicBezTo>
                  <a:pt x="23068" y="7441"/>
                  <a:pt x="23089" y="7478"/>
                  <a:pt x="23093" y="7541"/>
                </a:cubicBezTo>
                <a:cubicBezTo>
                  <a:pt x="23096" y="7597"/>
                  <a:pt x="23035" y="7678"/>
                  <a:pt x="22994" y="7714"/>
                </a:cubicBezTo>
                <a:cubicBezTo>
                  <a:pt x="22941" y="7760"/>
                  <a:pt x="22895" y="7760"/>
                  <a:pt x="22895" y="7838"/>
                </a:cubicBezTo>
                <a:cubicBezTo>
                  <a:pt x="22962" y="7838"/>
                  <a:pt x="23007" y="7823"/>
                  <a:pt x="23068" y="7813"/>
                </a:cubicBezTo>
                <a:cubicBezTo>
                  <a:pt x="23156" y="7798"/>
                  <a:pt x="23261" y="7816"/>
                  <a:pt x="23316" y="7789"/>
                </a:cubicBezTo>
                <a:cubicBezTo>
                  <a:pt x="23324" y="7789"/>
                  <a:pt x="23333" y="7789"/>
                  <a:pt x="23341" y="7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05760" y="608040"/>
            <a:ext cx="108000" cy="222120"/>
          </a:xfrm>
          <a:custGeom>
            <a:avLst/>
            <a:gdLst/>
            <a:ahLst/>
            <a:rect l="l" t="t" r="r" b="b"/>
            <a:pathLst>
              <a:path w="299" h="621">
                <a:moveTo>
                  <a:pt x="20166" y="1836"/>
                </a:moveTo>
                <a:cubicBezTo>
                  <a:pt x="20147" y="1773"/>
                  <a:pt x="20141" y="1748"/>
                  <a:pt x="20141" y="1687"/>
                </a:cubicBezTo>
                <a:cubicBezTo>
                  <a:pt x="20094" y="1719"/>
                  <a:pt x="20130" y="1793"/>
                  <a:pt x="20117" y="1860"/>
                </a:cubicBezTo>
                <a:cubicBezTo>
                  <a:pt x="20096" y="1970"/>
                  <a:pt x="20092" y="2069"/>
                  <a:pt x="20092" y="2183"/>
                </a:cubicBezTo>
                <a:cubicBezTo>
                  <a:pt x="20092" y="2232"/>
                  <a:pt x="20092" y="2249"/>
                  <a:pt x="20092" y="2282"/>
                </a:cubicBezTo>
                <a:cubicBezTo>
                  <a:pt x="20092" y="2336"/>
                  <a:pt x="20105" y="2209"/>
                  <a:pt x="20117" y="2183"/>
                </a:cubicBezTo>
                <a:cubicBezTo>
                  <a:pt x="20140" y="2133"/>
                  <a:pt x="20165" y="2033"/>
                  <a:pt x="20241" y="2059"/>
                </a:cubicBezTo>
                <a:cubicBezTo>
                  <a:pt x="20308" y="2082"/>
                  <a:pt x="20315" y="2150"/>
                  <a:pt x="20315" y="2208"/>
                </a:cubicBezTo>
                <a:cubicBezTo>
                  <a:pt x="20315" y="2297"/>
                  <a:pt x="20181" y="2244"/>
                  <a:pt x="20141" y="2232"/>
                </a:cubicBezTo>
                <a:cubicBezTo>
                  <a:pt x="20076" y="2211"/>
                  <a:pt x="20060" y="2203"/>
                  <a:pt x="20017" y="22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02680" y="581040"/>
            <a:ext cx="258480" cy="268200"/>
          </a:xfrm>
          <a:custGeom>
            <a:avLst/>
            <a:gdLst/>
            <a:ahLst/>
            <a:rect l="l" t="t" r="r" b="b"/>
            <a:pathLst>
              <a:path w="720" h="745">
                <a:moveTo>
                  <a:pt x="20712" y="1984"/>
                </a:moveTo>
                <a:cubicBezTo>
                  <a:pt x="20712" y="2075"/>
                  <a:pt x="20712" y="2166"/>
                  <a:pt x="20712" y="2257"/>
                </a:cubicBezTo>
              </a:path>
              <a:path w="720" h="745">
                <a:moveTo>
                  <a:pt x="20786" y="1984"/>
                </a:moveTo>
                <a:cubicBezTo>
                  <a:pt x="20825" y="1939"/>
                  <a:pt x="20826" y="1922"/>
                  <a:pt x="20861" y="1910"/>
                </a:cubicBezTo>
                <a:cubicBezTo>
                  <a:pt x="20891" y="1960"/>
                  <a:pt x="20886" y="1997"/>
                  <a:pt x="20886" y="2059"/>
                </a:cubicBezTo>
                <a:cubicBezTo>
                  <a:pt x="20886" y="2109"/>
                  <a:pt x="20886" y="2158"/>
                  <a:pt x="20886" y="2208"/>
                </a:cubicBezTo>
              </a:path>
              <a:path w="720" h="745">
                <a:moveTo>
                  <a:pt x="20861" y="1786"/>
                </a:moveTo>
                <a:cubicBezTo>
                  <a:pt x="20861" y="1761"/>
                  <a:pt x="20861" y="1753"/>
                  <a:pt x="20836" y="1761"/>
                </a:cubicBezTo>
              </a:path>
              <a:path w="720" h="745">
                <a:moveTo>
                  <a:pt x="20588" y="1736"/>
                </a:moveTo>
                <a:cubicBezTo>
                  <a:pt x="20566" y="1714"/>
                  <a:pt x="20557" y="1703"/>
                  <a:pt x="20563" y="1736"/>
                </a:cubicBezTo>
              </a:path>
              <a:path w="720" h="745">
                <a:moveTo>
                  <a:pt x="20811" y="1662"/>
                </a:moveTo>
                <a:cubicBezTo>
                  <a:pt x="20820" y="1636"/>
                  <a:pt x="20830" y="1614"/>
                  <a:pt x="20861" y="1612"/>
                </a:cubicBezTo>
                <a:cubicBezTo>
                  <a:pt x="20945" y="1605"/>
                  <a:pt x="21034" y="1623"/>
                  <a:pt x="21109" y="1662"/>
                </a:cubicBezTo>
                <a:cubicBezTo>
                  <a:pt x="21213" y="1716"/>
                  <a:pt x="21267" y="1822"/>
                  <a:pt x="21282" y="1935"/>
                </a:cubicBezTo>
                <a:cubicBezTo>
                  <a:pt x="21298" y="2056"/>
                  <a:pt x="21274" y="2169"/>
                  <a:pt x="21183" y="2257"/>
                </a:cubicBezTo>
                <a:cubicBezTo>
                  <a:pt x="21114" y="2303"/>
                  <a:pt x="21094" y="2316"/>
                  <a:pt x="21059" y="23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16840" y="1081080"/>
            <a:ext cx="785880" cy="222120"/>
          </a:xfrm>
          <a:custGeom>
            <a:avLst/>
            <a:gdLst/>
            <a:ahLst/>
            <a:rect l="l" t="t" r="r" b="b"/>
            <a:pathLst>
              <a:path w="2184" h="621">
                <a:moveTo>
                  <a:pt x="19819" y="3274"/>
                </a:moveTo>
                <a:cubicBezTo>
                  <a:pt x="19819" y="3315"/>
                  <a:pt x="19783" y="3255"/>
                  <a:pt x="19769" y="3225"/>
                </a:cubicBezTo>
                <a:cubicBezTo>
                  <a:pt x="19750" y="3182"/>
                  <a:pt x="19767" y="3107"/>
                  <a:pt x="19794" y="3076"/>
                </a:cubicBezTo>
                <a:cubicBezTo>
                  <a:pt x="19864" y="2996"/>
                  <a:pt x="19890" y="2986"/>
                  <a:pt x="19993" y="3026"/>
                </a:cubicBezTo>
                <a:cubicBezTo>
                  <a:pt x="20063" y="3053"/>
                  <a:pt x="20128" y="3200"/>
                  <a:pt x="20141" y="3274"/>
                </a:cubicBezTo>
                <a:cubicBezTo>
                  <a:pt x="20155" y="3351"/>
                  <a:pt x="20153" y="3482"/>
                  <a:pt x="20067" y="3522"/>
                </a:cubicBezTo>
                <a:cubicBezTo>
                  <a:pt x="19981" y="3562"/>
                  <a:pt x="19919" y="3474"/>
                  <a:pt x="19869" y="3423"/>
                </a:cubicBezTo>
                <a:cubicBezTo>
                  <a:pt x="19826" y="3380"/>
                  <a:pt x="19835" y="3318"/>
                  <a:pt x="19869" y="3274"/>
                </a:cubicBezTo>
                <a:cubicBezTo>
                  <a:pt x="19877" y="3266"/>
                  <a:pt x="19885" y="3257"/>
                  <a:pt x="19893" y="3249"/>
                </a:cubicBezTo>
              </a:path>
              <a:path w="2184" h="621">
                <a:moveTo>
                  <a:pt x="20464" y="3497"/>
                </a:moveTo>
                <a:cubicBezTo>
                  <a:pt x="20489" y="3497"/>
                  <a:pt x="20497" y="3497"/>
                  <a:pt x="20513" y="3497"/>
                </a:cubicBezTo>
              </a:path>
              <a:path w="2184" h="621">
                <a:moveTo>
                  <a:pt x="20762" y="3175"/>
                </a:moveTo>
                <a:cubicBezTo>
                  <a:pt x="20784" y="3152"/>
                  <a:pt x="20789" y="3144"/>
                  <a:pt x="20811" y="3150"/>
                </a:cubicBezTo>
                <a:cubicBezTo>
                  <a:pt x="20798" y="3188"/>
                  <a:pt x="20777" y="3187"/>
                  <a:pt x="20762" y="3249"/>
                </a:cubicBezTo>
                <a:cubicBezTo>
                  <a:pt x="20755" y="3279"/>
                  <a:pt x="20755" y="3333"/>
                  <a:pt x="20786" y="3349"/>
                </a:cubicBezTo>
                <a:cubicBezTo>
                  <a:pt x="20822" y="3367"/>
                  <a:pt x="20894" y="3357"/>
                  <a:pt x="20935" y="3373"/>
                </a:cubicBezTo>
                <a:cubicBezTo>
                  <a:pt x="20968" y="3386"/>
                  <a:pt x="21039" y="3422"/>
                  <a:pt x="21010" y="3473"/>
                </a:cubicBezTo>
                <a:cubicBezTo>
                  <a:pt x="20995" y="3499"/>
                  <a:pt x="20906" y="3518"/>
                  <a:pt x="20886" y="3522"/>
                </a:cubicBezTo>
                <a:cubicBezTo>
                  <a:pt x="20841" y="3522"/>
                  <a:pt x="20828" y="3525"/>
                  <a:pt x="20811" y="3497"/>
                </a:cubicBezTo>
              </a:path>
              <a:path w="2184" h="621">
                <a:moveTo>
                  <a:pt x="21134" y="3150"/>
                </a:moveTo>
                <a:cubicBezTo>
                  <a:pt x="21191" y="3131"/>
                  <a:pt x="21234" y="3122"/>
                  <a:pt x="21183" y="3125"/>
                </a:cubicBezTo>
                <a:cubicBezTo>
                  <a:pt x="21118" y="3138"/>
                  <a:pt x="21050" y="3165"/>
                  <a:pt x="20985" y="3175"/>
                </a:cubicBezTo>
                <a:cubicBezTo>
                  <a:pt x="20968" y="3175"/>
                  <a:pt x="20952" y="3175"/>
                  <a:pt x="20935" y="3175"/>
                </a:cubicBezTo>
              </a:path>
              <a:path w="2184" h="621">
                <a:moveTo>
                  <a:pt x="21406" y="3051"/>
                </a:moveTo>
                <a:cubicBezTo>
                  <a:pt x="21460" y="3051"/>
                  <a:pt x="21499" y="3039"/>
                  <a:pt x="21506" y="3101"/>
                </a:cubicBezTo>
                <a:cubicBezTo>
                  <a:pt x="21514" y="3169"/>
                  <a:pt x="21495" y="3213"/>
                  <a:pt x="21481" y="3274"/>
                </a:cubicBezTo>
                <a:cubicBezTo>
                  <a:pt x="21468" y="3328"/>
                  <a:pt x="21501" y="3350"/>
                  <a:pt x="21530" y="3373"/>
                </a:cubicBezTo>
                <a:cubicBezTo>
                  <a:pt x="21565" y="3401"/>
                  <a:pt x="21631" y="3416"/>
                  <a:pt x="21679" y="3398"/>
                </a:cubicBezTo>
                <a:cubicBezTo>
                  <a:pt x="21722" y="3381"/>
                  <a:pt x="21750" y="3373"/>
                  <a:pt x="21803" y="3373"/>
                </a:cubicBezTo>
                <a:cubicBezTo>
                  <a:pt x="21856" y="3373"/>
                  <a:pt x="21938" y="3355"/>
                  <a:pt x="21952" y="3398"/>
                </a:cubicBezTo>
              </a:path>
              <a:path w="2184" h="621">
                <a:moveTo>
                  <a:pt x="21853" y="3249"/>
                </a:moveTo>
                <a:cubicBezTo>
                  <a:pt x="21845" y="3249"/>
                  <a:pt x="21836" y="3249"/>
                  <a:pt x="21828" y="3249"/>
                </a:cubicBezTo>
                <a:cubicBezTo>
                  <a:pt x="21828" y="3373"/>
                  <a:pt x="21828" y="3497"/>
                  <a:pt x="21828" y="3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00240" y="2241720"/>
            <a:ext cx="162000" cy="125280"/>
          </a:xfrm>
          <a:custGeom>
            <a:avLst/>
            <a:gdLst/>
            <a:ahLst/>
            <a:rect l="l" t="t" r="r" b="b"/>
            <a:pathLst>
              <a:path w="448" h="348">
                <a:moveTo>
                  <a:pt x="8706" y="6226"/>
                </a:moveTo>
                <a:cubicBezTo>
                  <a:pt x="8698" y="6226"/>
                  <a:pt x="8690" y="6226"/>
                  <a:pt x="8682" y="6226"/>
                </a:cubicBezTo>
                <a:cubicBezTo>
                  <a:pt x="8671" y="6271"/>
                  <a:pt x="8648" y="6328"/>
                  <a:pt x="8632" y="6375"/>
                </a:cubicBezTo>
                <a:cubicBezTo>
                  <a:pt x="8616" y="6422"/>
                  <a:pt x="8582" y="6509"/>
                  <a:pt x="8558" y="6548"/>
                </a:cubicBezTo>
                <a:cubicBezTo>
                  <a:pt x="8550" y="6556"/>
                  <a:pt x="8541" y="6565"/>
                  <a:pt x="8533" y="6573"/>
                </a:cubicBezTo>
              </a:path>
              <a:path w="448" h="348">
                <a:moveTo>
                  <a:pt x="8781" y="6449"/>
                </a:moveTo>
                <a:cubicBezTo>
                  <a:pt x="8771" y="6420"/>
                  <a:pt x="8702" y="6385"/>
                  <a:pt x="8657" y="6375"/>
                </a:cubicBezTo>
                <a:cubicBezTo>
                  <a:pt x="8579" y="6358"/>
                  <a:pt x="8489" y="6336"/>
                  <a:pt x="8409" y="6325"/>
                </a:cubicBezTo>
                <a:cubicBezTo>
                  <a:pt x="8367" y="6325"/>
                  <a:pt x="8359" y="6325"/>
                  <a:pt x="8334" y="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86080" y="1490760"/>
            <a:ext cx="108000" cy="117360"/>
          </a:xfrm>
          <a:custGeom>
            <a:avLst/>
            <a:gdLst/>
            <a:ahLst/>
            <a:rect l="l" t="t" r="r" b="b"/>
            <a:pathLst>
              <a:path w="299" h="324">
                <a:moveTo>
                  <a:pt x="9302" y="4242"/>
                </a:moveTo>
                <a:cubicBezTo>
                  <a:pt x="9302" y="4188"/>
                  <a:pt x="9314" y="4205"/>
                  <a:pt x="9327" y="4167"/>
                </a:cubicBezTo>
                <a:cubicBezTo>
                  <a:pt x="9271" y="4125"/>
                  <a:pt x="9291" y="4148"/>
                  <a:pt x="9252" y="4192"/>
                </a:cubicBezTo>
                <a:cubicBezTo>
                  <a:pt x="9206" y="4244"/>
                  <a:pt x="9192" y="4310"/>
                  <a:pt x="9153" y="4366"/>
                </a:cubicBezTo>
                <a:cubicBezTo>
                  <a:pt x="9133" y="4395"/>
                  <a:pt x="9128" y="4490"/>
                  <a:pt x="9128" y="4440"/>
                </a:cubicBezTo>
              </a:path>
              <a:path w="299" h="324">
                <a:moveTo>
                  <a:pt x="9426" y="4341"/>
                </a:moveTo>
                <a:cubicBezTo>
                  <a:pt x="9426" y="4316"/>
                  <a:pt x="9426" y="4308"/>
                  <a:pt x="9426" y="4291"/>
                </a:cubicBezTo>
                <a:cubicBezTo>
                  <a:pt x="9387" y="4281"/>
                  <a:pt x="9341" y="4258"/>
                  <a:pt x="9302" y="4242"/>
                </a:cubicBezTo>
                <a:cubicBezTo>
                  <a:pt x="9253" y="4223"/>
                  <a:pt x="9192" y="4218"/>
                  <a:pt x="9153" y="4192"/>
                </a:cubicBezTo>
                <a:cubicBezTo>
                  <a:pt x="9145" y="4184"/>
                  <a:pt x="9136" y="4175"/>
                  <a:pt x="9128" y="41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48160" y="3527280"/>
            <a:ext cx="3502080" cy="1465560"/>
          </a:xfrm>
          <a:custGeom>
            <a:avLst/>
            <a:gdLst/>
            <a:ahLst/>
            <a:rect l="l" t="t" r="r" b="b"/>
            <a:pathLst>
              <a:path w="9724" h="4069">
                <a:moveTo>
                  <a:pt x="15280" y="11931"/>
                </a:moveTo>
                <a:cubicBezTo>
                  <a:pt x="15296" y="11898"/>
                  <a:pt x="15281" y="11909"/>
                  <a:pt x="15304" y="11881"/>
                </a:cubicBezTo>
                <a:cubicBezTo>
                  <a:pt x="15348" y="11827"/>
                  <a:pt x="15449" y="11752"/>
                  <a:pt x="15503" y="11708"/>
                </a:cubicBezTo>
                <a:cubicBezTo>
                  <a:pt x="15623" y="11611"/>
                  <a:pt x="15752" y="11500"/>
                  <a:pt x="15875" y="11410"/>
                </a:cubicBezTo>
                <a:cubicBezTo>
                  <a:pt x="16008" y="11313"/>
                  <a:pt x="16152" y="11215"/>
                  <a:pt x="16297" y="11137"/>
                </a:cubicBezTo>
                <a:cubicBezTo>
                  <a:pt x="16382" y="11091"/>
                  <a:pt x="16460" y="11088"/>
                  <a:pt x="16545" y="11063"/>
                </a:cubicBezTo>
                <a:cubicBezTo>
                  <a:pt x="16594" y="11038"/>
                  <a:pt x="16611" y="11029"/>
                  <a:pt x="16644" y="11013"/>
                </a:cubicBezTo>
              </a:path>
              <a:path w="9724" h="4069">
                <a:moveTo>
                  <a:pt x="15280" y="12055"/>
                </a:moveTo>
                <a:cubicBezTo>
                  <a:pt x="15321" y="12060"/>
                  <a:pt x="15342" y="12067"/>
                  <a:pt x="15379" y="12080"/>
                </a:cubicBezTo>
                <a:cubicBezTo>
                  <a:pt x="15430" y="12098"/>
                  <a:pt x="15499" y="12120"/>
                  <a:pt x="15553" y="12129"/>
                </a:cubicBezTo>
                <a:cubicBezTo>
                  <a:pt x="15631" y="12142"/>
                  <a:pt x="15699" y="12188"/>
                  <a:pt x="15776" y="12204"/>
                </a:cubicBezTo>
                <a:cubicBezTo>
                  <a:pt x="15899" y="12230"/>
                  <a:pt x="16024" y="12250"/>
                  <a:pt x="16148" y="12278"/>
                </a:cubicBezTo>
                <a:cubicBezTo>
                  <a:pt x="16274" y="12307"/>
                  <a:pt x="16380" y="12353"/>
                  <a:pt x="16495" y="12402"/>
                </a:cubicBezTo>
                <a:cubicBezTo>
                  <a:pt x="16596" y="12445"/>
                  <a:pt x="16687" y="12491"/>
                  <a:pt x="16793" y="12526"/>
                </a:cubicBezTo>
                <a:cubicBezTo>
                  <a:pt x="16875" y="12553"/>
                  <a:pt x="16964" y="12575"/>
                  <a:pt x="17041" y="12601"/>
                </a:cubicBezTo>
                <a:cubicBezTo>
                  <a:pt x="17057" y="12609"/>
                  <a:pt x="17074" y="12618"/>
                  <a:pt x="17090" y="12626"/>
                </a:cubicBezTo>
              </a:path>
              <a:path w="9724" h="4069">
                <a:moveTo>
                  <a:pt x="14982" y="11038"/>
                </a:moveTo>
                <a:cubicBezTo>
                  <a:pt x="14944" y="11025"/>
                  <a:pt x="14957" y="11009"/>
                  <a:pt x="14957" y="10964"/>
                </a:cubicBezTo>
                <a:cubicBezTo>
                  <a:pt x="14957" y="10906"/>
                  <a:pt x="14986" y="10893"/>
                  <a:pt x="15032" y="10889"/>
                </a:cubicBezTo>
                <a:cubicBezTo>
                  <a:pt x="15072" y="10885"/>
                  <a:pt x="15140" y="10894"/>
                  <a:pt x="15156" y="10939"/>
                </a:cubicBezTo>
                <a:cubicBezTo>
                  <a:pt x="15174" y="10988"/>
                  <a:pt x="15160" y="11076"/>
                  <a:pt x="15131" y="11112"/>
                </a:cubicBezTo>
                <a:cubicBezTo>
                  <a:pt x="15104" y="11146"/>
                  <a:pt x="15022" y="11152"/>
                  <a:pt x="14982" y="11137"/>
                </a:cubicBezTo>
                <a:cubicBezTo>
                  <a:pt x="14957" y="11112"/>
                  <a:pt x="14949" y="11104"/>
                  <a:pt x="14932" y="11088"/>
                </a:cubicBezTo>
              </a:path>
              <a:path w="9724" h="4069">
                <a:moveTo>
                  <a:pt x="15354" y="11063"/>
                </a:moveTo>
                <a:cubicBezTo>
                  <a:pt x="15362" y="11063"/>
                  <a:pt x="15371" y="11063"/>
                  <a:pt x="15379" y="11063"/>
                </a:cubicBezTo>
              </a:path>
              <a:path w="9724" h="4069">
                <a:moveTo>
                  <a:pt x="15627" y="10790"/>
                </a:moveTo>
                <a:cubicBezTo>
                  <a:pt x="15627" y="10747"/>
                  <a:pt x="15609" y="10794"/>
                  <a:pt x="15602" y="10815"/>
                </a:cubicBezTo>
                <a:cubicBezTo>
                  <a:pt x="15641" y="10846"/>
                  <a:pt x="15691" y="10866"/>
                  <a:pt x="15726" y="10889"/>
                </a:cubicBezTo>
                <a:cubicBezTo>
                  <a:pt x="15741" y="10899"/>
                  <a:pt x="15808" y="10964"/>
                  <a:pt x="15776" y="10988"/>
                </a:cubicBezTo>
                <a:cubicBezTo>
                  <a:pt x="15753" y="11006"/>
                  <a:pt x="15711" y="11013"/>
                  <a:pt x="15677" y="11013"/>
                </a:cubicBezTo>
                <a:cubicBezTo>
                  <a:pt x="15669" y="11013"/>
                  <a:pt x="15660" y="11013"/>
                  <a:pt x="15652" y="11013"/>
                </a:cubicBezTo>
              </a:path>
              <a:path w="9724" h="4069">
                <a:moveTo>
                  <a:pt x="15875" y="10765"/>
                </a:moveTo>
                <a:cubicBezTo>
                  <a:pt x="15875" y="10687"/>
                  <a:pt x="15830" y="10709"/>
                  <a:pt x="15776" y="10740"/>
                </a:cubicBezTo>
              </a:path>
              <a:path w="9724" h="4069">
                <a:moveTo>
                  <a:pt x="16073" y="10740"/>
                </a:moveTo>
                <a:cubicBezTo>
                  <a:pt x="16073" y="10716"/>
                  <a:pt x="16073" y="10708"/>
                  <a:pt x="16049" y="10716"/>
                </a:cubicBezTo>
                <a:cubicBezTo>
                  <a:pt x="16049" y="10754"/>
                  <a:pt x="16055" y="10781"/>
                  <a:pt x="16098" y="10790"/>
                </a:cubicBezTo>
                <a:cubicBezTo>
                  <a:pt x="16128" y="10797"/>
                  <a:pt x="16204" y="10814"/>
                  <a:pt x="16222" y="10840"/>
                </a:cubicBezTo>
                <a:cubicBezTo>
                  <a:pt x="16238" y="10864"/>
                  <a:pt x="16220" y="10927"/>
                  <a:pt x="16197" y="10939"/>
                </a:cubicBezTo>
                <a:cubicBezTo>
                  <a:pt x="16170" y="10953"/>
                  <a:pt x="16106" y="10939"/>
                  <a:pt x="16073" y="10939"/>
                </a:cubicBezTo>
              </a:path>
              <a:path w="9724" h="4069">
                <a:moveTo>
                  <a:pt x="16321" y="10666"/>
                </a:moveTo>
                <a:cubicBezTo>
                  <a:pt x="16344" y="10643"/>
                  <a:pt x="16352" y="10639"/>
                  <a:pt x="16346" y="10616"/>
                </a:cubicBezTo>
                <a:cubicBezTo>
                  <a:pt x="16292" y="10616"/>
                  <a:pt x="16273" y="10622"/>
                  <a:pt x="16222" y="10641"/>
                </a:cubicBezTo>
              </a:path>
              <a:path w="9724" h="4069">
                <a:moveTo>
                  <a:pt x="14883" y="12477"/>
                </a:moveTo>
                <a:cubicBezTo>
                  <a:pt x="14866" y="12455"/>
                  <a:pt x="14839" y="12411"/>
                  <a:pt x="14858" y="12378"/>
                </a:cubicBezTo>
                <a:cubicBezTo>
                  <a:pt x="14889" y="12324"/>
                  <a:pt x="14929" y="12287"/>
                  <a:pt x="14982" y="12278"/>
                </a:cubicBezTo>
                <a:cubicBezTo>
                  <a:pt x="15046" y="12267"/>
                  <a:pt x="15097" y="12348"/>
                  <a:pt x="15106" y="12402"/>
                </a:cubicBezTo>
                <a:cubicBezTo>
                  <a:pt x="15124" y="12506"/>
                  <a:pt x="15102" y="12542"/>
                  <a:pt x="15032" y="12601"/>
                </a:cubicBezTo>
                <a:cubicBezTo>
                  <a:pt x="14996" y="12631"/>
                  <a:pt x="14979" y="12626"/>
                  <a:pt x="14932" y="12626"/>
                </a:cubicBezTo>
              </a:path>
              <a:path w="9724" h="4069">
                <a:moveTo>
                  <a:pt x="15304" y="12551"/>
                </a:moveTo>
                <a:cubicBezTo>
                  <a:pt x="15329" y="12559"/>
                  <a:pt x="15354" y="12568"/>
                  <a:pt x="15379" y="12576"/>
                </a:cubicBezTo>
              </a:path>
              <a:path w="9724" h="4069">
                <a:moveTo>
                  <a:pt x="15553" y="12303"/>
                </a:moveTo>
                <a:cubicBezTo>
                  <a:pt x="15575" y="12280"/>
                  <a:pt x="15580" y="12272"/>
                  <a:pt x="15602" y="12278"/>
                </a:cubicBezTo>
                <a:cubicBezTo>
                  <a:pt x="15602" y="12347"/>
                  <a:pt x="15593" y="12387"/>
                  <a:pt x="15577" y="12452"/>
                </a:cubicBezTo>
                <a:cubicBezTo>
                  <a:pt x="15563" y="12510"/>
                  <a:pt x="15596" y="12505"/>
                  <a:pt x="15627" y="12526"/>
                </a:cubicBezTo>
                <a:cubicBezTo>
                  <a:pt x="15670" y="12554"/>
                  <a:pt x="15699" y="12551"/>
                  <a:pt x="15751" y="12551"/>
                </a:cubicBezTo>
                <a:cubicBezTo>
                  <a:pt x="15784" y="12551"/>
                  <a:pt x="15817" y="12551"/>
                  <a:pt x="15850" y="12551"/>
                </a:cubicBezTo>
              </a:path>
              <a:path w="9724" h="4069">
                <a:moveTo>
                  <a:pt x="15751" y="12502"/>
                </a:moveTo>
                <a:cubicBezTo>
                  <a:pt x="15743" y="12502"/>
                  <a:pt x="15734" y="12502"/>
                  <a:pt x="15726" y="12502"/>
                </a:cubicBezTo>
                <a:cubicBezTo>
                  <a:pt x="15726" y="12560"/>
                  <a:pt x="15718" y="12582"/>
                  <a:pt x="15751" y="12626"/>
                </a:cubicBezTo>
              </a:path>
              <a:path w="9724" h="4069">
                <a:moveTo>
                  <a:pt x="15974" y="12452"/>
                </a:moveTo>
                <a:cubicBezTo>
                  <a:pt x="15982" y="12444"/>
                  <a:pt x="15991" y="12435"/>
                  <a:pt x="15999" y="12427"/>
                </a:cubicBezTo>
                <a:cubicBezTo>
                  <a:pt x="15989" y="12466"/>
                  <a:pt x="15974" y="12482"/>
                  <a:pt x="15974" y="12526"/>
                </a:cubicBezTo>
                <a:cubicBezTo>
                  <a:pt x="15974" y="12552"/>
                  <a:pt x="16039" y="12593"/>
                  <a:pt x="16073" y="12601"/>
                </a:cubicBezTo>
                <a:cubicBezTo>
                  <a:pt x="16102" y="12608"/>
                  <a:pt x="16180" y="12624"/>
                  <a:pt x="16197" y="12650"/>
                </a:cubicBezTo>
                <a:cubicBezTo>
                  <a:pt x="16197" y="12658"/>
                  <a:pt x="16197" y="12667"/>
                  <a:pt x="16197" y="12675"/>
                </a:cubicBezTo>
                <a:cubicBezTo>
                  <a:pt x="16183" y="12718"/>
                  <a:pt x="16127" y="12722"/>
                  <a:pt x="16073" y="12725"/>
                </a:cubicBezTo>
                <a:cubicBezTo>
                  <a:pt x="16029" y="12725"/>
                  <a:pt x="16015" y="12728"/>
                  <a:pt x="15999" y="12700"/>
                </a:cubicBezTo>
              </a:path>
              <a:path w="9724" h="4069">
                <a:moveTo>
                  <a:pt x="16024" y="12477"/>
                </a:moveTo>
                <a:cubicBezTo>
                  <a:pt x="16076" y="12393"/>
                  <a:pt x="16095" y="12313"/>
                  <a:pt x="16197" y="12303"/>
                </a:cubicBezTo>
                <a:cubicBezTo>
                  <a:pt x="16222" y="12303"/>
                  <a:pt x="16230" y="12303"/>
                  <a:pt x="16247" y="12303"/>
                </a:cubicBezTo>
              </a:path>
              <a:path w="9724" h="4069">
                <a:moveTo>
                  <a:pt x="17165" y="10765"/>
                </a:moveTo>
                <a:cubicBezTo>
                  <a:pt x="17165" y="10740"/>
                  <a:pt x="17165" y="10732"/>
                  <a:pt x="17165" y="10716"/>
                </a:cubicBezTo>
                <a:cubicBezTo>
                  <a:pt x="17165" y="10848"/>
                  <a:pt x="17165" y="10980"/>
                  <a:pt x="17165" y="11112"/>
                </a:cubicBezTo>
              </a:path>
              <a:path w="9724" h="4069">
                <a:moveTo>
                  <a:pt x="17363" y="10716"/>
                </a:moveTo>
                <a:cubicBezTo>
                  <a:pt x="17386" y="10693"/>
                  <a:pt x="17390" y="10685"/>
                  <a:pt x="17413" y="10691"/>
                </a:cubicBezTo>
                <a:cubicBezTo>
                  <a:pt x="17375" y="10738"/>
                  <a:pt x="17342" y="10786"/>
                  <a:pt x="17314" y="10840"/>
                </a:cubicBezTo>
                <a:cubicBezTo>
                  <a:pt x="17281" y="10902"/>
                  <a:pt x="17264" y="10916"/>
                  <a:pt x="17264" y="10988"/>
                </a:cubicBezTo>
                <a:cubicBezTo>
                  <a:pt x="17264" y="10996"/>
                  <a:pt x="17264" y="11005"/>
                  <a:pt x="17264" y="11013"/>
                </a:cubicBezTo>
                <a:cubicBezTo>
                  <a:pt x="17338" y="11013"/>
                  <a:pt x="17413" y="11013"/>
                  <a:pt x="17487" y="11013"/>
                </a:cubicBezTo>
              </a:path>
              <a:path w="9724" h="4069">
                <a:moveTo>
                  <a:pt x="17562" y="10964"/>
                </a:moveTo>
                <a:cubicBezTo>
                  <a:pt x="17562" y="10939"/>
                  <a:pt x="17562" y="10931"/>
                  <a:pt x="17587" y="10939"/>
                </a:cubicBezTo>
                <a:cubicBezTo>
                  <a:pt x="17613" y="10948"/>
                  <a:pt x="17632" y="10958"/>
                  <a:pt x="17636" y="10988"/>
                </a:cubicBezTo>
                <a:cubicBezTo>
                  <a:pt x="17641" y="11031"/>
                  <a:pt x="17648" y="10998"/>
                  <a:pt x="17661" y="11038"/>
                </a:cubicBezTo>
                <a:cubicBezTo>
                  <a:pt x="17697" y="11002"/>
                  <a:pt x="17716" y="10958"/>
                  <a:pt x="17735" y="10939"/>
                </a:cubicBezTo>
                <a:cubicBezTo>
                  <a:pt x="17763" y="10939"/>
                  <a:pt x="17774" y="10937"/>
                  <a:pt x="17785" y="10914"/>
                </a:cubicBezTo>
                <a:cubicBezTo>
                  <a:pt x="17803" y="10920"/>
                  <a:pt x="17846" y="10957"/>
                  <a:pt x="17859" y="10988"/>
                </a:cubicBezTo>
                <a:cubicBezTo>
                  <a:pt x="17859" y="10996"/>
                  <a:pt x="17859" y="11005"/>
                  <a:pt x="17859" y="11013"/>
                </a:cubicBezTo>
                <a:cubicBezTo>
                  <a:pt x="17897" y="10984"/>
                  <a:pt x="17902" y="10979"/>
                  <a:pt x="17934" y="10964"/>
                </a:cubicBezTo>
                <a:cubicBezTo>
                  <a:pt x="17992" y="10937"/>
                  <a:pt x="18030" y="10922"/>
                  <a:pt x="18083" y="10964"/>
                </a:cubicBezTo>
                <a:cubicBezTo>
                  <a:pt x="18105" y="10981"/>
                  <a:pt x="18122" y="11034"/>
                  <a:pt x="18107" y="11063"/>
                </a:cubicBezTo>
                <a:cubicBezTo>
                  <a:pt x="18091" y="11094"/>
                  <a:pt x="18012" y="11100"/>
                  <a:pt x="17983" y="11088"/>
                </a:cubicBezTo>
                <a:cubicBezTo>
                  <a:pt x="17975" y="11080"/>
                  <a:pt x="17967" y="11071"/>
                  <a:pt x="17959" y="11063"/>
                </a:cubicBezTo>
              </a:path>
              <a:path w="9724" h="4069">
                <a:moveTo>
                  <a:pt x="18157" y="10939"/>
                </a:moveTo>
                <a:cubicBezTo>
                  <a:pt x="18182" y="10939"/>
                  <a:pt x="18190" y="10939"/>
                  <a:pt x="18207" y="10939"/>
                </a:cubicBezTo>
                <a:cubicBezTo>
                  <a:pt x="18215" y="10962"/>
                  <a:pt x="18248" y="10978"/>
                  <a:pt x="18281" y="10988"/>
                </a:cubicBezTo>
                <a:cubicBezTo>
                  <a:pt x="18326" y="11002"/>
                  <a:pt x="18390" y="11030"/>
                  <a:pt x="18430" y="11038"/>
                </a:cubicBezTo>
                <a:cubicBezTo>
                  <a:pt x="18477" y="11047"/>
                  <a:pt x="18532" y="11036"/>
                  <a:pt x="18554" y="10988"/>
                </a:cubicBezTo>
                <a:cubicBezTo>
                  <a:pt x="18561" y="10972"/>
                  <a:pt x="18554" y="10932"/>
                  <a:pt x="18554" y="10914"/>
                </a:cubicBezTo>
                <a:cubicBezTo>
                  <a:pt x="18589" y="10902"/>
                  <a:pt x="18579" y="10907"/>
                  <a:pt x="18579" y="10864"/>
                </a:cubicBezTo>
              </a:path>
              <a:path w="9724" h="4069">
                <a:moveTo>
                  <a:pt x="18653" y="10840"/>
                </a:moveTo>
                <a:cubicBezTo>
                  <a:pt x="18711" y="10840"/>
                  <a:pt x="18719" y="10840"/>
                  <a:pt x="18752" y="10840"/>
                </a:cubicBezTo>
                <a:cubicBezTo>
                  <a:pt x="18740" y="10888"/>
                  <a:pt x="18708" y="10877"/>
                  <a:pt x="18703" y="10914"/>
                </a:cubicBezTo>
                <a:cubicBezTo>
                  <a:pt x="18697" y="10961"/>
                  <a:pt x="18723" y="10972"/>
                  <a:pt x="18728" y="11013"/>
                </a:cubicBezTo>
                <a:cubicBezTo>
                  <a:pt x="18728" y="11041"/>
                  <a:pt x="18726" y="11052"/>
                  <a:pt x="18703" y="11063"/>
                </a:cubicBezTo>
              </a:path>
              <a:path w="9724" h="4069">
                <a:moveTo>
                  <a:pt x="17636" y="12402"/>
                </a:moveTo>
                <a:cubicBezTo>
                  <a:pt x="17675" y="12380"/>
                  <a:pt x="17731" y="12364"/>
                  <a:pt x="17735" y="12328"/>
                </a:cubicBezTo>
                <a:cubicBezTo>
                  <a:pt x="17735" y="12320"/>
                  <a:pt x="17735" y="12311"/>
                  <a:pt x="17735" y="12303"/>
                </a:cubicBezTo>
                <a:cubicBezTo>
                  <a:pt x="17694" y="12303"/>
                  <a:pt x="17615" y="12326"/>
                  <a:pt x="17587" y="12353"/>
                </a:cubicBezTo>
                <a:cubicBezTo>
                  <a:pt x="17515" y="12421"/>
                  <a:pt x="17446" y="12522"/>
                  <a:pt x="17462" y="12626"/>
                </a:cubicBezTo>
                <a:cubicBezTo>
                  <a:pt x="17470" y="12682"/>
                  <a:pt x="17507" y="12800"/>
                  <a:pt x="17587" y="12774"/>
                </a:cubicBezTo>
                <a:cubicBezTo>
                  <a:pt x="17620" y="12763"/>
                  <a:pt x="17642" y="12680"/>
                  <a:pt x="17686" y="12700"/>
                </a:cubicBezTo>
                <a:cubicBezTo>
                  <a:pt x="17735" y="12722"/>
                  <a:pt x="17724" y="12750"/>
                  <a:pt x="17785" y="12750"/>
                </a:cubicBezTo>
              </a:path>
              <a:path w="9724" h="4069">
                <a:moveTo>
                  <a:pt x="17884" y="12576"/>
                </a:moveTo>
                <a:cubicBezTo>
                  <a:pt x="17884" y="12568"/>
                  <a:pt x="17884" y="12559"/>
                  <a:pt x="17884" y="12551"/>
                </a:cubicBezTo>
                <a:cubicBezTo>
                  <a:pt x="17923" y="12564"/>
                  <a:pt x="17910" y="12591"/>
                  <a:pt x="17934" y="12626"/>
                </a:cubicBezTo>
                <a:cubicBezTo>
                  <a:pt x="17962" y="12667"/>
                  <a:pt x="18015" y="12650"/>
                  <a:pt x="18058" y="12650"/>
                </a:cubicBezTo>
                <a:cubicBezTo>
                  <a:pt x="18066" y="12650"/>
                  <a:pt x="18075" y="12650"/>
                  <a:pt x="18083" y="12650"/>
                </a:cubicBezTo>
              </a:path>
              <a:path w="9724" h="4069">
                <a:moveTo>
                  <a:pt x="18132" y="12551"/>
                </a:moveTo>
                <a:cubicBezTo>
                  <a:pt x="18170" y="12589"/>
                  <a:pt x="18178" y="12601"/>
                  <a:pt x="18231" y="12601"/>
                </a:cubicBezTo>
                <a:cubicBezTo>
                  <a:pt x="18297" y="12601"/>
                  <a:pt x="18311" y="12571"/>
                  <a:pt x="18355" y="12526"/>
                </a:cubicBezTo>
                <a:cubicBezTo>
                  <a:pt x="18303" y="12526"/>
                  <a:pt x="18273" y="12509"/>
                  <a:pt x="18256" y="12576"/>
                </a:cubicBezTo>
                <a:cubicBezTo>
                  <a:pt x="18246" y="12617"/>
                  <a:pt x="18243" y="12699"/>
                  <a:pt x="18281" y="12725"/>
                </a:cubicBezTo>
                <a:cubicBezTo>
                  <a:pt x="18344" y="12768"/>
                  <a:pt x="18366" y="12738"/>
                  <a:pt x="18430" y="12725"/>
                </a:cubicBezTo>
              </a:path>
              <a:path w="9724" h="4069">
                <a:moveTo>
                  <a:pt x="18628" y="12576"/>
                </a:moveTo>
                <a:cubicBezTo>
                  <a:pt x="18645" y="12576"/>
                  <a:pt x="18661" y="12576"/>
                  <a:pt x="18678" y="12576"/>
                </a:cubicBezTo>
                <a:cubicBezTo>
                  <a:pt x="18637" y="12586"/>
                  <a:pt x="18609" y="12604"/>
                  <a:pt x="18604" y="12650"/>
                </a:cubicBezTo>
                <a:cubicBezTo>
                  <a:pt x="18599" y="12700"/>
                  <a:pt x="18649" y="12699"/>
                  <a:pt x="18678" y="12725"/>
                </a:cubicBezTo>
                <a:cubicBezTo>
                  <a:pt x="18718" y="12760"/>
                  <a:pt x="18728" y="12773"/>
                  <a:pt x="18728" y="12824"/>
                </a:cubicBezTo>
                <a:cubicBezTo>
                  <a:pt x="18728" y="12832"/>
                  <a:pt x="18728" y="12841"/>
                  <a:pt x="18728" y="12849"/>
                </a:cubicBezTo>
                <a:cubicBezTo>
                  <a:pt x="18677" y="12849"/>
                  <a:pt x="18669" y="12838"/>
                  <a:pt x="18628" y="12824"/>
                </a:cubicBezTo>
                <a:cubicBezTo>
                  <a:pt x="18620" y="12824"/>
                  <a:pt x="18612" y="12824"/>
                  <a:pt x="18604" y="12824"/>
                </a:cubicBezTo>
              </a:path>
              <a:path w="9724" h="4069">
                <a:moveTo>
                  <a:pt x="18926" y="12601"/>
                </a:moveTo>
                <a:cubicBezTo>
                  <a:pt x="18952" y="12578"/>
                  <a:pt x="19029" y="12507"/>
                  <a:pt x="18951" y="12551"/>
                </a:cubicBezTo>
                <a:cubicBezTo>
                  <a:pt x="18925" y="12565"/>
                  <a:pt x="18878" y="12586"/>
                  <a:pt x="18901" y="12626"/>
                </a:cubicBezTo>
                <a:cubicBezTo>
                  <a:pt x="18930" y="12677"/>
                  <a:pt x="19016" y="12682"/>
                  <a:pt x="19050" y="12725"/>
                </a:cubicBezTo>
                <a:cubicBezTo>
                  <a:pt x="19085" y="12770"/>
                  <a:pt x="19022" y="12809"/>
                  <a:pt x="19000" y="12824"/>
                </a:cubicBezTo>
              </a:path>
              <a:path w="9724" h="4069">
                <a:moveTo>
                  <a:pt x="19248" y="10840"/>
                </a:moveTo>
                <a:cubicBezTo>
                  <a:pt x="19261" y="10827"/>
                  <a:pt x="19293" y="10784"/>
                  <a:pt x="19323" y="10765"/>
                </a:cubicBezTo>
                <a:cubicBezTo>
                  <a:pt x="19409" y="10709"/>
                  <a:pt x="19487" y="10655"/>
                  <a:pt x="19571" y="10592"/>
                </a:cubicBezTo>
                <a:cubicBezTo>
                  <a:pt x="19687" y="10505"/>
                  <a:pt x="19807" y="10442"/>
                  <a:pt x="19943" y="10393"/>
                </a:cubicBezTo>
                <a:cubicBezTo>
                  <a:pt x="20049" y="10355"/>
                  <a:pt x="20158" y="10330"/>
                  <a:pt x="20265" y="10294"/>
                </a:cubicBezTo>
                <a:cubicBezTo>
                  <a:pt x="20333" y="10271"/>
                  <a:pt x="20439" y="10248"/>
                  <a:pt x="20513" y="10269"/>
                </a:cubicBezTo>
                <a:cubicBezTo>
                  <a:pt x="20541" y="10269"/>
                  <a:pt x="20552" y="10271"/>
                  <a:pt x="20563" y="10294"/>
                </a:cubicBezTo>
              </a:path>
              <a:path w="9724" h="4069">
                <a:moveTo>
                  <a:pt x="19521" y="11038"/>
                </a:moveTo>
                <a:cubicBezTo>
                  <a:pt x="19564" y="11021"/>
                  <a:pt x="19530" y="11025"/>
                  <a:pt x="19596" y="11038"/>
                </a:cubicBezTo>
                <a:cubicBezTo>
                  <a:pt x="19682" y="11055"/>
                  <a:pt x="19806" y="11056"/>
                  <a:pt x="19893" y="11063"/>
                </a:cubicBezTo>
                <a:cubicBezTo>
                  <a:pt x="20087" y="11078"/>
                  <a:pt x="20254" y="11100"/>
                  <a:pt x="20439" y="11162"/>
                </a:cubicBezTo>
                <a:cubicBezTo>
                  <a:pt x="20572" y="11206"/>
                  <a:pt x="20736" y="11248"/>
                  <a:pt x="20861" y="11311"/>
                </a:cubicBezTo>
                <a:cubicBezTo>
                  <a:pt x="20886" y="11336"/>
                  <a:pt x="20894" y="11344"/>
                  <a:pt x="20910" y="11361"/>
                </a:cubicBezTo>
              </a:path>
              <a:path w="9724" h="4069">
                <a:moveTo>
                  <a:pt x="21034" y="10319"/>
                </a:moveTo>
                <a:cubicBezTo>
                  <a:pt x="21045" y="10286"/>
                  <a:pt x="21048" y="10296"/>
                  <a:pt x="21084" y="10269"/>
                </a:cubicBezTo>
                <a:cubicBezTo>
                  <a:pt x="21090" y="10295"/>
                  <a:pt x="21132" y="10380"/>
                  <a:pt x="21158" y="10393"/>
                </a:cubicBezTo>
                <a:cubicBezTo>
                  <a:pt x="21210" y="10419"/>
                  <a:pt x="21244" y="10355"/>
                  <a:pt x="21258" y="10319"/>
                </a:cubicBezTo>
                <a:cubicBezTo>
                  <a:pt x="21307" y="10196"/>
                  <a:pt x="21370" y="10088"/>
                  <a:pt x="21431" y="9971"/>
                </a:cubicBezTo>
                <a:cubicBezTo>
                  <a:pt x="21457" y="9921"/>
                  <a:pt x="21470" y="9854"/>
                  <a:pt x="21530" y="9847"/>
                </a:cubicBezTo>
                <a:cubicBezTo>
                  <a:pt x="21538" y="9847"/>
                  <a:pt x="21547" y="9847"/>
                  <a:pt x="21555" y="9847"/>
                </a:cubicBezTo>
              </a:path>
              <a:path w="9724" h="4069">
                <a:moveTo>
                  <a:pt x="21580" y="11187"/>
                </a:moveTo>
                <a:cubicBezTo>
                  <a:pt x="21588" y="11179"/>
                  <a:pt x="21597" y="11170"/>
                  <a:pt x="21605" y="11162"/>
                </a:cubicBezTo>
                <a:cubicBezTo>
                  <a:pt x="21554" y="11200"/>
                  <a:pt x="21548" y="11205"/>
                  <a:pt x="21506" y="11261"/>
                </a:cubicBezTo>
                <a:cubicBezTo>
                  <a:pt x="21476" y="11301"/>
                  <a:pt x="21443" y="11314"/>
                  <a:pt x="21431" y="11361"/>
                </a:cubicBezTo>
              </a:path>
              <a:path w="9724" h="4069">
                <a:moveTo>
                  <a:pt x="21654" y="11336"/>
                </a:moveTo>
                <a:cubicBezTo>
                  <a:pt x="21641" y="11283"/>
                  <a:pt x="21596" y="11253"/>
                  <a:pt x="21555" y="11212"/>
                </a:cubicBezTo>
                <a:cubicBezTo>
                  <a:pt x="21498" y="11155"/>
                  <a:pt x="21462" y="11104"/>
                  <a:pt x="21382" y="11088"/>
                </a:cubicBezTo>
              </a:path>
              <a:path w="9724" h="4069">
                <a:moveTo>
                  <a:pt x="19968" y="11311"/>
                </a:moveTo>
                <a:cubicBezTo>
                  <a:pt x="19978" y="11282"/>
                  <a:pt x="20002" y="11266"/>
                  <a:pt x="20042" y="11261"/>
                </a:cubicBezTo>
                <a:cubicBezTo>
                  <a:pt x="20086" y="11256"/>
                  <a:pt x="20109" y="11257"/>
                  <a:pt x="20141" y="11286"/>
                </a:cubicBezTo>
                <a:cubicBezTo>
                  <a:pt x="20182" y="11323"/>
                  <a:pt x="20209" y="11317"/>
                  <a:pt x="20216" y="11385"/>
                </a:cubicBezTo>
                <a:cubicBezTo>
                  <a:pt x="20222" y="11449"/>
                  <a:pt x="20228" y="11529"/>
                  <a:pt x="20191" y="11584"/>
                </a:cubicBezTo>
                <a:cubicBezTo>
                  <a:pt x="20156" y="11637"/>
                  <a:pt x="20125" y="11633"/>
                  <a:pt x="20067" y="11633"/>
                </a:cubicBezTo>
                <a:cubicBezTo>
                  <a:pt x="20021" y="11633"/>
                  <a:pt x="19995" y="11626"/>
                  <a:pt x="19968" y="11584"/>
                </a:cubicBezTo>
                <a:cubicBezTo>
                  <a:pt x="19929" y="11524"/>
                  <a:pt x="19943" y="11453"/>
                  <a:pt x="19943" y="11385"/>
                </a:cubicBezTo>
                <a:cubicBezTo>
                  <a:pt x="19943" y="11348"/>
                  <a:pt x="19968" y="11336"/>
                  <a:pt x="19993" y="11311"/>
                </a:cubicBezTo>
              </a:path>
              <a:path w="9724" h="4069">
                <a:moveTo>
                  <a:pt x="20985" y="12551"/>
                </a:moveTo>
                <a:cubicBezTo>
                  <a:pt x="20999" y="12524"/>
                  <a:pt x="21025" y="12558"/>
                  <a:pt x="21034" y="12576"/>
                </a:cubicBezTo>
                <a:cubicBezTo>
                  <a:pt x="21034" y="12601"/>
                  <a:pt x="21034" y="12609"/>
                  <a:pt x="21034" y="12626"/>
                </a:cubicBezTo>
                <a:cubicBezTo>
                  <a:pt x="21084" y="12601"/>
                  <a:pt x="21095" y="12550"/>
                  <a:pt x="21134" y="12502"/>
                </a:cubicBezTo>
                <a:cubicBezTo>
                  <a:pt x="21211" y="12408"/>
                  <a:pt x="21294" y="12336"/>
                  <a:pt x="21357" y="12229"/>
                </a:cubicBezTo>
                <a:cubicBezTo>
                  <a:pt x="21387" y="12178"/>
                  <a:pt x="21380" y="12167"/>
                  <a:pt x="21431" y="12154"/>
                </a:cubicBezTo>
              </a:path>
              <a:path w="9724" h="4069">
                <a:moveTo>
                  <a:pt x="21183" y="13742"/>
                </a:moveTo>
                <a:cubicBezTo>
                  <a:pt x="21191" y="13742"/>
                  <a:pt x="21200" y="13742"/>
                  <a:pt x="21208" y="13742"/>
                </a:cubicBezTo>
                <a:cubicBezTo>
                  <a:pt x="21158" y="13742"/>
                  <a:pt x="21129" y="13737"/>
                  <a:pt x="21084" y="13767"/>
                </a:cubicBezTo>
                <a:cubicBezTo>
                  <a:pt x="21045" y="13793"/>
                  <a:pt x="20984" y="13787"/>
                  <a:pt x="20960" y="13841"/>
                </a:cubicBezTo>
                <a:cubicBezTo>
                  <a:pt x="20960" y="13849"/>
                  <a:pt x="20960" y="13858"/>
                  <a:pt x="20960" y="13866"/>
                </a:cubicBezTo>
              </a:path>
              <a:path w="9724" h="4069">
                <a:moveTo>
                  <a:pt x="21134" y="13866"/>
                </a:moveTo>
                <a:cubicBezTo>
                  <a:pt x="21142" y="13866"/>
                  <a:pt x="21150" y="13866"/>
                  <a:pt x="21158" y="13866"/>
                </a:cubicBezTo>
                <a:cubicBezTo>
                  <a:pt x="21147" y="13821"/>
                  <a:pt x="21118" y="13801"/>
                  <a:pt x="21084" y="13767"/>
                </a:cubicBezTo>
                <a:cubicBezTo>
                  <a:pt x="21043" y="13726"/>
                  <a:pt x="21019" y="13715"/>
                  <a:pt x="20985" y="13667"/>
                </a:cubicBezTo>
              </a:path>
              <a:path w="9724" h="4069">
                <a:moveTo>
                  <a:pt x="19720" y="12774"/>
                </a:moveTo>
                <a:cubicBezTo>
                  <a:pt x="19712" y="12774"/>
                  <a:pt x="19703" y="12774"/>
                  <a:pt x="19695" y="12774"/>
                </a:cubicBezTo>
                <a:cubicBezTo>
                  <a:pt x="19699" y="12761"/>
                  <a:pt x="19742" y="12708"/>
                  <a:pt x="19769" y="12700"/>
                </a:cubicBezTo>
                <a:cubicBezTo>
                  <a:pt x="19843" y="12679"/>
                  <a:pt x="19852" y="12651"/>
                  <a:pt x="19918" y="12601"/>
                </a:cubicBezTo>
                <a:cubicBezTo>
                  <a:pt x="19974" y="12559"/>
                  <a:pt x="20100" y="12470"/>
                  <a:pt x="20166" y="12452"/>
                </a:cubicBezTo>
                <a:cubicBezTo>
                  <a:pt x="20231" y="12435"/>
                  <a:pt x="20279" y="12402"/>
                  <a:pt x="20340" y="12378"/>
                </a:cubicBezTo>
                <a:cubicBezTo>
                  <a:pt x="20364" y="12369"/>
                  <a:pt x="20413" y="12378"/>
                  <a:pt x="20439" y="12378"/>
                </a:cubicBezTo>
              </a:path>
              <a:path w="9724" h="4069">
                <a:moveTo>
                  <a:pt x="20538" y="13568"/>
                </a:moveTo>
                <a:cubicBezTo>
                  <a:pt x="20516" y="13546"/>
                  <a:pt x="20511" y="13537"/>
                  <a:pt x="20489" y="13543"/>
                </a:cubicBezTo>
                <a:cubicBezTo>
                  <a:pt x="20483" y="13526"/>
                  <a:pt x="20444" y="13482"/>
                  <a:pt x="20414" y="13469"/>
                </a:cubicBezTo>
                <a:cubicBezTo>
                  <a:pt x="20373" y="13451"/>
                  <a:pt x="20305" y="13403"/>
                  <a:pt x="20265" y="13370"/>
                </a:cubicBezTo>
                <a:cubicBezTo>
                  <a:pt x="20195" y="13312"/>
                  <a:pt x="20148" y="13238"/>
                  <a:pt x="20092" y="13171"/>
                </a:cubicBezTo>
                <a:cubicBezTo>
                  <a:pt x="20056" y="13128"/>
                  <a:pt x="20018" y="13053"/>
                  <a:pt x="19968" y="13022"/>
                </a:cubicBezTo>
                <a:cubicBezTo>
                  <a:pt x="19927" y="13002"/>
                  <a:pt x="19910" y="13005"/>
                  <a:pt x="19918" y="12973"/>
                </a:cubicBezTo>
                <a:cubicBezTo>
                  <a:pt x="19875" y="12962"/>
                  <a:pt x="19853" y="12932"/>
                  <a:pt x="19819" y="12898"/>
                </a:cubicBezTo>
              </a:path>
              <a:path w="9724" h="4069">
                <a:moveTo>
                  <a:pt x="19546" y="12105"/>
                </a:moveTo>
                <a:cubicBezTo>
                  <a:pt x="19508" y="12092"/>
                  <a:pt x="19521" y="12075"/>
                  <a:pt x="19521" y="12030"/>
                </a:cubicBezTo>
                <a:cubicBezTo>
                  <a:pt x="19521" y="12013"/>
                  <a:pt x="19549" y="11971"/>
                  <a:pt x="19571" y="11981"/>
                </a:cubicBezTo>
                <a:cubicBezTo>
                  <a:pt x="19624" y="12007"/>
                  <a:pt x="19647" y="12002"/>
                  <a:pt x="19670" y="12055"/>
                </a:cubicBezTo>
                <a:cubicBezTo>
                  <a:pt x="19695" y="12113"/>
                  <a:pt x="19695" y="12140"/>
                  <a:pt x="19695" y="12204"/>
                </a:cubicBezTo>
                <a:cubicBezTo>
                  <a:pt x="19632" y="12204"/>
                  <a:pt x="19598" y="12196"/>
                  <a:pt x="19546" y="12179"/>
                </a:cubicBezTo>
                <a:cubicBezTo>
                  <a:pt x="19511" y="12167"/>
                  <a:pt x="19521" y="12172"/>
                  <a:pt x="19521" y="12129"/>
                </a:cubicBezTo>
              </a:path>
              <a:path w="9724" h="4069">
                <a:moveTo>
                  <a:pt x="19943" y="12204"/>
                </a:moveTo>
                <a:cubicBezTo>
                  <a:pt x="19951" y="12204"/>
                  <a:pt x="19960" y="12204"/>
                  <a:pt x="19968" y="12204"/>
                </a:cubicBezTo>
              </a:path>
              <a:path w="9724" h="4069">
                <a:moveTo>
                  <a:pt x="20141" y="12030"/>
                </a:moveTo>
                <a:cubicBezTo>
                  <a:pt x="20153" y="11981"/>
                  <a:pt x="20166" y="11981"/>
                  <a:pt x="20216" y="11981"/>
                </a:cubicBezTo>
                <a:cubicBezTo>
                  <a:pt x="20259" y="11981"/>
                  <a:pt x="20286" y="12016"/>
                  <a:pt x="20290" y="12055"/>
                </a:cubicBezTo>
                <a:cubicBezTo>
                  <a:pt x="20295" y="12096"/>
                  <a:pt x="20243" y="12127"/>
                  <a:pt x="20216" y="12154"/>
                </a:cubicBezTo>
                <a:cubicBezTo>
                  <a:pt x="20180" y="12190"/>
                  <a:pt x="20179" y="12164"/>
                  <a:pt x="20166" y="12204"/>
                </a:cubicBezTo>
                <a:cubicBezTo>
                  <a:pt x="20201" y="12256"/>
                  <a:pt x="20230" y="12219"/>
                  <a:pt x="20290" y="12204"/>
                </a:cubicBezTo>
                <a:cubicBezTo>
                  <a:pt x="20315" y="12204"/>
                  <a:pt x="20323" y="12204"/>
                  <a:pt x="20340" y="12204"/>
                </a:cubicBezTo>
              </a:path>
              <a:path w="9724" h="4069">
                <a:moveTo>
                  <a:pt x="19248" y="13345"/>
                </a:moveTo>
                <a:cubicBezTo>
                  <a:pt x="19236" y="13341"/>
                  <a:pt x="19195" y="13294"/>
                  <a:pt x="19224" y="13271"/>
                </a:cubicBezTo>
                <a:cubicBezTo>
                  <a:pt x="19247" y="13252"/>
                  <a:pt x="19255" y="13246"/>
                  <a:pt x="19298" y="13246"/>
                </a:cubicBezTo>
                <a:cubicBezTo>
                  <a:pt x="19345" y="13246"/>
                  <a:pt x="19361" y="13240"/>
                  <a:pt x="19397" y="13271"/>
                </a:cubicBezTo>
                <a:cubicBezTo>
                  <a:pt x="19428" y="13298"/>
                  <a:pt x="19436" y="13354"/>
                  <a:pt x="19422" y="13395"/>
                </a:cubicBezTo>
                <a:cubicBezTo>
                  <a:pt x="19406" y="13441"/>
                  <a:pt x="19398" y="13488"/>
                  <a:pt x="19348" y="13494"/>
                </a:cubicBezTo>
                <a:cubicBezTo>
                  <a:pt x="19295" y="13500"/>
                  <a:pt x="19265" y="13467"/>
                  <a:pt x="19248" y="13444"/>
                </a:cubicBezTo>
                <a:cubicBezTo>
                  <a:pt x="19238" y="13430"/>
                  <a:pt x="19165" y="13373"/>
                  <a:pt x="19199" y="13345"/>
                </a:cubicBezTo>
                <a:cubicBezTo>
                  <a:pt x="19207" y="13345"/>
                  <a:pt x="19216" y="13345"/>
                  <a:pt x="19224" y="13345"/>
                </a:cubicBezTo>
              </a:path>
              <a:path w="9724" h="4069">
                <a:moveTo>
                  <a:pt x="19621" y="13419"/>
                </a:moveTo>
                <a:cubicBezTo>
                  <a:pt x="19645" y="13419"/>
                  <a:pt x="19653" y="13419"/>
                  <a:pt x="19645" y="13395"/>
                </a:cubicBezTo>
              </a:path>
              <a:path w="9724" h="4069">
                <a:moveTo>
                  <a:pt x="20092" y="13246"/>
                </a:moveTo>
                <a:cubicBezTo>
                  <a:pt x="20092" y="13221"/>
                  <a:pt x="20092" y="13213"/>
                  <a:pt x="20092" y="13196"/>
                </a:cubicBezTo>
                <a:cubicBezTo>
                  <a:pt x="20041" y="13196"/>
                  <a:pt x="20006" y="13187"/>
                  <a:pt x="19968" y="13221"/>
                </a:cubicBezTo>
                <a:cubicBezTo>
                  <a:pt x="19942" y="13244"/>
                  <a:pt x="19922" y="13287"/>
                  <a:pt x="19918" y="13320"/>
                </a:cubicBezTo>
                <a:cubicBezTo>
                  <a:pt x="19916" y="13341"/>
                  <a:pt x="19947" y="13372"/>
                  <a:pt x="19968" y="13395"/>
                </a:cubicBezTo>
                <a:cubicBezTo>
                  <a:pt x="19998" y="13428"/>
                  <a:pt x="20025" y="13447"/>
                  <a:pt x="20042" y="13469"/>
                </a:cubicBezTo>
                <a:cubicBezTo>
                  <a:pt x="20051" y="13481"/>
                  <a:pt x="20108" y="13553"/>
                  <a:pt x="20092" y="13568"/>
                </a:cubicBezTo>
                <a:cubicBezTo>
                  <a:pt x="20073" y="13587"/>
                  <a:pt x="20057" y="13593"/>
                  <a:pt x="20017" y="13593"/>
                </a:cubicBezTo>
                <a:cubicBezTo>
                  <a:pt x="19993" y="13593"/>
                  <a:pt x="19930" y="13567"/>
                  <a:pt x="19918" y="13543"/>
                </a:cubicBezTo>
                <a:cubicBezTo>
                  <a:pt x="19899" y="13506"/>
                  <a:pt x="19928" y="13469"/>
                  <a:pt x="19943" y="13444"/>
                </a:cubicBezTo>
                <a:cubicBezTo>
                  <a:pt x="19989" y="13365"/>
                  <a:pt x="20024" y="13278"/>
                  <a:pt x="20067" y="13196"/>
                </a:cubicBezTo>
                <a:cubicBezTo>
                  <a:pt x="20089" y="13152"/>
                  <a:pt x="20092" y="13141"/>
                  <a:pt x="20117" y="13122"/>
                </a:cubicBezTo>
              </a:path>
              <a:path w="9724" h="4069">
                <a:moveTo>
                  <a:pt x="16793" y="10864"/>
                </a:moveTo>
                <a:cubicBezTo>
                  <a:pt x="16933" y="10806"/>
                  <a:pt x="17056" y="10735"/>
                  <a:pt x="17190" y="10666"/>
                </a:cubicBezTo>
                <a:cubicBezTo>
                  <a:pt x="17285" y="10617"/>
                  <a:pt x="17367" y="10561"/>
                  <a:pt x="17462" y="10517"/>
                </a:cubicBezTo>
              </a:path>
              <a:path w="9724" h="4069">
                <a:moveTo>
                  <a:pt x="22820" y="10170"/>
                </a:moveTo>
                <a:cubicBezTo>
                  <a:pt x="22828" y="10170"/>
                  <a:pt x="22837" y="10170"/>
                  <a:pt x="22845" y="10170"/>
                </a:cubicBezTo>
                <a:cubicBezTo>
                  <a:pt x="22844" y="10173"/>
                  <a:pt x="22783" y="10247"/>
                  <a:pt x="22771" y="10220"/>
                </a:cubicBezTo>
                <a:cubicBezTo>
                  <a:pt x="22749" y="10169"/>
                  <a:pt x="22794" y="10085"/>
                  <a:pt x="22820" y="10046"/>
                </a:cubicBezTo>
                <a:cubicBezTo>
                  <a:pt x="22868" y="9976"/>
                  <a:pt x="22934" y="9951"/>
                  <a:pt x="23019" y="9971"/>
                </a:cubicBezTo>
                <a:cubicBezTo>
                  <a:pt x="23098" y="9990"/>
                  <a:pt x="23157" y="10121"/>
                  <a:pt x="23168" y="10195"/>
                </a:cubicBezTo>
                <a:cubicBezTo>
                  <a:pt x="23182" y="10284"/>
                  <a:pt x="23153" y="10340"/>
                  <a:pt x="23068" y="10344"/>
                </a:cubicBezTo>
                <a:cubicBezTo>
                  <a:pt x="22977" y="10348"/>
                  <a:pt x="22910" y="10324"/>
                  <a:pt x="22845" y="10269"/>
                </a:cubicBezTo>
                <a:cubicBezTo>
                  <a:pt x="22823" y="10247"/>
                  <a:pt x="22814" y="10242"/>
                  <a:pt x="22820" y="10220"/>
                </a:cubicBezTo>
              </a:path>
              <a:path w="9724" h="4069">
                <a:moveTo>
                  <a:pt x="23490" y="10220"/>
                </a:moveTo>
                <a:cubicBezTo>
                  <a:pt x="23490" y="10228"/>
                  <a:pt x="23490" y="10236"/>
                  <a:pt x="23490" y="10244"/>
                </a:cubicBezTo>
              </a:path>
              <a:path w="9724" h="4069">
                <a:moveTo>
                  <a:pt x="23713" y="9971"/>
                </a:moveTo>
                <a:cubicBezTo>
                  <a:pt x="23760" y="9902"/>
                  <a:pt x="23740" y="9894"/>
                  <a:pt x="23713" y="9947"/>
                </a:cubicBezTo>
                <a:cubicBezTo>
                  <a:pt x="23697" y="9978"/>
                  <a:pt x="23672" y="10011"/>
                  <a:pt x="23664" y="10046"/>
                </a:cubicBezTo>
                <a:cubicBezTo>
                  <a:pt x="23709" y="10081"/>
                  <a:pt x="23775" y="10043"/>
                  <a:pt x="23812" y="10071"/>
                </a:cubicBezTo>
                <a:cubicBezTo>
                  <a:pt x="23860" y="10108"/>
                  <a:pt x="23907" y="10159"/>
                  <a:pt x="23912" y="10220"/>
                </a:cubicBezTo>
                <a:cubicBezTo>
                  <a:pt x="23917" y="10285"/>
                  <a:pt x="23906" y="10301"/>
                  <a:pt x="23862" y="10344"/>
                </a:cubicBezTo>
                <a:cubicBezTo>
                  <a:pt x="23823" y="10382"/>
                  <a:pt x="23766" y="10368"/>
                  <a:pt x="23713" y="10368"/>
                </a:cubicBezTo>
                <a:cubicBezTo>
                  <a:pt x="23705" y="10368"/>
                  <a:pt x="23696" y="10368"/>
                  <a:pt x="23688" y="10368"/>
                </a:cubicBezTo>
              </a:path>
              <a:path w="9724" h="4069">
                <a:moveTo>
                  <a:pt x="24036" y="9897"/>
                </a:moveTo>
                <a:cubicBezTo>
                  <a:pt x="24036" y="9889"/>
                  <a:pt x="24036" y="9880"/>
                  <a:pt x="24036" y="9872"/>
                </a:cubicBezTo>
                <a:cubicBezTo>
                  <a:pt x="23979" y="9872"/>
                  <a:pt x="23940" y="9888"/>
                  <a:pt x="23887" y="9897"/>
                </a:cubicBezTo>
                <a:cubicBezTo>
                  <a:pt x="23843" y="9904"/>
                  <a:pt x="23806" y="9913"/>
                  <a:pt x="23763" y="9922"/>
                </a:cubicBezTo>
              </a:path>
              <a:path w="9724" h="4069">
                <a:moveTo>
                  <a:pt x="24284" y="9823"/>
                </a:moveTo>
                <a:cubicBezTo>
                  <a:pt x="24326" y="9836"/>
                  <a:pt x="24315" y="9863"/>
                  <a:pt x="24284" y="9897"/>
                </a:cubicBezTo>
                <a:cubicBezTo>
                  <a:pt x="24255" y="9930"/>
                  <a:pt x="24239" y="9975"/>
                  <a:pt x="24234" y="10021"/>
                </a:cubicBezTo>
                <a:cubicBezTo>
                  <a:pt x="24231" y="10051"/>
                  <a:pt x="24278" y="10069"/>
                  <a:pt x="24309" y="10071"/>
                </a:cubicBezTo>
                <a:cubicBezTo>
                  <a:pt x="24377" y="10076"/>
                  <a:pt x="24399" y="10077"/>
                  <a:pt x="24457" y="10120"/>
                </a:cubicBezTo>
                <a:cubicBezTo>
                  <a:pt x="24483" y="10140"/>
                  <a:pt x="24497" y="10214"/>
                  <a:pt x="24507" y="10244"/>
                </a:cubicBezTo>
                <a:cubicBezTo>
                  <a:pt x="24520" y="10283"/>
                  <a:pt x="24462" y="10317"/>
                  <a:pt x="24433" y="10319"/>
                </a:cubicBezTo>
                <a:cubicBezTo>
                  <a:pt x="24376" y="10323"/>
                  <a:pt x="24373" y="10324"/>
                  <a:pt x="24333" y="10294"/>
                </a:cubicBezTo>
              </a:path>
              <a:path w="9724" h="4069">
                <a:moveTo>
                  <a:pt x="24358" y="9847"/>
                </a:moveTo>
                <a:cubicBezTo>
                  <a:pt x="24358" y="9839"/>
                  <a:pt x="24358" y="9831"/>
                  <a:pt x="24358" y="9823"/>
                </a:cubicBezTo>
                <a:cubicBezTo>
                  <a:pt x="24419" y="9823"/>
                  <a:pt x="24458" y="9808"/>
                  <a:pt x="24507" y="9798"/>
                </a:cubicBezTo>
                <a:cubicBezTo>
                  <a:pt x="24548" y="9798"/>
                  <a:pt x="24556" y="9798"/>
                  <a:pt x="24581" y="9798"/>
                </a:cubicBezTo>
              </a:path>
              <a:path w="9724" h="4069">
                <a:moveTo>
                  <a:pt x="22027" y="10220"/>
                </a:moveTo>
                <a:cubicBezTo>
                  <a:pt x="22040" y="10181"/>
                  <a:pt x="22076" y="10104"/>
                  <a:pt x="22076" y="10145"/>
                </a:cubicBezTo>
                <a:cubicBezTo>
                  <a:pt x="22076" y="10153"/>
                  <a:pt x="22076" y="10162"/>
                  <a:pt x="22076" y="10170"/>
                </a:cubicBezTo>
                <a:cubicBezTo>
                  <a:pt x="22107" y="10170"/>
                  <a:pt x="22143" y="10178"/>
                  <a:pt x="22151" y="10195"/>
                </a:cubicBezTo>
                <a:cubicBezTo>
                  <a:pt x="22173" y="10238"/>
                  <a:pt x="22131" y="10260"/>
                  <a:pt x="22126" y="10269"/>
                </a:cubicBezTo>
                <a:cubicBezTo>
                  <a:pt x="22122" y="10277"/>
                  <a:pt x="22076" y="10326"/>
                  <a:pt x="22051" y="10294"/>
                </a:cubicBezTo>
                <a:cubicBezTo>
                  <a:pt x="22051" y="10286"/>
                  <a:pt x="22051" y="10277"/>
                  <a:pt x="22051" y="10269"/>
                </a:cubicBezTo>
                <a:cubicBezTo>
                  <a:pt x="22107" y="10227"/>
                  <a:pt x="22097" y="10251"/>
                  <a:pt x="22151" y="10269"/>
                </a:cubicBezTo>
                <a:cubicBezTo>
                  <a:pt x="22175" y="10269"/>
                  <a:pt x="22183" y="10269"/>
                  <a:pt x="22175" y="10294"/>
                </a:cubicBezTo>
                <a:cubicBezTo>
                  <a:pt x="22166" y="10323"/>
                  <a:pt x="22142" y="10339"/>
                  <a:pt x="22101" y="10344"/>
                </a:cubicBezTo>
                <a:cubicBezTo>
                  <a:pt x="22073" y="10344"/>
                  <a:pt x="22062" y="10342"/>
                  <a:pt x="22051" y="10319"/>
                </a:cubicBezTo>
                <a:cubicBezTo>
                  <a:pt x="22057" y="10293"/>
                  <a:pt x="22090" y="10250"/>
                  <a:pt x="22101" y="10244"/>
                </a:cubicBezTo>
                <a:cubicBezTo>
                  <a:pt x="22109" y="10244"/>
                  <a:pt x="22118" y="10244"/>
                  <a:pt x="22126" y="10244"/>
                </a:cubicBezTo>
              </a:path>
              <a:path w="9724" h="4069">
                <a:moveTo>
                  <a:pt x="22002" y="12303"/>
                </a:moveTo>
                <a:cubicBezTo>
                  <a:pt x="22002" y="12265"/>
                  <a:pt x="21986" y="12200"/>
                  <a:pt x="22027" y="12179"/>
                </a:cubicBezTo>
                <a:cubicBezTo>
                  <a:pt x="22063" y="12161"/>
                  <a:pt x="22127" y="12182"/>
                  <a:pt x="22151" y="12204"/>
                </a:cubicBezTo>
                <a:cubicBezTo>
                  <a:pt x="22190" y="12240"/>
                  <a:pt x="22216" y="12299"/>
                  <a:pt x="22200" y="12353"/>
                </a:cubicBezTo>
                <a:cubicBezTo>
                  <a:pt x="22179" y="12422"/>
                  <a:pt x="22089" y="12424"/>
                  <a:pt x="22027" y="12427"/>
                </a:cubicBezTo>
                <a:cubicBezTo>
                  <a:pt x="21986" y="12429"/>
                  <a:pt x="21880" y="12433"/>
                  <a:pt x="21853" y="12402"/>
                </a:cubicBezTo>
                <a:cubicBezTo>
                  <a:pt x="21853" y="12378"/>
                  <a:pt x="21853" y="12369"/>
                  <a:pt x="21853" y="12353"/>
                </a:cubicBezTo>
              </a:path>
              <a:path w="9724" h="4069">
                <a:moveTo>
                  <a:pt x="22448" y="12402"/>
                </a:moveTo>
                <a:cubicBezTo>
                  <a:pt x="22456" y="12410"/>
                  <a:pt x="22465" y="12419"/>
                  <a:pt x="22473" y="12427"/>
                </a:cubicBezTo>
              </a:path>
              <a:path w="9724" h="4069">
                <a:moveTo>
                  <a:pt x="22870" y="12254"/>
                </a:moveTo>
                <a:cubicBezTo>
                  <a:pt x="22857" y="12216"/>
                  <a:pt x="22845" y="12233"/>
                  <a:pt x="22845" y="12179"/>
                </a:cubicBezTo>
                <a:cubicBezTo>
                  <a:pt x="22845" y="12161"/>
                  <a:pt x="22893" y="12117"/>
                  <a:pt x="22920" y="12105"/>
                </a:cubicBezTo>
                <a:cubicBezTo>
                  <a:pt x="22954" y="12090"/>
                  <a:pt x="23023" y="12101"/>
                  <a:pt x="23044" y="12129"/>
                </a:cubicBezTo>
                <a:cubicBezTo>
                  <a:pt x="23097" y="12198"/>
                  <a:pt x="23093" y="12271"/>
                  <a:pt x="23093" y="12353"/>
                </a:cubicBezTo>
                <a:cubicBezTo>
                  <a:pt x="23093" y="12410"/>
                  <a:pt x="23064" y="12469"/>
                  <a:pt x="22994" y="12452"/>
                </a:cubicBezTo>
                <a:cubicBezTo>
                  <a:pt x="22946" y="12441"/>
                  <a:pt x="22873" y="12397"/>
                  <a:pt x="22845" y="12353"/>
                </a:cubicBezTo>
                <a:cubicBezTo>
                  <a:pt x="22825" y="12312"/>
                  <a:pt x="22816" y="12306"/>
                  <a:pt x="22820" y="12278"/>
                </a:cubicBezTo>
              </a:path>
              <a:path w="9724" h="4069">
                <a:moveTo>
                  <a:pt x="23564" y="12154"/>
                </a:moveTo>
                <a:cubicBezTo>
                  <a:pt x="23589" y="12154"/>
                  <a:pt x="23597" y="12154"/>
                  <a:pt x="23614" y="12154"/>
                </a:cubicBezTo>
                <a:cubicBezTo>
                  <a:pt x="23614" y="12113"/>
                  <a:pt x="23608" y="12075"/>
                  <a:pt x="23564" y="12055"/>
                </a:cubicBezTo>
                <a:cubicBezTo>
                  <a:pt x="23529" y="12039"/>
                  <a:pt x="23488" y="12060"/>
                  <a:pt x="23465" y="12080"/>
                </a:cubicBezTo>
                <a:cubicBezTo>
                  <a:pt x="23417" y="12123"/>
                  <a:pt x="23416" y="12141"/>
                  <a:pt x="23416" y="12204"/>
                </a:cubicBezTo>
                <a:cubicBezTo>
                  <a:pt x="23416" y="12241"/>
                  <a:pt x="23443" y="12275"/>
                  <a:pt x="23465" y="12303"/>
                </a:cubicBezTo>
                <a:cubicBezTo>
                  <a:pt x="23523" y="12291"/>
                  <a:pt x="23574" y="12270"/>
                  <a:pt x="23589" y="12204"/>
                </a:cubicBezTo>
                <a:cubicBezTo>
                  <a:pt x="23599" y="12160"/>
                  <a:pt x="23614" y="12035"/>
                  <a:pt x="23614" y="12080"/>
                </a:cubicBezTo>
                <a:cubicBezTo>
                  <a:pt x="23614" y="12142"/>
                  <a:pt x="23629" y="12238"/>
                  <a:pt x="23639" y="12303"/>
                </a:cubicBezTo>
                <a:cubicBezTo>
                  <a:pt x="23652" y="12388"/>
                  <a:pt x="23672" y="12470"/>
                  <a:pt x="23688" y="12551"/>
                </a:cubicBezTo>
              </a:path>
              <a:path w="9724" h="4069">
                <a:moveTo>
                  <a:pt x="21605" y="12402"/>
                </a:moveTo>
                <a:cubicBezTo>
                  <a:pt x="21592" y="12440"/>
                  <a:pt x="21575" y="12427"/>
                  <a:pt x="21530" y="12427"/>
                </a:cubicBezTo>
                <a:cubicBezTo>
                  <a:pt x="21469" y="12427"/>
                  <a:pt x="21479" y="12415"/>
                  <a:pt x="21530" y="12402"/>
                </a:cubicBezTo>
                <a:cubicBezTo>
                  <a:pt x="21519" y="12437"/>
                  <a:pt x="21523" y="12427"/>
                  <a:pt x="21481" y="12427"/>
                </a:cubicBezTo>
              </a:path>
              <a:path w="9724" h="4069">
                <a:moveTo>
                  <a:pt x="19720" y="9996"/>
                </a:moveTo>
                <a:cubicBezTo>
                  <a:pt x="19720" y="10042"/>
                  <a:pt x="19700" y="10055"/>
                  <a:pt x="19695" y="10096"/>
                </a:cubicBezTo>
                <a:cubicBezTo>
                  <a:pt x="19685" y="10183"/>
                  <a:pt x="19695" y="10271"/>
                  <a:pt x="19720" y="10344"/>
                </a:cubicBezTo>
                <a:cubicBezTo>
                  <a:pt x="19720" y="10352"/>
                  <a:pt x="19720" y="10360"/>
                  <a:pt x="19720" y="10368"/>
                </a:cubicBezTo>
              </a:path>
              <a:path w="9724" h="4069">
                <a:moveTo>
                  <a:pt x="23738" y="11063"/>
                </a:moveTo>
                <a:cubicBezTo>
                  <a:pt x="23779" y="11063"/>
                  <a:pt x="23705" y="11063"/>
                  <a:pt x="23664" y="11063"/>
                </a:cubicBezTo>
                <a:cubicBezTo>
                  <a:pt x="23567" y="11063"/>
                  <a:pt x="23459" y="11063"/>
                  <a:pt x="23366" y="11088"/>
                </a:cubicBezTo>
                <a:cubicBezTo>
                  <a:pt x="23304" y="11104"/>
                  <a:pt x="23248" y="11123"/>
                  <a:pt x="23192" y="11137"/>
                </a:cubicBezTo>
              </a:path>
              <a:path w="9724" h="4069">
                <a:moveTo>
                  <a:pt x="23416" y="10914"/>
                </a:moveTo>
                <a:cubicBezTo>
                  <a:pt x="23424" y="10906"/>
                  <a:pt x="23432" y="10897"/>
                  <a:pt x="23440" y="10889"/>
                </a:cubicBezTo>
                <a:cubicBezTo>
                  <a:pt x="23456" y="10951"/>
                  <a:pt x="23465" y="10958"/>
                  <a:pt x="23465" y="11038"/>
                </a:cubicBezTo>
                <a:cubicBezTo>
                  <a:pt x="23465" y="11152"/>
                  <a:pt x="23515" y="11246"/>
                  <a:pt x="23515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10360" y="4946760"/>
            <a:ext cx="839880" cy="206280"/>
          </a:xfrm>
          <a:custGeom>
            <a:avLst/>
            <a:gdLst/>
            <a:ahLst/>
            <a:rect l="l" t="t" r="r" b="b"/>
            <a:pathLst>
              <a:path w="2332" h="571">
                <a:moveTo>
                  <a:pt x="22374" y="14039"/>
                </a:moveTo>
                <a:cubicBezTo>
                  <a:pt x="22414" y="14019"/>
                  <a:pt x="22430" y="14021"/>
                  <a:pt x="22423" y="13990"/>
                </a:cubicBezTo>
                <a:cubicBezTo>
                  <a:pt x="22387" y="13990"/>
                  <a:pt x="22351" y="13998"/>
                  <a:pt x="22324" y="14015"/>
                </a:cubicBezTo>
                <a:cubicBezTo>
                  <a:pt x="22287" y="14039"/>
                  <a:pt x="22294" y="14039"/>
                  <a:pt x="22250" y="14039"/>
                </a:cubicBezTo>
              </a:path>
              <a:path w="2332" h="571">
                <a:moveTo>
                  <a:pt x="22448" y="14139"/>
                </a:moveTo>
                <a:cubicBezTo>
                  <a:pt x="22465" y="14147"/>
                  <a:pt x="22481" y="14155"/>
                  <a:pt x="22498" y="14163"/>
                </a:cubicBezTo>
                <a:cubicBezTo>
                  <a:pt x="22441" y="14171"/>
                  <a:pt x="22411" y="14188"/>
                  <a:pt x="22349" y="14188"/>
                </a:cubicBezTo>
                <a:cubicBezTo>
                  <a:pt x="22341" y="14188"/>
                  <a:pt x="22332" y="14188"/>
                  <a:pt x="22324" y="14188"/>
                </a:cubicBezTo>
              </a:path>
              <a:path w="2332" h="571">
                <a:moveTo>
                  <a:pt x="22845" y="14064"/>
                </a:moveTo>
                <a:cubicBezTo>
                  <a:pt x="22819" y="14004"/>
                  <a:pt x="22820" y="13981"/>
                  <a:pt x="22820" y="13915"/>
                </a:cubicBezTo>
                <a:cubicBezTo>
                  <a:pt x="22820" y="13888"/>
                  <a:pt x="22846" y="13832"/>
                  <a:pt x="22870" y="13816"/>
                </a:cubicBezTo>
                <a:cubicBezTo>
                  <a:pt x="22930" y="13775"/>
                  <a:pt x="23034" y="13775"/>
                  <a:pt x="23093" y="13816"/>
                </a:cubicBezTo>
                <a:cubicBezTo>
                  <a:pt x="23152" y="13857"/>
                  <a:pt x="23226" y="13942"/>
                  <a:pt x="23242" y="14015"/>
                </a:cubicBezTo>
                <a:cubicBezTo>
                  <a:pt x="23262" y="14102"/>
                  <a:pt x="23181" y="14153"/>
                  <a:pt x="23118" y="14188"/>
                </a:cubicBezTo>
                <a:cubicBezTo>
                  <a:pt x="23049" y="14226"/>
                  <a:pt x="22940" y="14218"/>
                  <a:pt x="22870" y="14188"/>
                </a:cubicBezTo>
                <a:cubicBezTo>
                  <a:pt x="22845" y="14163"/>
                  <a:pt x="22837" y="14155"/>
                  <a:pt x="22820" y="14139"/>
                </a:cubicBezTo>
              </a:path>
              <a:path w="2332" h="571">
                <a:moveTo>
                  <a:pt x="23490" y="14163"/>
                </a:moveTo>
                <a:cubicBezTo>
                  <a:pt x="23498" y="14163"/>
                  <a:pt x="23507" y="14163"/>
                  <a:pt x="23515" y="14163"/>
                </a:cubicBezTo>
              </a:path>
              <a:path w="2332" h="571">
                <a:moveTo>
                  <a:pt x="23812" y="13791"/>
                </a:moveTo>
                <a:cubicBezTo>
                  <a:pt x="23880" y="13726"/>
                  <a:pt x="23769" y="13858"/>
                  <a:pt x="23763" y="13866"/>
                </a:cubicBezTo>
                <a:cubicBezTo>
                  <a:pt x="23715" y="13923"/>
                  <a:pt x="23672" y="14005"/>
                  <a:pt x="23688" y="14089"/>
                </a:cubicBezTo>
                <a:cubicBezTo>
                  <a:pt x="23701" y="14155"/>
                  <a:pt x="23760" y="14204"/>
                  <a:pt x="23812" y="14213"/>
                </a:cubicBezTo>
                <a:cubicBezTo>
                  <a:pt x="23858" y="14221"/>
                  <a:pt x="23882" y="14209"/>
                  <a:pt x="23887" y="14163"/>
                </a:cubicBezTo>
                <a:cubicBezTo>
                  <a:pt x="23894" y="14104"/>
                  <a:pt x="23873" y="14113"/>
                  <a:pt x="23837" y="14089"/>
                </a:cubicBezTo>
                <a:cubicBezTo>
                  <a:pt x="23829" y="14081"/>
                  <a:pt x="23820" y="14072"/>
                  <a:pt x="23812" y="14064"/>
                </a:cubicBezTo>
              </a:path>
              <a:path w="2332" h="571">
                <a:moveTo>
                  <a:pt x="24110" y="13767"/>
                </a:moveTo>
                <a:cubicBezTo>
                  <a:pt x="24133" y="13744"/>
                  <a:pt x="24137" y="13736"/>
                  <a:pt x="24160" y="13742"/>
                </a:cubicBezTo>
                <a:cubicBezTo>
                  <a:pt x="24160" y="13815"/>
                  <a:pt x="24147" y="13872"/>
                  <a:pt x="24135" y="13940"/>
                </a:cubicBezTo>
                <a:cubicBezTo>
                  <a:pt x="24128" y="13980"/>
                  <a:pt x="24123" y="14066"/>
                  <a:pt x="24160" y="14089"/>
                </a:cubicBezTo>
                <a:cubicBezTo>
                  <a:pt x="24178" y="14100"/>
                  <a:pt x="24266" y="14118"/>
                  <a:pt x="24284" y="14114"/>
                </a:cubicBezTo>
                <a:cubicBezTo>
                  <a:pt x="24343" y="14100"/>
                  <a:pt x="24399" y="14079"/>
                  <a:pt x="24457" y="14064"/>
                </a:cubicBezTo>
                <a:cubicBezTo>
                  <a:pt x="24511" y="14050"/>
                  <a:pt x="24538" y="14079"/>
                  <a:pt x="24557" y="14089"/>
                </a:cubicBezTo>
                <a:cubicBezTo>
                  <a:pt x="24565" y="14089"/>
                  <a:pt x="24573" y="14089"/>
                  <a:pt x="24581" y="14089"/>
                </a:cubicBezTo>
              </a:path>
              <a:path w="2332" h="571">
                <a:moveTo>
                  <a:pt x="24482" y="13965"/>
                </a:moveTo>
                <a:cubicBezTo>
                  <a:pt x="24417" y="13974"/>
                  <a:pt x="24408" y="13972"/>
                  <a:pt x="24408" y="14039"/>
                </a:cubicBezTo>
                <a:cubicBezTo>
                  <a:pt x="24408" y="14130"/>
                  <a:pt x="24408" y="14221"/>
                  <a:pt x="24408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14680" y="5545080"/>
            <a:ext cx="465120" cy="546120"/>
          </a:xfrm>
          <a:custGeom>
            <a:avLst/>
            <a:gdLst/>
            <a:ahLst/>
            <a:rect l="l" t="t" r="r" b="b"/>
            <a:pathLst>
              <a:path w="1291" h="1514">
                <a:moveTo>
                  <a:pt x="4911" y="15553"/>
                </a:moveTo>
                <a:cubicBezTo>
                  <a:pt x="4911" y="15487"/>
                  <a:pt x="4919" y="15480"/>
                  <a:pt x="4936" y="15429"/>
                </a:cubicBezTo>
                <a:cubicBezTo>
                  <a:pt x="4936" y="15421"/>
                  <a:pt x="4936" y="15412"/>
                  <a:pt x="4936" y="15404"/>
                </a:cubicBezTo>
                <a:cubicBezTo>
                  <a:pt x="4892" y="15404"/>
                  <a:pt x="4887" y="15411"/>
                  <a:pt x="4862" y="15429"/>
                </a:cubicBezTo>
                <a:cubicBezTo>
                  <a:pt x="4812" y="15465"/>
                  <a:pt x="4812" y="15507"/>
                  <a:pt x="4787" y="15553"/>
                </a:cubicBezTo>
                <a:cubicBezTo>
                  <a:pt x="4749" y="15623"/>
                  <a:pt x="4762" y="15698"/>
                  <a:pt x="4762" y="15776"/>
                </a:cubicBezTo>
                <a:cubicBezTo>
                  <a:pt x="4762" y="15836"/>
                  <a:pt x="4793" y="15955"/>
                  <a:pt x="4837" y="15999"/>
                </a:cubicBezTo>
                <a:cubicBezTo>
                  <a:pt x="4876" y="16037"/>
                  <a:pt x="4965" y="16074"/>
                  <a:pt x="5011" y="16024"/>
                </a:cubicBezTo>
                <a:cubicBezTo>
                  <a:pt x="5039" y="15994"/>
                  <a:pt x="5047" y="15913"/>
                  <a:pt x="5035" y="15875"/>
                </a:cubicBezTo>
                <a:cubicBezTo>
                  <a:pt x="5012" y="15805"/>
                  <a:pt x="4974" y="15825"/>
                  <a:pt x="4911" y="15825"/>
                </a:cubicBezTo>
                <a:cubicBezTo>
                  <a:pt x="4883" y="15825"/>
                  <a:pt x="4873" y="15828"/>
                  <a:pt x="4862" y="15850"/>
                </a:cubicBezTo>
              </a:path>
              <a:path w="1291" h="1514">
                <a:moveTo>
                  <a:pt x="5333" y="15553"/>
                </a:moveTo>
                <a:cubicBezTo>
                  <a:pt x="5325" y="15553"/>
                  <a:pt x="5316" y="15553"/>
                  <a:pt x="5308" y="15553"/>
                </a:cubicBezTo>
                <a:cubicBezTo>
                  <a:pt x="5317" y="15525"/>
                  <a:pt x="5342" y="15506"/>
                  <a:pt x="5383" y="15503"/>
                </a:cubicBezTo>
                <a:cubicBezTo>
                  <a:pt x="5432" y="15499"/>
                  <a:pt x="5501" y="15535"/>
                  <a:pt x="5531" y="15577"/>
                </a:cubicBezTo>
                <a:cubicBezTo>
                  <a:pt x="5584" y="15651"/>
                  <a:pt x="5554" y="15747"/>
                  <a:pt x="5531" y="15825"/>
                </a:cubicBezTo>
                <a:cubicBezTo>
                  <a:pt x="5509" y="15898"/>
                  <a:pt x="5463" y="15983"/>
                  <a:pt x="5432" y="16049"/>
                </a:cubicBezTo>
                <a:cubicBezTo>
                  <a:pt x="5409" y="16071"/>
                  <a:pt x="5401" y="16076"/>
                  <a:pt x="5407" y="16098"/>
                </a:cubicBezTo>
                <a:cubicBezTo>
                  <a:pt x="5449" y="16088"/>
                  <a:pt x="5487" y="16069"/>
                  <a:pt x="5531" y="16049"/>
                </a:cubicBezTo>
                <a:cubicBezTo>
                  <a:pt x="5593" y="16020"/>
                  <a:pt x="5662" y="16004"/>
                  <a:pt x="5730" y="15999"/>
                </a:cubicBezTo>
                <a:cubicBezTo>
                  <a:pt x="5762" y="15997"/>
                  <a:pt x="5773" y="15982"/>
                  <a:pt x="5804" y="15974"/>
                </a:cubicBezTo>
              </a:path>
              <a:path w="1291" h="1514">
                <a:moveTo>
                  <a:pt x="5085" y="16446"/>
                </a:moveTo>
                <a:cubicBezTo>
                  <a:pt x="5106" y="16396"/>
                  <a:pt x="5110" y="16394"/>
                  <a:pt x="5110" y="16346"/>
                </a:cubicBezTo>
                <a:cubicBezTo>
                  <a:pt x="5064" y="16346"/>
                  <a:pt x="5046" y="16340"/>
                  <a:pt x="5011" y="16371"/>
                </a:cubicBezTo>
                <a:cubicBezTo>
                  <a:pt x="4949" y="16426"/>
                  <a:pt x="4977" y="16446"/>
                  <a:pt x="4961" y="16520"/>
                </a:cubicBezTo>
                <a:cubicBezTo>
                  <a:pt x="4942" y="16607"/>
                  <a:pt x="4933" y="16658"/>
                  <a:pt x="4961" y="16743"/>
                </a:cubicBezTo>
                <a:cubicBezTo>
                  <a:pt x="4978" y="16793"/>
                  <a:pt x="5057" y="16854"/>
                  <a:pt x="5110" y="16867"/>
                </a:cubicBezTo>
                <a:cubicBezTo>
                  <a:pt x="5181" y="16884"/>
                  <a:pt x="5232" y="16859"/>
                  <a:pt x="5259" y="16793"/>
                </a:cubicBezTo>
                <a:cubicBezTo>
                  <a:pt x="5287" y="16722"/>
                  <a:pt x="5235" y="16696"/>
                  <a:pt x="5184" y="16669"/>
                </a:cubicBezTo>
                <a:cubicBezTo>
                  <a:pt x="5119" y="16635"/>
                  <a:pt x="5058" y="16644"/>
                  <a:pt x="4986" y="16644"/>
                </a:cubicBezTo>
                <a:cubicBezTo>
                  <a:pt x="4978" y="16644"/>
                  <a:pt x="4969" y="16644"/>
                  <a:pt x="4961" y="16644"/>
                </a:cubicBezTo>
              </a:path>
              <a:path w="1291" h="1514">
                <a:moveTo>
                  <a:pt x="5457" y="16321"/>
                </a:moveTo>
                <a:cubicBezTo>
                  <a:pt x="5499" y="16280"/>
                  <a:pt x="5507" y="16272"/>
                  <a:pt x="5531" y="16247"/>
                </a:cubicBezTo>
                <a:cubicBezTo>
                  <a:pt x="5564" y="16291"/>
                  <a:pt x="5556" y="16313"/>
                  <a:pt x="5556" y="16371"/>
                </a:cubicBezTo>
                <a:cubicBezTo>
                  <a:pt x="5556" y="16440"/>
                  <a:pt x="5543" y="16509"/>
                  <a:pt x="5581" y="16570"/>
                </a:cubicBezTo>
                <a:cubicBezTo>
                  <a:pt x="5601" y="16601"/>
                  <a:pt x="5641" y="16633"/>
                  <a:pt x="5680" y="16619"/>
                </a:cubicBezTo>
                <a:cubicBezTo>
                  <a:pt x="5731" y="16601"/>
                  <a:pt x="5809" y="16591"/>
                  <a:pt x="5854" y="16570"/>
                </a:cubicBezTo>
                <a:cubicBezTo>
                  <a:pt x="5893" y="16552"/>
                  <a:pt x="5938" y="16533"/>
                  <a:pt x="5978" y="16520"/>
                </a:cubicBezTo>
                <a:cubicBezTo>
                  <a:pt x="6007" y="16510"/>
                  <a:pt x="6047" y="16534"/>
                  <a:pt x="6052" y="16545"/>
                </a:cubicBezTo>
                <a:cubicBezTo>
                  <a:pt x="6052" y="16553"/>
                  <a:pt x="6052" y="16562"/>
                  <a:pt x="6052" y="16570"/>
                </a:cubicBezTo>
              </a:path>
              <a:path w="1291" h="1514">
                <a:moveTo>
                  <a:pt x="5804" y="16495"/>
                </a:moveTo>
                <a:cubicBezTo>
                  <a:pt x="5757" y="16574"/>
                  <a:pt x="5806" y="16653"/>
                  <a:pt x="5829" y="16743"/>
                </a:cubicBezTo>
                <a:cubicBezTo>
                  <a:pt x="5852" y="16833"/>
                  <a:pt x="5860" y="16857"/>
                  <a:pt x="5854" y="169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9805" t="12111" r="7842" b="34471"/>
          <a:stretch/>
        </p:blipFill>
        <p:spPr>
          <a:xfrm>
            <a:off x="0" y="0"/>
            <a:ext cx="6400800" cy="5715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125960" y="588960"/>
            <a:ext cx="2009880" cy="1384200"/>
          </a:xfrm>
          <a:custGeom>
            <a:avLst/>
            <a:gdLst/>
            <a:ahLst/>
            <a:rect l="l" t="t" r="r" b="b"/>
            <a:pathLst>
              <a:path w="5582" h="3846">
                <a:moveTo>
                  <a:pt x="13345" y="4911"/>
                </a:moveTo>
                <a:cubicBezTo>
                  <a:pt x="13353" y="4911"/>
                  <a:pt x="13362" y="4911"/>
                  <a:pt x="13370" y="4911"/>
                </a:cubicBezTo>
                <a:cubicBezTo>
                  <a:pt x="13286" y="4911"/>
                  <a:pt x="13224" y="4916"/>
                  <a:pt x="13146" y="4936"/>
                </a:cubicBezTo>
                <a:cubicBezTo>
                  <a:pt x="13073" y="4955"/>
                  <a:pt x="12982" y="4929"/>
                  <a:pt x="12923" y="4911"/>
                </a:cubicBezTo>
                <a:cubicBezTo>
                  <a:pt x="12875" y="4897"/>
                  <a:pt x="12800" y="4911"/>
                  <a:pt x="12750" y="4911"/>
                </a:cubicBezTo>
                <a:cubicBezTo>
                  <a:pt x="12750" y="4968"/>
                  <a:pt x="12734" y="5008"/>
                  <a:pt x="12725" y="5060"/>
                </a:cubicBezTo>
                <a:cubicBezTo>
                  <a:pt x="12716" y="5114"/>
                  <a:pt x="12725" y="5178"/>
                  <a:pt x="12725" y="5234"/>
                </a:cubicBezTo>
              </a:path>
              <a:path w="5582" h="3846">
                <a:moveTo>
                  <a:pt x="12874" y="2009"/>
                </a:moveTo>
                <a:cubicBezTo>
                  <a:pt x="12829" y="1975"/>
                  <a:pt x="12822" y="1988"/>
                  <a:pt x="12774" y="2009"/>
                </a:cubicBezTo>
                <a:cubicBezTo>
                  <a:pt x="12743" y="2022"/>
                  <a:pt x="12675" y="2020"/>
                  <a:pt x="12650" y="2034"/>
                </a:cubicBezTo>
                <a:cubicBezTo>
                  <a:pt x="12613" y="2055"/>
                  <a:pt x="12569" y="2079"/>
                  <a:pt x="12526" y="2084"/>
                </a:cubicBezTo>
                <a:cubicBezTo>
                  <a:pt x="12475" y="2090"/>
                  <a:pt x="12454" y="2104"/>
                  <a:pt x="12402" y="2108"/>
                </a:cubicBezTo>
                <a:cubicBezTo>
                  <a:pt x="12362" y="2111"/>
                  <a:pt x="12348" y="2133"/>
                  <a:pt x="12303" y="2133"/>
                </a:cubicBezTo>
                <a:cubicBezTo>
                  <a:pt x="12255" y="2133"/>
                  <a:pt x="12242" y="2129"/>
                  <a:pt x="12204" y="2158"/>
                </a:cubicBezTo>
                <a:cubicBezTo>
                  <a:pt x="12204" y="2112"/>
                  <a:pt x="12184" y="2100"/>
                  <a:pt x="12179" y="2059"/>
                </a:cubicBezTo>
                <a:cubicBezTo>
                  <a:pt x="12173" y="2004"/>
                  <a:pt x="12142" y="1963"/>
                  <a:pt x="12129" y="1910"/>
                </a:cubicBezTo>
                <a:cubicBezTo>
                  <a:pt x="12123" y="1886"/>
                  <a:pt x="12117" y="1832"/>
                  <a:pt x="12105" y="1811"/>
                </a:cubicBezTo>
                <a:cubicBezTo>
                  <a:pt x="12084" y="1773"/>
                  <a:pt x="12056" y="1752"/>
                  <a:pt x="12105" y="1736"/>
                </a:cubicBezTo>
              </a:path>
              <a:path w="5582" h="3846">
                <a:moveTo>
                  <a:pt x="11584" y="3522"/>
                </a:moveTo>
                <a:cubicBezTo>
                  <a:pt x="11643" y="3537"/>
                  <a:pt x="11633" y="3561"/>
                  <a:pt x="11633" y="3621"/>
                </a:cubicBezTo>
                <a:cubicBezTo>
                  <a:pt x="11633" y="3696"/>
                  <a:pt x="11633" y="3770"/>
                  <a:pt x="11633" y="3845"/>
                </a:cubicBezTo>
              </a:path>
              <a:path w="5582" h="3846">
                <a:moveTo>
                  <a:pt x="11708" y="3497"/>
                </a:moveTo>
                <a:cubicBezTo>
                  <a:pt x="11708" y="3439"/>
                  <a:pt x="11717" y="3459"/>
                  <a:pt x="11757" y="3423"/>
                </a:cubicBezTo>
                <a:cubicBezTo>
                  <a:pt x="11795" y="3389"/>
                  <a:pt x="11829" y="3377"/>
                  <a:pt x="11881" y="3373"/>
                </a:cubicBezTo>
                <a:cubicBezTo>
                  <a:pt x="11927" y="3369"/>
                  <a:pt x="11951" y="3374"/>
                  <a:pt x="11956" y="3423"/>
                </a:cubicBezTo>
                <a:cubicBezTo>
                  <a:pt x="11962" y="3475"/>
                  <a:pt x="11941" y="3487"/>
                  <a:pt x="11906" y="3522"/>
                </a:cubicBezTo>
                <a:cubicBezTo>
                  <a:pt x="11868" y="3559"/>
                  <a:pt x="11857" y="3569"/>
                  <a:pt x="11857" y="3621"/>
                </a:cubicBezTo>
                <a:cubicBezTo>
                  <a:pt x="11908" y="3621"/>
                  <a:pt x="11941" y="3613"/>
                  <a:pt x="11981" y="3646"/>
                </a:cubicBezTo>
                <a:cubicBezTo>
                  <a:pt x="12045" y="3698"/>
                  <a:pt x="11978" y="3717"/>
                  <a:pt x="11931" y="3721"/>
                </a:cubicBezTo>
                <a:cubicBezTo>
                  <a:pt x="11886" y="3725"/>
                  <a:pt x="11894" y="3717"/>
                  <a:pt x="11857" y="3746"/>
                </a:cubicBezTo>
              </a:path>
              <a:path w="5582" h="3846">
                <a:moveTo>
                  <a:pt x="12328" y="3398"/>
                </a:moveTo>
                <a:cubicBezTo>
                  <a:pt x="12353" y="3398"/>
                  <a:pt x="12361" y="3398"/>
                  <a:pt x="12353" y="3373"/>
                </a:cubicBezTo>
                <a:cubicBezTo>
                  <a:pt x="12297" y="3373"/>
                  <a:pt x="12248" y="3363"/>
                  <a:pt x="12204" y="3398"/>
                </a:cubicBezTo>
                <a:cubicBezTo>
                  <a:pt x="12178" y="3419"/>
                  <a:pt x="12157" y="3466"/>
                  <a:pt x="12154" y="3497"/>
                </a:cubicBezTo>
                <a:cubicBezTo>
                  <a:pt x="12149" y="3539"/>
                  <a:pt x="12162" y="3550"/>
                  <a:pt x="12179" y="3572"/>
                </a:cubicBezTo>
                <a:cubicBezTo>
                  <a:pt x="12198" y="3597"/>
                  <a:pt x="12275" y="3635"/>
                  <a:pt x="12303" y="3646"/>
                </a:cubicBezTo>
                <a:cubicBezTo>
                  <a:pt x="12331" y="3657"/>
                  <a:pt x="12348" y="3679"/>
                  <a:pt x="12353" y="3721"/>
                </a:cubicBezTo>
                <a:cubicBezTo>
                  <a:pt x="12356" y="3748"/>
                  <a:pt x="12326" y="3767"/>
                  <a:pt x="12303" y="3770"/>
                </a:cubicBezTo>
                <a:cubicBezTo>
                  <a:pt x="12279" y="3773"/>
                  <a:pt x="12253" y="3770"/>
                  <a:pt x="12229" y="3770"/>
                </a:cubicBezTo>
                <a:cubicBezTo>
                  <a:pt x="12229" y="3716"/>
                  <a:pt x="12245" y="3688"/>
                  <a:pt x="12254" y="3646"/>
                </a:cubicBezTo>
                <a:cubicBezTo>
                  <a:pt x="12264" y="3599"/>
                  <a:pt x="12252" y="3561"/>
                  <a:pt x="12278" y="3522"/>
                </a:cubicBezTo>
                <a:cubicBezTo>
                  <a:pt x="12299" y="3490"/>
                  <a:pt x="12321" y="3481"/>
                  <a:pt x="12353" y="3473"/>
                </a:cubicBezTo>
              </a:path>
              <a:path w="5582" h="3846">
                <a:moveTo>
                  <a:pt x="12526" y="3324"/>
                </a:moveTo>
                <a:cubicBezTo>
                  <a:pt x="12526" y="3293"/>
                  <a:pt x="12534" y="3257"/>
                  <a:pt x="12551" y="3249"/>
                </a:cubicBezTo>
                <a:cubicBezTo>
                  <a:pt x="12575" y="3237"/>
                  <a:pt x="12586" y="3207"/>
                  <a:pt x="12601" y="3200"/>
                </a:cubicBezTo>
                <a:cubicBezTo>
                  <a:pt x="12640" y="3180"/>
                  <a:pt x="12723" y="3201"/>
                  <a:pt x="12750" y="3225"/>
                </a:cubicBezTo>
                <a:cubicBezTo>
                  <a:pt x="12771" y="3244"/>
                  <a:pt x="12790" y="3294"/>
                  <a:pt x="12774" y="3324"/>
                </a:cubicBezTo>
                <a:cubicBezTo>
                  <a:pt x="12760" y="3351"/>
                  <a:pt x="12702" y="3370"/>
                  <a:pt x="12675" y="3373"/>
                </a:cubicBezTo>
                <a:cubicBezTo>
                  <a:pt x="12630" y="3378"/>
                  <a:pt x="12606" y="3371"/>
                  <a:pt x="12601" y="3324"/>
                </a:cubicBezTo>
                <a:cubicBezTo>
                  <a:pt x="12601" y="3299"/>
                  <a:pt x="12601" y="3291"/>
                  <a:pt x="12601" y="3274"/>
                </a:cubicBezTo>
              </a:path>
              <a:path w="5582" h="3846">
                <a:moveTo>
                  <a:pt x="15081" y="3423"/>
                </a:moveTo>
                <a:cubicBezTo>
                  <a:pt x="15056" y="3423"/>
                  <a:pt x="15048" y="3423"/>
                  <a:pt x="15056" y="3448"/>
                </a:cubicBezTo>
                <a:cubicBezTo>
                  <a:pt x="15099" y="3437"/>
                  <a:pt x="15119" y="3403"/>
                  <a:pt x="15156" y="3373"/>
                </a:cubicBezTo>
                <a:cubicBezTo>
                  <a:pt x="15243" y="3302"/>
                  <a:pt x="15299" y="3198"/>
                  <a:pt x="15379" y="3125"/>
                </a:cubicBezTo>
                <a:cubicBezTo>
                  <a:pt x="15466" y="3045"/>
                  <a:pt x="15559" y="2951"/>
                  <a:pt x="15652" y="2877"/>
                </a:cubicBezTo>
                <a:cubicBezTo>
                  <a:pt x="15713" y="2829"/>
                  <a:pt x="15795" y="2746"/>
                  <a:pt x="15875" y="2729"/>
                </a:cubicBezTo>
                <a:cubicBezTo>
                  <a:pt x="15916" y="2729"/>
                  <a:pt x="15924" y="2729"/>
                  <a:pt x="15949" y="2729"/>
                </a:cubicBezTo>
              </a:path>
              <a:path w="5582" h="3846">
                <a:moveTo>
                  <a:pt x="16272" y="2456"/>
                </a:moveTo>
                <a:cubicBezTo>
                  <a:pt x="16312" y="2446"/>
                  <a:pt x="16311" y="2447"/>
                  <a:pt x="16321" y="2406"/>
                </a:cubicBezTo>
                <a:cubicBezTo>
                  <a:pt x="16302" y="2425"/>
                  <a:pt x="16250" y="2474"/>
                  <a:pt x="16247" y="2480"/>
                </a:cubicBezTo>
                <a:cubicBezTo>
                  <a:pt x="16242" y="2491"/>
                  <a:pt x="16224" y="2573"/>
                  <a:pt x="16222" y="2580"/>
                </a:cubicBezTo>
                <a:cubicBezTo>
                  <a:pt x="16209" y="2638"/>
                  <a:pt x="16197" y="2666"/>
                  <a:pt x="16197" y="2729"/>
                </a:cubicBezTo>
                <a:cubicBezTo>
                  <a:pt x="16197" y="2787"/>
                  <a:pt x="16228" y="2806"/>
                  <a:pt x="16247" y="2853"/>
                </a:cubicBezTo>
                <a:cubicBezTo>
                  <a:pt x="16256" y="2874"/>
                  <a:pt x="16278" y="2946"/>
                  <a:pt x="16321" y="2927"/>
                </a:cubicBezTo>
                <a:cubicBezTo>
                  <a:pt x="16365" y="2907"/>
                  <a:pt x="16411" y="2864"/>
                  <a:pt x="16446" y="2828"/>
                </a:cubicBezTo>
                <a:cubicBezTo>
                  <a:pt x="16483" y="2790"/>
                  <a:pt x="16495" y="2781"/>
                  <a:pt x="16495" y="2729"/>
                </a:cubicBezTo>
                <a:cubicBezTo>
                  <a:pt x="16452" y="2729"/>
                  <a:pt x="16409" y="2738"/>
                  <a:pt x="16371" y="2753"/>
                </a:cubicBezTo>
                <a:cubicBezTo>
                  <a:pt x="16331" y="2773"/>
                  <a:pt x="16324" y="2782"/>
                  <a:pt x="16297" y="2778"/>
                </a:cubicBezTo>
              </a:path>
              <a:path w="5582" h="3846">
                <a:moveTo>
                  <a:pt x="16892" y="2431"/>
                </a:moveTo>
                <a:cubicBezTo>
                  <a:pt x="16917" y="2431"/>
                  <a:pt x="16925" y="2431"/>
                  <a:pt x="16942" y="2431"/>
                </a:cubicBezTo>
                <a:cubicBezTo>
                  <a:pt x="16929" y="2391"/>
                  <a:pt x="16893" y="2406"/>
                  <a:pt x="16842" y="2406"/>
                </a:cubicBezTo>
                <a:cubicBezTo>
                  <a:pt x="16783" y="2406"/>
                  <a:pt x="16764" y="2415"/>
                  <a:pt x="16718" y="2431"/>
                </a:cubicBezTo>
                <a:cubicBezTo>
                  <a:pt x="16671" y="2447"/>
                  <a:pt x="16669" y="2453"/>
                  <a:pt x="16669" y="2505"/>
                </a:cubicBezTo>
                <a:cubicBezTo>
                  <a:pt x="16669" y="2540"/>
                  <a:pt x="16691" y="2577"/>
                  <a:pt x="16718" y="2580"/>
                </a:cubicBezTo>
                <a:cubicBezTo>
                  <a:pt x="16754" y="2585"/>
                  <a:pt x="16844" y="2532"/>
                  <a:pt x="16867" y="2505"/>
                </a:cubicBezTo>
                <a:cubicBezTo>
                  <a:pt x="16901" y="2466"/>
                  <a:pt x="16893" y="2421"/>
                  <a:pt x="16917" y="2381"/>
                </a:cubicBezTo>
                <a:cubicBezTo>
                  <a:pt x="16955" y="2445"/>
                  <a:pt x="16943" y="2526"/>
                  <a:pt x="16966" y="2604"/>
                </a:cubicBezTo>
                <a:cubicBezTo>
                  <a:pt x="16988" y="2679"/>
                  <a:pt x="17026" y="2754"/>
                  <a:pt x="17041" y="2828"/>
                </a:cubicBezTo>
              </a:path>
              <a:path w="5582" h="3846">
                <a:moveTo>
                  <a:pt x="12750" y="1637"/>
                </a:moveTo>
                <a:cubicBezTo>
                  <a:pt x="12750" y="1645"/>
                  <a:pt x="12750" y="1654"/>
                  <a:pt x="12750" y="1662"/>
                </a:cubicBezTo>
                <a:cubicBezTo>
                  <a:pt x="12714" y="1673"/>
                  <a:pt x="12684" y="1676"/>
                  <a:pt x="12650" y="1687"/>
                </a:cubicBezTo>
                <a:cubicBezTo>
                  <a:pt x="12616" y="1698"/>
                  <a:pt x="12584" y="1704"/>
                  <a:pt x="12551" y="1712"/>
                </a:cubicBezTo>
                <a:cubicBezTo>
                  <a:pt x="12543" y="1712"/>
                  <a:pt x="12534" y="1712"/>
                  <a:pt x="12526" y="1712"/>
                </a:cubicBezTo>
                <a:cubicBezTo>
                  <a:pt x="12515" y="1718"/>
                  <a:pt x="12482" y="1750"/>
                  <a:pt x="12452" y="1761"/>
                </a:cubicBezTo>
                <a:cubicBezTo>
                  <a:pt x="12417" y="1774"/>
                  <a:pt x="12391" y="1777"/>
                  <a:pt x="12353" y="1786"/>
                </a:cubicBezTo>
                <a:cubicBezTo>
                  <a:pt x="12345" y="1786"/>
                  <a:pt x="12336" y="1786"/>
                  <a:pt x="12328" y="1786"/>
                </a:cubicBezTo>
                <a:cubicBezTo>
                  <a:pt x="12321" y="1813"/>
                  <a:pt x="12319" y="1815"/>
                  <a:pt x="12303" y="1836"/>
                </a:cubicBezTo>
                <a:cubicBezTo>
                  <a:pt x="12257" y="1856"/>
                  <a:pt x="12261" y="1858"/>
                  <a:pt x="12229" y="1885"/>
                </a:cubicBezTo>
                <a:cubicBezTo>
                  <a:pt x="12202" y="1892"/>
                  <a:pt x="12200" y="1894"/>
                  <a:pt x="12179" y="1910"/>
                </a:cubicBezTo>
                <a:cubicBezTo>
                  <a:pt x="12163" y="1937"/>
                  <a:pt x="12145" y="1982"/>
                  <a:pt x="12129" y="2009"/>
                </a:cubicBezTo>
                <a:cubicBezTo>
                  <a:pt x="12096" y="2032"/>
                  <a:pt x="12113" y="2010"/>
                  <a:pt x="12105" y="2059"/>
                </a:cubicBezTo>
                <a:cubicBezTo>
                  <a:pt x="12078" y="2066"/>
                  <a:pt x="12076" y="2068"/>
                  <a:pt x="12055" y="2084"/>
                </a:cubicBezTo>
                <a:cubicBezTo>
                  <a:pt x="12055" y="2117"/>
                  <a:pt x="12055" y="2150"/>
                  <a:pt x="12055" y="2183"/>
                </a:cubicBezTo>
                <a:cubicBezTo>
                  <a:pt x="12020" y="2206"/>
                  <a:pt x="12038" y="2183"/>
                  <a:pt x="12030" y="2232"/>
                </a:cubicBezTo>
                <a:cubicBezTo>
                  <a:pt x="12023" y="2243"/>
                  <a:pt x="11993" y="2276"/>
                  <a:pt x="11981" y="2307"/>
                </a:cubicBezTo>
                <a:cubicBezTo>
                  <a:pt x="11968" y="2341"/>
                  <a:pt x="11968" y="2371"/>
                  <a:pt x="11956" y="2406"/>
                </a:cubicBezTo>
                <a:cubicBezTo>
                  <a:pt x="11921" y="2429"/>
                  <a:pt x="11939" y="2406"/>
                  <a:pt x="11931" y="2456"/>
                </a:cubicBezTo>
                <a:cubicBezTo>
                  <a:pt x="11896" y="2479"/>
                  <a:pt x="11915" y="2455"/>
                  <a:pt x="11906" y="2505"/>
                </a:cubicBezTo>
                <a:cubicBezTo>
                  <a:pt x="11871" y="2528"/>
                  <a:pt x="11889" y="2505"/>
                  <a:pt x="11881" y="2555"/>
                </a:cubicBezTo>
                <a:cubicBezTo>
                  <a:pt x="11864" y="2575"/>
                  <a:pt x="11849" y="2591"/>
                  <a:pt x="11832" y="2629"/>
                </a:cubicBezTo>
                <a:cubicBezTo>
                  <a:pt x="11805" y="2636"/>
                  <a:pt x="11803" y="2638"/>
                  <a:pt x="11782" y="2654"/>
                </a:cubicBezTo>
                <a:cubicBezTo>
                  <a:pt x="11773" y="2681"/>
                  <a:pt x="11766" y="2702"/>
                  <a:pt x="11757" y="2729"/>
                </a:cubicBezTo>
                <a:cubicBezTo>
                  <a:pt x="11731" y="2736"/>
                  <a:pt x="11729" y="2738"/>
                  <a:pt x="11708" y="2753"/>
                </a:cubicBezTo>
                <a:cubicBezTo>
                  <a:pt x="11699" y="2780"/>
                  <a:pt x="11692" y="2801"/>
                  <a:pt x="11683" y="2828"/>
                </a:cubicBezTo>
                <a:cubicBezTo>
                  <a:pt x="11656" y="2835"/>
                  <a:pt x="11654" y="2837"/>
                  <a:pt x="11633" y="2853"/>
                </a:cubicBezTo>
                <a:cubicBezTo>
                  <a:pt x="11620" y="2878"/>
                  <a:pt x="11597" y="2890"/>
                  <a:pt x="11584" y="2927"/>
                </a:cubicBezTo>
                <a:cubicBezTo>
                  <a:pt x="11584" y="2952"/>
                  <a:pt x="11584" y="2960"/>
                  <a:pt x="11584" y="2977"/>
                </a:cubicBezTo>
                <a:cubicBezTo>
                  <a:pt x="11556" y="2984"/>
                  <a:pt x="11555" y="2986"/>
                  <a:pt x="11534" y="3001"/>
                </a:cubicBezTo>
                <a:cubicBezTo>
                  <a:pt x="11523" y="3035"/>
                  <a:pt x="11520" y="3067"/>
                  <a:pt x="11509" y="3101"/>
                </a:cubicBezTo>
                <a:cubicBezTo>
                  <a:pt x="11502" y="3122"/>
                  <a:pt x="11493" y="3151"/>
                  <a:pt x="11485" y="3175"/>
                </a:cubicBezTo>
                <a:cubicBezTo>
                  <a:pt x="11485" y="3177"/>
                  <a:pt x="11463" y="3216"/>
                  <a:pt x="11460" y="3249"/>
                </a:cubicBezTo>
                <a:cubicBezTo>
                  <a:pt x="11449" y="3354"/>
                  <a:pt x="11460" y="3466"/>
                  <a:pt x="11460" y="3572"/>
                </a:cubicBezTo>
                <a:cubicBezTo>
                  <a:pt x="11467" y="3583"/>
                  <a:pt x="11498" y="3615"/>
                  <a:pt x="11509" y="3646"/>
                </a:cubicBezTo>
                <a:cubicBezTo>
                  <a:pt x="11522" y="3680"/>
                  <a:pt x="11522" y="3711"/>
                  <a:pt x="11534" y="3746"/>
                </a:cubicBezTo>
                <a:cubicBezTo>
                  <a:pt x="11547" y="3784"/>
                  <a:pt x="11552" y="3800"/>
                  <a:pt x="11559" y="3845"/>
                </a:cubicBezTo>
                <a:cubicBezTo>
                  <a:pt x="11559" y="3870"/>
                  <a:pt x="11559" y="3878"/>
                  <a:pt x="11559" y="3894"/>
                </a:cubicBezTo>
                <a:cubicBezTo>
                  <a:pt x="11570" y="3926"/>
                  <a:pt x="11573" y="3937"/>
                  <a:pt x="11584" y="3969"/>
                </a:cubicBezTo>
                <a:cubicBezTo>
                  <a:pt x="11595" y="4003"/>
                  <a:pt x="11600" y="4035"/>
                  <a:pt x="11609" y="4068"/>
                </a:cubicBezTo>
                <a:cubicBezTo>
                  <a:pt x="11619" y="4104"/>
                  <a:pt x="11616" y="4134"/>
                  <a:pt x="11633" y="4167"/>
                </a:cubicBezTo>
                <a:cubicBezTo>
                  <a:pt x="11648" y="4196"/>
                  <a:pt x="11667" y="4238"/>
                  <a:pt x="11683" y="4266"/>
                </a:cubicBezTo>
                <a:cubicBezTo>
                  <a:pt x="11690" y="4277"/>
                  <a:pt x="11722" y="4310"/>
                  <a:pt x="11733" y="4341"/>
                </a:cubicBezTo>
                <a:cubicBezTo>
                  <a:pt x="11745" y="4374"/>
                  <a:pt x="11741" y="4409"/>
                  <a:pt x="11757" y="4440"/>
                </a:cubicBezTo>
                <a:cubicBezTo>
                  <a:pt x="11776" y="4476"/>
                  <a:pt x="11792" y="4503"/>
                  <a:pt x="11807" y="4539"/>
                </a:cubicBezTo>
                <a:cubicBezTo>
                  <a:pt x="11834" y="4546"/>
                  <a:pt x="11836" y="4548"/>
                  <a:pt x="11857" y="4564"/>
                </a:cubicBezTo>
                <a:cubicBezTo>
                  <a:pt x="11868" y="4594"/>
                  <a:pt x="11866" y="4601"/>
                  <a:pt x="11881" y="4638"/>
                </a:cubicBezTo>
                <a:cubicBezTo>
                  <a:pt x="11904" y="4661"/>
                  <a:pt x="11912" y="4665"/>
                  <a:pt x="11906" y="4688"/>
                </a:cubicBezTo>
                <a:cubicBezTo>
                  <a:pt x="11933" y="4695"/>
                  <a:pt x="11935" y="4697"/>
                  <a:pt x="11956" y="4713"/>
                </a:cubicBezTo>
                <a:cubicBezTo>
                  <a:pt x="11963" y="4740"/>
                  <a:pt x="11965" y="4742"/>
                  <a:pt x="11981" y="4762"/>
                </a:cubicBezTo>
                <a:cubicBezTo>
                  <a:pt x="11998" y="4782"/>
                  <a:pt x="12013" y="4799"/>
                  <a:pt x="12030" y="4837"/>
                </a:cubicBezTo>
                <a:cubicBezTo>
                  <a:pt x="12051" y="4853"/>
                  <a:pt x="12083" y="4853"/>
                  <a:pt x="12105" y="4887"/>
                </a:cubicBezTo>
                <a:cubicBezTo>
                  <a:pt x="12105" y="4895"/>
                  <a:pt x="12105" y="4903"/>
                  <a:pt x="12105" y="4911"/>
                </a:cubicBezTo>
                <a:cubicBezTo>
                  <a:pt x="12138" y="4928"/>
                  <a:pt x="12176" y="4930"/>
                  <a:pt x="12204" y="4961"/>
                </a:cubicBezTo>
                <a:cubicBezTo>
                  <a:pt x="12204" y="4969"/>
                  <a:pt x="12204" y="4978"/>
                  <a:pt x="12204" y="4986"/>
                </a:cubicBezTo>
                <a:cubicBezTo>
                  <a:pt x="12252" y="4998"/>
                  <a:pt x="12228" y="4991"/>
                  <a:pt x="12254" y="5011"/>
                </a:cubicBezTo>
                <a:cubicBezTo>
                  <a:pt x="12299" y="5022"/>
                  <a:pt x="12279" y="5018"/>
                  <a:pt x="12303" y="5035"/>
                </a:cubicBezTo>
                <a:cubicBezTo>
                  <a:pt x="12338" y="5049"/>
                  <a:pt x="12368" y="5070"/>
                  <a:pt x="12402" y="5085"/>
                </a:cubicBezTo>
                <a:cubicBezTo>
                  <a:pt x="12439" y="5102"/>
                  <a:pt x="12463" y="5097"/>
                  <a:pt x="12502" y="5110"/>
                </a:cubicBezTo>
                <a:cubicBezTo>
                  <a:pt x="12526" y="5118"/>
                  <a:pt x="12549" y="5127"/>
                  <a:pt x="12576" y="5135"/>
                </a:cubicBezTo>
                <a:cubicBezTo>
                  <a:pt x="12607" y="5145"/>
                  <a:pt x="12619" y="5149"/>
                  <a:pt x="12650" y="5159"/>
                </a:cubicBezTo>
                <a:cubicBezTo>
                  <a:pt x="12682" y="5169"/>
                  <a:pt x="12715" y="5173"/>
                  <a:pt x="12750" y="5184"/>
                </a:cubicBezTo>
                <a:cubicBezTo>
                  <a:pt x="12788" y="5195"/>
                  <a:pt x="12806" y="5205"/>
                  <a:pt x="12849" y="5209"/>
                </a:cubicBezTo>
                <a:cubicBezTo>
                  <a:pt x="12890" y="5213"/>
                  <a:pt x="12932" y="5206"/>
                  <a:pt x="12973" y="5209"/>
                </a:cubicBezTo>
                <a:cubicBezTo>
                  <a:pt x="13004" y="5220"/>
                  <a:pt x="13016" y="5224"/>
                  <a:pt x="13047" y="5234"/>
                </a:cubicBezTo>
                <a:cubicBezTo>
                  <a:pt x="13084" y="5246"/>
                  <a:pt x="13104" y="5255"/>
                  <a:pt x="13146" y="5259"/>
                </a:cubicBezTo>
                <a:cubicBezTo>
                  <a:pt x="13195" y="5263"/>
                  <a:pt x="13246" y="5259"/>
                  <a:pt x="13295" y="5259"/>
                </a:cubicBezTo>
                <a:cubicBezTo>
                  <a:pt x="13311" y="5275"/>
                  <a:pt x="13329" y="5292"/>
                  <a:pt x="13345" y="5308"/>
                </a:cubicBezTo>
              </a:path>
              <a:path w="5582" h="3846">
                <a:moveTo>
                  <a:pt x="14461" y="5135"/>
                </a:moveTo>
                <a:cubicBezTo>
                  <a:pt x="14453" y="5135"/>
                  <a:pt x="14444" y="5135"/>
                  <a:pt x="14436" y="5135"/>
                </a:cubicBezTo>
                <a:cubicBezTo>
                  <a:pt x="14429" y="5165"/>
                  <a:pt x="14424" y="5231"/>
                  <a:pt x="14412" y="5259"/>
                </a:cubicBezTo>
                <a:cubicBezTo>
                  <a:pt x="14391" y="5310"/>
                  <a:pt x="14387" y="5344"/>
                  <a:pt x="14387" y="5407"/>
                </a:cubicBezTo>
                <a:cubicBezTo>
                  <a:pt x="14387" y="5449"/>
                  <a:pt x="14387" y="5457"/>
                  <a:pt x="14387" y="5482"/>
                </a:cubicBezTo>
              </a:path>
              <a:path w="5582" h="3846">
                <a:moveTo>
                  <a:pt x="15652" y="4465"/>
                </a:moveTo>
                <a:cubicBezTo>
                  <a:pt x="15584" y="4465"/>
                  <a:pt x="15541" y="4479"/>
                  <a:pt x="15478" y="4490"/>
                </a:cubicBezTo>
                <a:cubicBezTo>
                  <a:pt x="15418" y="4501"/>
                  <a:pt x="15361" y="4511"/>
                  <a:pt x="15304" y="4514"/>
                </a:cubicBezTo>
                <a:cubicBezTo>
                  <a:pt x="15240" y="4518"/>
                  <a:pt x="15197" y="4539"/>
                  <a:pt x="15131" y="4539"/>
                </a:cubicBezTo>
                <a:cubicBezTo>
                  <a:pt x="15106" y="4539"/>
                  <a:pt x="15098" y="4539"/>
                  <a:pt x="15081" y="4539"/>
                </a:cubicBezTo>
              </a:path>
              <a:path w="5582" h="3846">
                <a:moveTo>
                  <a:pt x="14263" y="5234"/>
                </a:moveTo>
                <a:cubicBezTo>
                  <a:pt x="14263" y="5143"/>
                  <a:pt x="14264" y="5064"/>
                  <a:pt x="14238" y="4986"/>
                </a:cubicBezTo>
                <a:cubicBezTo>
                  <a:pt x="14232" y="4967"/>
                  <a:pt x="14238" y="4931"/>
                  <a:pt x="14238" y="4911"/>
                </a:cubicBezTo>
                <a:cubicBezTo>
                  <a:pt x="14202" y="4900"/>
                  <a:pt x="14208" y="4858"/>
                  <a:pt x="14163" y="4837"/>
                </a:cubicBezTo>
                <a:cubicBezTo>
                  <a:pt x="14136" y="4825"/>
                  <a:pt x="14089" y="4826"/>
                  <a:pt x="14064" y="4812"/>
                </a:cubicBezTo>
                <a:cubicBezTo>
                  <a:pt x="14016" y="4785"/>
                  <a:pt x="14025" y="4762"/>
                  <a:pt x="13965" y="4762"/>
                </a:cubicBezTo>
                <a:cubicBezTo>
                  <a:pt x="13937" y="4762"/>
                  <a:pt x="13926" y="4760"/>
                  <a:pt x="13915" y="4738"/>
                </a:cubicBezTo>
              </a:path>
              <a:path w="5582" h="3846">
                <a:moveTo>
                  <a:pt x="14511" y="4688"/>
                </a:moveTo>
                <a:cubicBezTo>
                  <a:pt x="14511" y="4663"/>
                  <a:pt x="14511" y="4655"/>
                  <a:pt x="14511" y="4638"/>
                </a:cubicBezTo>
                <a:cubicBezTo>
                  <a:pt x="14511" y="4693"/>
                  <a:pt x="14499" y="4709"/>
                  <a:pt x="14486" y="4762"/>
                </a:cubicBezTo>
                <a:cubicBezTo>
                  <a:pt x="14475" y="4805"/>
                  <a:pt x="14461" y="4841"/>
                  <a:pt x="14461" y="4887"/>
                </a:cubicBezTo>
                <a:cubicBezTo>
                  <a:pt x="14513" y="4887"/>
                  <a:pt x="14543" y="4875"/>
                  <a:pt x="14585" y="4862"/>
                </a:cubicBezTo>
                <a:cubicBezTo>
                  <a:pt x="14619" y="4852"/>
                  <a:pt x="14673" y="4862"/>
                  <a:pt x="14709" y="4862"/>
                </a:cubicBezTo>
              </a:path>
              <a:path w="5582" h="3846">
                <a:moveTo>
                  <a:pt x="14635" y="4787"/>
                </a:moveTo>
                <a:cubicBezTo>
                  <a:pt x="14627" y="4787"/>
                  <a:pt x="14618" y="4787"/>
                  <a:pt x="14610" y="4787"/>
                </a:cubicBezTo>
                <a:cubicBezTo>
                  <a:pt x="14610" y="4837"/>
                  <a:pt x="14610" y="4886"/>
                  <a:pt x="14610" y="4936"/>
                </a:cubicBezTo>
              </a:path>
              <a:path w="5582" h="3846">
                <a:moveTo>
                  <a:pt x="14858" y="4663"/>
                </a:moveTo>
                <a:cubicBezTo>
                  <a:pt x="14866" y="4655"/>
                  <a:pt x="14875" y="4646"/>
                  <a:pt x="14883" y="4638"/>
                </a:cubicBezTo>
                <a:cubicBezTo>
                  <a:pt x="14876" y="4659"/>
                  <a:pt x="14838" y="4677"/>
                  <a:pt x="14858" y="4713"/>
                </a:cubicBezTo>
                <a:cubicBezTo>
                  <a:pt x="14878" y="4748"/>
                  <a:pt x="14930" y="4744"/>
                  <a:pt x="14957" y="4762"/>
                </a:cubicBezTo>
                <a:cubicBezTo>
                  <a:pt x="14982" y="4779"/>
                  <a:pt x="15030" y="4795"/>
                  <a:pt x="15007" y="4837"/>
                </a:cubicBezTo>
                <a:cubicBezTo>
                  <a:pt x="14986" y="4875"/>
                  <a:pt x="14944" y="4862"/>
                  <a:pt x="14908" y="4862"/>
                </a:cubicBezTo>
                <a:cubicBezTo>
                  <a:pt x="14883" y="4862"/>
                  <a:pt x="14875" y="4862"/>
                  <a:pt x="14858" y="4862"/>
                </a:cubicBezTo>
              </a:path>
              <a:path w="5582" h="3846">
                <a:moveTo>
                  <a:pt x="15056" y="4663"/>
                </a:moveTo>
                <a:cubicBezTo>
                  <a:pt x="15076" y="4623"/>
                  <a:pt x="15085" y="4617"/>
                  <a:pt x="15081" y="4589"/>
                </a:cubicBezTo>
                <a:cubicBezTo>
                  <a:pt x="15023" y="4589"/>
                  <a:pt x="14978" y="4580"/>
                  <a:pt x="14932" y="4614"/>
                </a:cubicBezTo>
              </a:path>
              <a:path w="5582" h="3846">
                <a:moveTo>
                  <a:pt x="15255" y="4638"/>
                </a:moveTo>
                <a:cubicBezTo>
                  <a:pt x="15268" y="4602"/>
                  <a:pt x="15285" y="4614"/>
                  <a:pt x="15329" y="4614"/>
                </a:cubicBezTo>
                <a:cubicBezTo>
                  <a:pt x="15329" y="4649"/>
                  <a:pt x="15342" y="4694"/>
                  <a:pt x="15304" y="4713"/>
                </a:cubicBezTo>
                <a:cubicBezTo>
                  <a:pt x="15266" y="4732"/>
                  <a:pt x="15206" y="4708"/>
                  <a:pt x="15180" y="4688"/>
                </a:cubicBezTo>
              </a:path>
              <a:path w="5582" h="3846">
                <a:moveTo>
                  <a:pt x="13469" y="3349"/>
                </a:moveTo>
                <a:cubicBezTo>
                  <a:pt x="13469" y="3503"/>
                  <a:pt x="13448" y="3683"/>
                  <a:pt x="13494" y="3820"/>
                </a:cubicBezTo>
                <a:cubicBezTo>
                  <a:pt x="13547" y="3978"/>
                  <a:pt x="13467" y="4186"/>
                  <a:pt x="13519" y="4341"/>
                </a:cubicBezTo>
                <a:cubicBezTo>
                  <a:pt x="13541" y="4407"/>
                  <a:pt x="13519" y="4519"/>
                  <a:pt x="13519" y="4589"/>
                </a:cubicBezTo>
              </a:path>
              <a:path w="5582" h="3846">
                <a:moveTo>
                  <a:pt x="13519" y="5085"/>
                </a:moveTo>
                <a:cubicBezTo>
                  <a:pt x="13519" y="5135"/>
                  <a:pt x="13519" y="5184"/>
                  <a:pt x="13519" y="5234"/>
                </a:cubicBezTo>
              </a:path>
              <a:path w="5582" h="3846">
                <a:moveTo>
                  <a:pt x="13444" y="5358"/>
                </a:moveTo>
                <a:cubicBezTo>
                  <a:pt x="13444" y="5102"/>
                  <a:pt x="13444" y="4845"/>
                  <a:pt x="13444" y="4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27200" y="1187280"/>
            <a:ext cx="125640" cy="169920"/>
          </a:xfrm>
          <a:custGeom>
            <a:avLst/>
            <a:gdLst/>
            <a:ahLst/>
            <a:rect l="l" t="t" r="r" b="b"/>
            <a:pathLst>
              <a:path w="348" h="472">
                <a:moveTo>
                  <a:pt x="7020" y="3299"/>
                </a:moveTo>
                <a:cubicBezTo>
                  <a:pt x="7031" y="3384"/>
                  <a:pt x="7066" y="3463"/>
                  <a:pt x="7094" y="3547"/>
                </a:cubicBezTo>
                <a:cubicBezTo>
                  <a:pt x="7119" y="3621"/>
                  <a:pt x="7132" y="3710"/>
                  <a:pt x="7169" y="3770"/>
                </a:cubicBezTo>
              </a:path>
              <a:path w="348" h="472">
                <a:moveTo>
                  <a:pt x="7144" y="3373"/>
                </a:moveTo>
                <a:cubicBezTo>
                  <a:pt x="7163" y="3316"/>
                  <a:pt x="7154" y="3291"/>
                  <a:pt x="7193" y="3299"/>
                </a:cubicBezTo>
                <a:cubicBezTo>
                  <a:pt x="7238" y="3388"/>
                  <a:pt x="7280" y="3480"/>
                  <a:pt x="7317" y="3572"/>
                </a:cubicBezTo>
                <a:cubicBezTo>
                  <a:pt x="7340" y="3639"/>
                  <a:pt x="7345" y="3657"/>
                  <a:pt x="7367" y="36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52840" y="1874880"/>
            <a:ext cx="12528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7590" y="5259"/>
                </a:moveTo>
                <a:cubicBezTo>
                  <a:pt x="7613" y="5236"/>
                  <a:pt x="7621" y="5232"/>
                  <a:pt x="7615" y="5209"/>
                </a:cubicBezTo>
                <a:cubicBezTo>
                  <a:pt x="7554" y="5224"/>
                  <a:pt x="7544" y="5277"/>
                  <a:pt x="7516" y="5333"/>
                </a:cubicBezTo>
                <a:cubicBezTo>
                  <a:pt x="7480" y="5404"/>
                  <a:pt x="7429" y="5458"/>
                  <a:pt x="7392" y="5531"/>
                </a:cubicBezTo>
                <a:cubicBezTo>
                  <a:pt x="7368" y="5579"/>
                  <a:pt x="7360" y="5594"/>
                  <a:pt x="7367" y="5631"/>
                </a:cubicBezTo>
              </a:path>
              <a:path w="348" h="423">
                <a:moveTo>
                  <a:pt x="7665" y="5259"/>
                </a:moveTo>
                <a:cubicBezTo>
                  <a:pt x="7681" y="5242"/>
                  <a:pt x="7698" y="5226"/>
                  <a:pt x="7714" y="5209"/>
                </a:cubicBezTo>
                <a:cubicBezTo>
                  <a:pt x="7714" y="5292"/>
                  <a:pt x="7677" y="5352"/>
                  <a:pt x="7665" y="5432"/>
                </a:cubicBezTo>
                <a:cubicBezTo>
                  <a:pt x="7656" y="5495"/>
                  <a:pt x="7648" y="5545"/>
                  <a:pt x="7640" y="56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26200" y="2786040"/>
            <a:ext cx="320760" cy="206280"/>
          </a:xfrm>
          <a:custGeom>
            <a:avLst/>
            <a:gdLst/>
            <a:ahLst/>
            <a:rect l="l" t="t" r="r" b="b"/>
            <a:pathLst>
              <a:path w="894" h="572">
                <a:moveTo>
                  <a:pt x="19819" y="7888"/>
                </a:moveTo>
                <a:cubicBezTo>
                  <a:pt x="19819" y="7820"/>
                  <a:pt x="19810" y="7797"/>
                  <a:pt x="19794" y="7764"/>
                </a:cubicBezTo>
                <a:cubicBezTo>
                  <a:pt x="19763" y="7703"/>
                  <a:pt x="19819" y="7835"/>
                  <a:pt x="19819" y="7838"/>
                </a:cubicBezTo>
                <a:cubicBezTo>
                  <a:pt x="19830" y="7919"/>
                  <a:pt x="19838" y="8006"/>
                  <a:pt x="19844" y="8086"/>
                </a:cubicBezTo>
                <a:cubicBezTo>
                  <a:pt x="19845" y="8105"/>
                  <a:pt x="19869" y="8192"/>
                  <a:pt x="19869" y="8136"/>
                </a:cubicBezTo>
                <a:cubicBezTo>
                  <a:pt x="19869" y="8085"/>
                  <a:pt x="19872" y="8006"/>
                  <a:pt x="19893" y="7962"/>
                </a:cubicBezTo>
                <a:cubicBezTo>
                  <a:pt x="19901" y="7954"/>
                  <a:pt x="19910" y="7946"/>
                  <a:pt x="19918" y="7938"/>
                </a:cubicBezTo>
                <a:cubicBezTo>
                  <a:pt x="19967" y="7950"/>
                  <a:pt x="20000" y="7983"/>
                  <a:pt x="20017" y="8037"/>
                </a:cubicBezTo>
                <a:cubicBezTo>
                  <a:pt x="20026" y="8065"/>
                  <a:pt x="20035" y="8082"/>
                  <a:pt x="20042" y="8111"/>
                </a:cubicBezTo>
              </a:path>
              <a:path w="894" h="572">
                <a:moveTo>
                  <a:pt x="20067" y="7962"/>
                </a:moveTo>
                <a:cubicBezTo>
                  <a:pt x="20067" y="7946"/>
                  <a:pt x="20067" y="7929"/>
                  <a:pt x="20067" y="7913"/>
                </a:cubicBezTo>
                <a:cubicBezTo>
                  <a:pt x="20102" y="7925"/>
                  <a:pt x="20091" y="7957"/>
                  <a:pt x="20141" y="7962"/>
                </a:cubicBezTo>
                <a:cubicBezTo>
                  <a:pt x="20201" y="7969"/>
                  <a:pt x="20194" y="7934"/>
                  <a:pt x="20241" y="7913"/>
                </a:cubicBezTo>
                <a:cubicBezTo>
                  <a:pt x="20302" y="7886"/>
                  <a:pt x="20334" y="7928"/>
                  <a:pt x="20365" y="7962"/>
                </a:cubicBezTo>
                <a:cubicBezTo>
                  <a:pt x="20424" y="8025"/>
                  <a:pt x="20457" y="8075"/>
                  <a:pt x="20464" y="8161"/>
                </a:cubicBezTo>
                <a:cubicBezTo>
                  <a:pt x="20468" y="8208"/>
                  <a:pt x="20407" y="8257"/>
                  <a:pt x="20365" y="8260"/>
                </a:cubicBezTo>
                <a:cubicBezTo>
                  <a:pt x="20319" y="8263"/>
                  <a:pt x="20219" y="8246"/>
                  <a:pt x="20191" y="8210"/>
                </a:cubicBezTo>
                <a:cubicBezTo>
                  <a:pt x="20162" y="8173"/>
                  <a:pt x="20166" y="8152"/>
                  <a:pt x="20166" y="8111"/>
                </a:cubicBezTo>
              </a:path>
              <a:path w="894" h="572">
                <a:moveTo>
                  <a:pt x="20365" y="8037"/>
                </a:moveTo>
                <a:cubicBezTo>
                  <a:pt x="20452" y="8105"/>
                  <a:pt x="20534" y="8195"/>
                  <a:pt x="20613" y="8260"/>
                </a:cubicBezTo>
                <a:cubicBezTo>
                  <a:pt x="20629" y="8268"/>
                  <a:pt x="20646" y="8277"/>
                  <a:pt x="20662" y="8285"/>
                </a:cubicBezTo>
                <a:cubicBezTo>
                  <a:pt x="20662" y="8336"/>
                  <a:pt x="20630" y="8236"/>
                  <a:pt x="20613" y="8210"/>
                </a:cubicBezTo>
                <a:cubicBezTo>
                  <a:pt x="20545" y="8104"/>
                  <a:pt x="20486" y="8015"/>
                  <a:pt x="20464" y="7888"/>
                </a:cubicBezTo>
                <a:cubicBezTo>
                  <a:pt x="20453" y="7826"/>
                  <a:pt x="20525" y="7748"/>
                  <a:pt x="20588" y="7789"/>
                </a:cubicBezTo>
                <a:cubicBezTo>
                  <a:pt x="20618" y="7809"/>
                  <a:pt x="20706" y="7891"/>
                  <a:pt x="20687" y="7938"/>
                </a:cubicBezTo>
                <a:cubicBezTo>
                  <a:pt x="20679" y="7946"/>
                  <a:pt x="20670" y="7954"/>
                  <a:pt x="20662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6720" y="2776680"/>
            <a:ext cx="1803240" cy="723600"/>
          </a:xfrm>
          <a:custGeom>
            <a:avLst/>
            <a:gdLst/>
            <a:ahLst/>
            <a:rect l="l" t="t" r="r" b="b"/>
            <a:pathLst>
              <a:path w="5011" h="2010">
                <a:moveTo>
                  <a:pt x="22250" y="8310"/>
                </a:moveTo>
                <a:cubicBezTo>
                  <a:pt x="22268" y="8267"/>
                  <a:pt x="22265" y="8154"/>
                  <a:pt x="22299" y="8186"/>
                </a:cubicBezTo>
                <a:cubicBezTo>
                  <a:pt x="22344" y="8229"/>
                  <a:pt x="22280" y="8466"/>
                  <a:pt x="22275" y="8508"/>
                </a:cubicBezTo>
                <a:cubicBezTo>
                  <a:pt x="22262" y="8628"/>
                  <a:pt x="22288" y="8738"/>
                  <a:pt x="22299" y="8855"/>
                </a:cubicBezTo>
                <a:cubicBezTo>
                  <a:pt x="22309" y="8964"/>
                  <a:pt x="22300" y="9072"/>
                  <a:pt x="22324" y="9178"/>
                </a:cubicBezTo>
                <a:cubicBezTo>
                  <a:pt x="22341" y="9255"/>
                  <a:pt x="22374" y="9297"/>
                  <a:pt x="22374" y="9376"/>
                </a:cubicBezTo>
              </a:path>
              <a:path w="5011" h="2010">
                <a:moveTo>
                  <a:pt x="22299" y="9252"/>
                </a:moveTo>
                <a:cubicBezTo>
                  <a:pt x="22256" y="9238"/>
                  <a:pt x="22259" y="9239"/>
                  <a:pt x="22225" y="9227"/>
                </a:cubicBezTo>
                <a:cubicBezTo>
                  <a:pt x="22187" y="9213"/>
                  <a:pt x="22142" y="9207"/>
                  <a:pt x="22101" y="9203"/>
                </a:cubicBezTo>
                <a:cubicBezTo>
                  <a:pt x="22014" y="9195"/>
                  <a:pt x="21936" y="9194"/>
                  <a:pt x="21853" y="9178"/>
                </a:cubicBezTo>
                <a:cubicBezTo>
                  <a:pt x="21769" y="9161"/>
                  <a:pt x="21692" y="9156"/>
                  <a:pt x="21605" y="9153"/>
                </a:cubicBezTo>
                <a:cubicBezTo>
                  <a:pt x="21460" y="9149"/>
                  <a:pt x="21319" y="9167"/>
                  <a:pt x="21183" y="9178"/>
                </a:cubicBezTo>
                <a:cubicBezTo>
                  <a:pt x="21101" y="9185"/>
                  <a:pt x="21038" y="9160"/>
                  <a:pt x="20960" y="9153"/>
                </a:cubicBezTo>
                <a:cubicBezTo>
                  <a:pt x="20880" y="9146"/>
                  <a:pt x="20809" y="9172"/>
                  <a:pt x="20737" y="9178"/>
                </a:cubicBezTo>
                <a:cubicBezTo>
                  <a:pt x="20566" y="9193"/>
                  <a:pt x="20381" y="9189"/>
                  <a:pt x="20216" y="9203"/>
                </a:cubicBezTo>
                <a:cubicBezTo>
                  <a:pt x="20027" y="9218"/>
                  <a:pt x="19821" y="9209"/>
                  <a:pt x="19645" y="9227"/>
                </a:cubicBezTo>
                <a:cubicBezTo>
                  <a:pt x="19570" y="9235"/>
                  <a:pt x="19486" y="9216"/>
                  <a:pt x="19447" y="9203"/>
                </a:cubicBezTo>
                <a:cubicBezTo>
                  <a:pt x="19464" y="9176"/>
                  <a:pt x="19480" y="9174"/>
                  <a:pt x="19496" y="9153"/>
                </a:cubicBezTo>
                <a:cubicBezTo>
                  <a:pt x="19523" y="9118"/>
                  <a:pt x="19529" y="9108"/>
                  <a:pt x="19571" y="9079"/>
                </a:cubicBezTo>
                <a:cubicBezTo>
                  <a:pt x="19621" y="9045"/>
                  <a:pt x="19665" y="9006"/>
                  <a:pt x="19720" y="8979"/>
                </a:cubicBezTo>
                <a:cubicBezTo>
                  <a:pt x="19774" y="8953"/>
                  <a:pt x="19838" y="8960"/>
                  <a:pt x="19893" y="8930"/>
                </a:cubicBezTo>
                <a:cubicBezTo>
                  <a:pt x="19976" y="8885"/>
                  <a:pt x="20026" y="8817"/>
                  <a:pt x="20117" y="8781"/>
                </a:cubicBezTo>
                <a:cubicBezTo>
                  <a:pt x="20178" y="8757"/>
                  <a:pt x="20251" y="8756"/>
                  <a:pt x="20315" y="8731"/>
                </a:cubicBezTo>
                <a:cubicBezTo>
                  <a:pt x="20370" y="8710"/>
                  <a:pt x="20439" y="8665"/>
                  <a:pt x="20489" y="8657"/>
                </a:cubicBezTo>
                <a:cubicBezTo>
                  <a:pt x="20550" y="8648"/>
                  <a:pt x="20605" y="8658"/>
                  <a:pt x="20662" y="8632"/>
                </a:cubicBezTo>
                <a:cubicBezTo>
                  <a:pt x="20724" y="8603"/>
                  <a:pt x="20767" y="8569"/>
                  <a:pt x="20836" y="8558"/>
                </a:cubicBezTo>
                <a:cubicBezTo>
                  <a:pt x="20892" y="8549"/>
                  <a:pt x="20933" y="8549"/>
                  <a:pt x="20985" y="8533"/>
                </a:cubicBezTo>
                <a:cubicBezTo>
                  <a:pt x="21034" y="8518"/>
                  <a:pt x="21084" y="8497"/>
                  <a:pt x="21134" y="8483"/>
                </a:cubicBezTo>
                <a:cubicBezTo>
                  <a:pt x="21182" y="8469"/>
                  <a:pt x="21257" y="8441"/>
                  <a:pt x="21307" y="8434"/>
                </a:cubicBezTo>
                <a:cubicBezTo>
                  <a:pt x="21379" y="8424"/>
                  <a:pt x="21389" y="8418"/>
                  <a:pt x="21456" y="8384"/>
                </a:cubicBezTo>
                <a:cubicBezTo>
                  <a:pt x="21503" y="8360"/>
                  <a:pt x="21526" y="8372"/>
                  <a:pt x="21580" y="8359"/>
                </a:cubicBezTo>
                <a:cubicBezTo>
                  <a:pt x="21617" y="8350"/>
                  <a:pt x="21645" y="8338"/>
                  <a:pt x="21679" y="8334"/>
                </a:cubicBezTo>
                <a:cubicBezTo>
                  <a:pt x="21734" y="8327"/>
                  <a:pt x="21756" y="8329"/>
                  <a:pt x="21803" y="8310"/>
                </a:cubicBezTo>
                <a:cubicBezTo>
                  <a:pt x="21843" y="8293"/>
                  <a:pt x="21888" y="8279"/>
                  <a:pt x="21927" y="8260"/>
                </a:cubicBezTo>
                <a:cubicBezTo>
                  <a:pt x="21970" y="8240"/>
                  <a:pt x="21975" y="8237"/>
                  <a:pt x="22027" y="8235"/>
                </a:cubicBezTo>
                <a:cubicBezTo>
                  <a:pt x="22088" y="8233"/>
                  <a:pt x="22119" y="8218"/>
                  <a:pt x="22175" y="8210"/>
                </a:cubicBezTo>
                <a:cubicBezTo>
                  <a:pt x="22200" y="8210"/>
                  <a:pt x="22208" y="8210"/>
                  <a:pt x="22225" y="8210"/>
                </a:cubicBezTo>
              </a:path>
              <a:path w="5011" h="2010">
                <a:moveTo>
                  <a:pt x="19075" y="9178"/>
                </a:moveTo>
                <a:cubicBezTo>
                  <a:pt x="19117" y="9121"/>
                  <a:pt x="19091" y="9134"/>
                  <a:pt x="19075" y="9103"/>
                </a:cubicBezTo>
                <a:cubicBezTo>
                  <a:pt x="19058" y="9070"/>
                  <a:pt x="19047" y="9079"/>
                  <a:pt x="19000" y="9079"/>
                </a:cubicBezTo>
                <a:cubicBezTo>
                  <a:pt x="18948" y="9079"/>
                  <a:pt x="18939" y="9091"/>
                  <a:pt x="18901" y="9128"/>
                </a:cubicBezTo>
                <a:cubicBezTo>
                  <a:pt x="18853" y="9176"/>
                  <a:pt x="18852" y="9184"/>
                  <a:pt x="18852" y="9252"/>
                </a:cubicBezTo>
                <a:cubicBezTo>
                  <a:pt x="18852" y="9308"/>
                  <a:pt x="18853" y="9379"/>
                  <a:pt x="18876" y="9426"/>
                </a:cubicBezTo>
                <a:cubicBezTo>
                  <a:pt x="18884" y="9434"/>
                  <a:pt x="18893" y="9443"/>
                  <a:pt x="18901" y="9451"/>
                </a:cubicBezTo>
                <a:cubicBezTo>
                  <a:pt x="18918" y="9411"/>
                  <a:pt x="18892" y="9354"/>
                  <a:pt x="18926" y="9327"/>
                </a:cubicBezTo>
                <a:cubicBezTo>
                  <a:pt x="18956" y="9304"/>
                  <a:pt x="19005" y="9360"/>
                  <a:pt x="19025" y="9376"/>
                </a:cubicBezTo>
              </a:path>
              <a:path w="5011" h="2010">
                <a:moveTo>
                  <a:pt x="22448" y="9525"/>
                </a:moveTo>
                <a:cubicBezTo>
                  <a:pt x="22448" y="9550"/>
                  <a:pt x="22448" y="9558"/>
                  <a:pt x="22473" y="9550"/>
                </a:cubicBezTo>
                <a:cubicBezTo>
                  <a:pt x="22473" y="9504"/>
                  <a:pt x="22493" y="9491"/>
                  <a:pt x="22498" y="9451"/>
                </a:cubicBezTo>
                <a:cubicBezTo>
                  <a:pt x="22505" y="9389"/>
                  <a:pt x="22549" y="9354"/>
                  <a:pt x="22572" y="9302"/>
                </a:cubicBezTo>
                <a:cubicBezTo>
                  <a:pt x="22605" y="9229"/>
                  <a:pt x="22615" y="9184"/>
                  <a:pt x="22671" y="9128"/>
                </a:cubicBezTo>
                <a:cubicBezTo>
                  <a:pt x="22694" y="9105"/>
                  <a:pt x="22698" y="9097"/>
                  <a:pt x="22721" y="9103"/>
                </a:cubicBezTo>
                <a:cubicBezTo>
                  <a:pt x="22754" y="9157"/>
                  <a:pt x="22751" y="9216"/>
                  <a:pt x="22771" y="9277"/>
                </a:cubicBezTo>
                <a:cubicBezTo>
                  <a:pt x="22793" y="9343"/>
                  <a:pt x="22802" y="9415"/>
                  <a:pt x="22820" y="9475"/>
                </a:cubicBezTo>
                <a:cubicBezTo>
                  <a:pt x="22820" y="9483"/>
                  <a:pt x="22820" y="9492"/>
                  <a:pt x="22820" y="9500"/>
                </a:cubicBezTo>
              </a:path>
              <a:path w="5011" h="2010">
                <a:moveTo>
                  <a:pt x="22870" y="9401"/>
                </a:moveTo>
                <a:cubicBezTo>
                  <a:pt x="22830" y="9341"/>
                  <a:pt x="22838" y="9351"/>
                  <a:pt x="22771" y="9351"/>
                </a:cubicBezTo>
                <a:cubicBezTo>
                  <a:pt x="22754" y="9351"/>
                  <a:pt x="22738" y="9351"/>
                  <a:pt x="22721" y="9351"/>
                </a:cubicBezTo>
              </a:path>
              <a:path w="5011" h="2010">
                <a:moveTo>
                  <a:pt x="22324" y="7739"/>
                </a:moveTo>
                <a:cubicBezTo>
                  <a:pt x="22349" y="7739"/>
                  <a:pt x="22357" y="7739"/>
                  <a:pt x="22349" y="7714"/>
                </a:cubicBezTo>
                <a:cubicBezTo>
                  <a:pt x="22285" y="7714"/>
                  <a:pt x="22229" y="7722"/>
                  <a:pt x="22175" y="7764"/>
                </a:cubicBezTo>
                <a:cubicBezTo>
                  <a:pt x="22133" y="7797"/>
                  <a:pt x="22024" y="7895"/>
                  <a:pt x="22076" y="7962"/>
                </a:cubicBezTo>
                <a:cubicBezTo>
                  <a:pt x="22112" y="8008"/>
                  <a:pt x="22223" y="8033"/>
                  <a:pt x="22275" y="8037"/>
                </a:cubicBezTo>
                <a:cubicBezTo>
                  <a:pt x="22310" y="8037"/>
                  <a:pt x="22327" y="8032"/>
                  <a:pt x="22349" y="8012"/>
                </a:cubicBezTo>
              </a:path>
              <a:path w="5011" h="2010">
                <a:moveTo>
                  <a:pt x="22845" y="8483"/>
                </a:moveTo>
                <a:cubicBezTo>
                  <a:pt x="22845" y="8424"/>
                  <a:pt x="22855" y="8430"/>
                  <a:pt x="22845" y="8434"/>
                </a:cubicBezTo>
                <a:cubicBezTo>
                  <a:pt x="22820" y="8444"/>
                  <a:pt x="22799" y="8494"/>
                  <a:pt x="22796" y="8533"/>
                </a:cubicBezTo>
                <a:cubicBezTo>
                  <a:pt x="22792" y="8588"/>
                  <a:pt x="22792" y="8614"/>
                  <a:pt x="22845" y="8632"/>
                </a:cubicBezTo>
                <a:cubicBezTo>
                  <a:pt x="22916" y="8656"/>
                  <a:pt x="22973" y="8613"/>
                  <a:pt x="23044" y="8657"/>
                </a:cubicBezTo>
                <a:cubicBezTo>
                  <a:pt x="23081" y="8680"/>
                  <a:pt x="23109" y="8745"/>
                  <a:pt x="23118" y="8781"/>
                </a:cubicBezTo>
                <a:cubicBezTo>
                  <a:pt x="23063" y="8814"/>
                  <a:pt x="23012" y="8806"/>
                  <a:pt x="22944" y="8806"/>
                </a:cubicBezTo>
                <a:cubicBezTo>
                  <a:pt x="22880" y="8806"/>
                  <a:pt x="22880" y="8807"/>
                  <a:pt x="22820" y="8781"/>
                </a:cubicBezTo>
              </a:path>
              <a:path w="5011" h="2010">
                <a:moveTo>
                  <a:pt x="23168" y="8384"/>
                </a:moveTo>
                <a:cubicBezTo>
                  <a:pt x="23176" y="8376"/>
                  <a:pt x="23184" y="8367"/>
                  <a:pt x="23192" y="8359"/>
                </a:cubicBezTo>
                <a:cubicBezTo>
                  <a:pt x="23135" y="8359"/>
                  <a:pt x="23096" y="8375"/>
                  <a:pt x="23044" y="8384"/>
                </a:cubicBezTo>
                <a:cubicBezTo>
                  <a:pt x="23027" y="8384"/>
                  <a:pt x="23011" y="8384"/>
                  <a:pt x="22994" y="8384"/>
                </a:cubicBezTo>
              </a:path>
              <a:path w="5011" h="2010">
                <a:moveTo>
                  <a:pt x="23391" y="8334"/>
                </a:moveTo>
                <a:cubicBezTo>
                  <a:pt x="23399" y="8366"/>
                  <a:pt x="23430" y="8396"/>
                  <a:pt x="23416" y="8434"/>
                </a:cubicBezTo>
                <a:cubicBezTo>
                  <a:pt x="23396" y="8490"/>
                  <a:pt x="23411" y="8556"/>
                  <a:pt x="23391" y="8607"/>
                </a:cubicBezTo>
                <a:cubicBezTo>
                  <a:pt x="23376" y="8645"/>
                  <a:pt x="23353" y="8688"/>
                  <a:pt x="23391" y="8706"/>
                </a:cubicBezTo>
                <a:cubicBezTo>
                  <a:pt x="23464" y="8741"/>
                  <a:pt x="23620" y="8699"/>
                  <a:pt x="23688" y="8682"/>
                </a:cubicBezTo>
                <a:cubicBezTo>
                  <a:pt x="23746" y="8668"/>
                  <a:pt x="23792" y="8692"/>
                  <a:pt x="23837" y="8706"/>
                </a:cubicBezTo>
                <a:cubicBezTo>
                  <a:pt x="23845" y="8706"/>
                  <a:pt x="23854" y="8706"/>
                  <a:pt x="23862" y="8706"/>
                </a:cubicBezTo>
              </a:path>
              <a:path w="5011" h="2010">
                <a:moveTo>
                  <a:pt x="23688" y="8508"/>
                </a:moveTo>
                <a:cubicBezTo>
                  <a:pt x="23648" y="8488"/>
                  <a:pt x="23642" y="8479"/>
                  <a:pt x="23614" y="8483"/>
                </a:cubicBezTo>
                <a:cubicBezTo>
                  <a:pt x="23614" y="8565"/>
                  <a:pt x="23592" y="8625"/>
                  <a:pt x="23589" y="8706"/>
                </a:cubicBezTo>
                <a:cubicBezTo>
                  <a:pt x="23586" y="8780"/>
                  <a:pt x="23589" y="8855"/>
                  <a:pt x="23589" y="8930"/>
                </a:cubicBezTo>
              </a:path>
              <a:path w="5011" h="2010">
                <a:moveTo>
                  <a:pt x="22374" y="8905"/>
                </a:moveTo>
                <a:cubicBezTo>
                  <a:pt x="22346" y="8905"/>
                  <a:pt x="22335" y="8903"/>
                  <a:pt x="22324" y="8880"/>
                </a:cubicBezTo>
                <a:cubicBezTo>
                  <a:pt x="22286" y="8909"/>
                  <a:pt x="22273" y="8905"/>
                  <a:pt x="22225" y="8905"/>
                </a:cubicBezTo>
                <a:cubicBezTo>
                  <a:pt x="22140" y="8905"/>
                  <a:pt x="22073" y="8904"/>
                  <a:pt x="22002" y="8880"/>
                </a:cubicBezTo>
                <a:cubicBezTo>
                  <a:pt x="21994" y="8880"/>
                  <a:pt x="21985" y="8880"/>
                  <a:pt x="21977" y="8880"/>
                </a:cubicBezTo>
                <a:cubicBezTo>
                  <a:pt x="21966" y="8925"/>
                  <a:pt x="21952" y="8950"/>
                  <a:pt x="21952" y="9004"/>
                </a:cubicBezTo>
                <a:cubicBezTo>
                  <a:pt x="21952" y="9029"/>
                  <a:pt x="21952" y="9054"/>
                  <a:pt x="21952" y="9079"/>
                </a:cubicBezTo>
              </a:path>
              <a:path w="5011" h="2010">
                <a:moveTo>
                  <a:pt x="20216" y="8756"/>
                </a:moveTo>
                <a:cubicBezTo>
                  <a:pt x="20191" y="8756"/>
                  <a:pt x="20183" y="8756"/>
                  <a:pt x="20191" y="8731"/>
                </a:cubicBezTo>
                <a:cubicBezTo>
                  <a:pt x="20237" y="8731"/>
                  <a:pt x="20255" y="8725"/>
                  <a:pt x="20290" y="8756"/>
                </a:cubicBezTo>
                <a:cubicBezTo>
                  <a:pt x="20322" y="8785"/>
                  <a:pt x="20379" y="8841"/>
                  <a:pt x="20389" y="8880"/>
                </a:cubicBezTo>
                <a:cubicBezTo>
                  <a:pt x="20402" y="8929"/>
                  <a:pt x="20405" y="9072"/>
                  <a:pt x="20365" y="9103"/>
                </a:cubicBezTo>
                <a:cubicBezTo>
                  <a:pt x="20318" y="9139"/>
                  <a:pt x="20294" y="9145"/>
                  <a:pt x="20241" y="9153"/>
                </a:cubicBezTo>
              </a:path>
              <a:path w="5011" h="2010">
                <a:moveTo>
                  <a:pt x="20687" y="8756"/>
                </a:moveTo>
                <a:cubicBezTo>
                  <a:pt x="20620" y="8756"/>
                  <a:pt x="20726" y="8756"/>
                  <a:pt x="20737" y="8756"/>
                </a:cubicBezTo>
                <a:cubicBezTo>
                  <a:pt x="20773" y="8756"/>
                  <a:pt x="20823" y="8762"/>
                  <a:pt x="20836" y="8806"/>
                </a:cubicBezTo>
                <a:cubicBezTo>
                  <a:pt x="20849" y="8850"/>
                  <a:pt x="20838" y="8900"/>
                  <a:pt x="20811" y="8930"/>
                </a:cubicBezTo>
                <a:cubicBezTo>
                  <a:pt x="20785" y="8959"/>
                  <a:pt x="20728" y="8994"/>
                  <a:pt x="20712" y="9029"/>
                </a:cubicBezTo>
                <a:cubicBezTo>
                  <a:pt x="20712" y="9037"/>
                  <a:pt x="20712" y="9046"/>
                  <a:pt x="20712" y="9054"/>
                </a:cubicBezTo>
                <a:cubicBezTo>
                  <a:pt x="20752" y="9044"/>
                  <a:pt x="20774" y="9016"/>
                  <a:pt x="20811" y="9004"/>
                </a:cubicBezTo>
                <a:cubicBezTo>
                  <a:pt x="20854" y="8990"/>
                  <a:pt x="20845" y="9010"/>
                  <a:pt x="20886" y="8979"/>
                </a:cubicBezTo>
              </a:path>
              <a:path w="5011" h="2010">
                <a:moveTo>
                  <a:pt x="21084" y="8756"/>
                </a:moveTo>
                <a:cubicBezTo>
                  <a:pt x="21107" y="8733"/>
                  <a:pt x="21111" y="8725"/>
                  <a:pt x="21134" y="8731"/>
                </a:cubicBezTo>
                <a:cubicBezTo>
                  <a:pt x="21145" y="8786"/>
                  <a:pt x="21158" y="8821"/>
                  <a:pt x="21158" y="8880"/>
                </a:cubicBezTo>
                <a:cubicBezTo>
                  <a:pt x="21158" y="8928"/>
                  <a:pt x="21143" y="8959"/>
                  <a:pt x="21134" y="9004"/>
                </a:cubicBezTo>
              </a:path>
              <a:path w="5011" h="2010">
                <a:moveTo>
                  <a:pt x="21431" y="8706"/>
                </a:moveTo>
                <a:cubicBezTo>
                  <a:pt x="21462" y="8684"/>
                  <a:pt x="21492" y="8661"/>
                  <a:pt x="21530" y="8657"/>
                </a:cubicBezTo>
                <a:cubicBezTo>
                  <a:pt x="21558" y="8654"/>
                  <a:pt x="21594" y="8724"/>
                  <a:pt x="21605" y="8756"/>
                </a:cubicBezTo>
                <a:cubicBezTo>
                  <a:pt x="21615" y="8785"/>
                  <a:pt x="21554" y="8844"/>
                  <a:pt x="21530" y="8855"/>
                </a:cubicBezTo>
                <a:cubicBezTo>
                  <a:pt x="21502" y="8868"/>
                  <a:pt x="21436" y="8813"/>
                  <a:pt x="21431" y="8806"/>
                </a:cubicBezTo>
              </a:path>
              <a:path w="5011" h="2010">
                <a:moveTo>
                  <a:pt x="20513" y="9525"/>
                </a:moveTo>
                <a:cubicBezTo>
                  <a:pt x="20449" y="9525"/>
                  <a:pt x="20552" y="9525"/>
                  <a:pt x="20563" y="9525"/>
                </a:cubicBezTo>
                <a:cubicBezTo>
                  <a:pt x="20630" y="9525"/>
                  <a:pt x="20640" y="9529"/>
                  <a:pt x="20687" y="9575"/>
                </a:cubicBezTo>
                <a:cubicBezTo>
                  <a:pt x="20713" y="9601"/>
                  <a:pt x="20731" y="9661"/>
                  <a:pt x="20712" y="9699"/>
                </a:cubicBezTo>
                <a:cubicBezTo>
                  <a:pt x="20691" y="9741"/>
                  <a:pt x="20625" y="9723"/>
                  <a:pt x="20588" y="9723"/>
                </a:cubicBezTo>
                <a:cubicBezTo>
                  <a:pt x="20555" y="9723"/>
                  <a:pt x="20522" y="9723"/>
                  <a:pt x="20489" y="9723"/>
                </a:cubicBezTo>
              </a:path>
              <a:path w="5011" h="2010">
                <a:moveTo>
                  <a:pt x="20861" y="9550"/>
                </a:moveTo>
                <a:cubicBezTo>
                  <a:pt x="20901" y="9530"/>
                  <a:pt x="20917" y="9531"/>
                  <a:pt x="20910" y="9500"/>
                </a:cubicBezTo>
                <a:cubicBezTo>
                  <a:pt x="20867" y="9511"/>
                  <a:pt x="20845" y="9542"/>
                  <a:pt x="20811" y="9575"/>
                </a:cubicBezTo>
                <a:cubicBezTo>
                  <a:pt x="20742" y="9642"/>
                  <a:pt x="20811" y="9663"/>
                  <a:pt x="20861" y="9699"/>
                </a:cubicBezTo>
                <a:cubicBezTo>
                  <a:pt x="20887" y="9718"/>
                  <a:pt x="20949" y="9742"/>
                  <a:pt x="20985" y="9723"/>
                </a:cubicBezTo>
                <a:cubicBezTo>
                  <a:pt x="20993" y="9715"/>
                  <a:pt x="21002" y="9707"/>
                  <a:pt x="21010" y="9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2960" y="3527280"/>
            <a:ext cx="341280" cy="258840"/>
          </a:xfrm>
          <a:custGeom>
            <a:avLst/>
            <a:gdLst/>
            <a:ahLst/>
            <a:rect l="l" t="t" r="r" b="b"/>
            <a:pathLst>
              <a:path w="944" h="720">
                <a:moveTo>
                  <a:pt x="20613" y="10220"/>
                </a:moveTo>
                <a:cubicBezTo>
                  <a:pt x="20613" y="10178"/>
                  <a:pt x="20621" y="10162"/>
                  <a:pt x="20588" y="10170"/>
                </a:cubicBezTo>
                <a:cubicBezTo>
                  <a:pt x="20549" y="10183"/>
                  <a:pt x="20541" y="10217"/>
                  <a:pt x="20538" y="10269"/>
                </a:cubicBezTo>
                <a:cubicBezTo>
                  <a:pt x="20534" y="10330"/>
                  <a:pt x="20530" y="10354"/>
                  <a:pt x="20588" y="10368"/>
                </a:cubicBezTo>
                <a:cubicBezTo>
                  <a:pt x="20597" y="10332"/>
                  <a:pt x="20609" y="10323"/>
                  <a:pt x="20638" y="10294"/>
                </a:cubicBezTo>
                <a:cubicBezTo>
                  <a:pt x="20666" y="10304"/>
                  <a:pt x="20680" y="10337"/>
                  <a:pt x="20712" y="10368"/>
                </a:cubicBezTo>
                <a:cubicBezTo>
                  <a:pt x="20720" y="10376"/>
                  <a:pt x="20729" y="10385"/>
                  <a:pt x="20737" y="10393"/>
                </a:cubicBezTo>
              </a:path>
              <a:path w="944" h="720">
                <a:moveTo>
                  <a:pt x="20886" y="10220"/>
                </a:moveTo>
                <a:cubicBezTo>
                  <a:pt x="20905" y="10179"/>
                  <a:pt x="20924" y="10163"/>
                  <a:pt x="20886" y="10170"/>
                </a:cubicBezTo>
                <a:cubicBezTo>
                  <a:pt x="20886" y="10211"/>
                  <a:pt x="20886" y="10253"/>
                  <a:pt x="20886" y="10294"/>
                </a:cubicBezTo>
                <a:cubicBezTo>
                  <a:pt x="20955" y="10294"/>
                  <a:pt x="20976" y="10242"/>
                  <a:pt x="20985" y="10170"/>
                </a:cubicBezTo>
                <a:cubicBezTo>
                  <a:pt x="21001" y="10050"/>
                  <a:pt x="20985" y="9919"/>
                  <a:pt x="20985" y="9798"/>
                </a:cubicBezTo>
                <a:cubicBezTo>
                  <a:pt x="21026" y="9865"/>
                  <a:pt x="21013" y="9944"/>
                  <a:pt x="21034" y="10021"/>
                </a:cubicBezTo>
                <a:cubicBezTo>
                  <a:pt x="21050" y="10079"/>
                  <a:pt x="21053" y="10169"/>
                  <a:pt x="21084" y="10220"/>
                </a:cubicBezTo>
                <a:cubicBezTo>
                  <a:pt x="21107" y="10242"/>
                  <a:pt x="21112" y="10250"/>
                  <a:pt x="21134" y="10244"/>
                </a:cubicBezTo>
              </a:path>
              <a:path w="944" h="720">
                <a:moveTo>
                  <a:pt x="21258" y="10120"/>
                </a:moveTo>
                <a:cubicBezTo>
                  <a:pt x="21329" y="10156"/>
                  <a:pt x="21393" y="10195"/>
                  <a:pt x="21431" y="10269"/>
                </a:cubicBezTo>
                <a:cubicBezTo>
                  <a:pt x="21458" y="10321"/>
                  <a:pt x="21505" y="10430"/>
                  <a:pt x="21481" y="10492"/>
                </a:cubicBezTo>
                <a:cubicBezTo>
                  <a:pt x="21469" y="10522"/>
                  <a:pt x="21409" y="10527"/>
                  <a:pt x="21382" y="10517"/>
                </a:cubicBezTo>
                <a:cubicBezTo>
                  <a:pt x="21365" y="10509"/>
                  <a:pt x="21349" y="10500"/>
                  <a:pt x="21332" y="10492"/>
                </a:cubicBezTo>
              </a:path>
              <a:path w="944" h="720">
                <a:moveTo>
                  <a:pt x="21357" y="9872"/>
                </a:moveTo>
                <a:cubicBezTo>
                  <a:pt x="21395" y="9788"/>
                  <a:pt x="21362" y="9798"/>
                  <a:pt x="21431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49800" y="3946680"/>
            <a:ext cx="1457280" cy="393480"/>
          </a:xfrm>
          <a:custGeom>
            <a:avLst/>
            <a:gdLst/>
            <a:ahLst/>
            <a:rect l="l" t="t" r="r" b="b"/>
            <a:pathLst>
              <a:path w="4044" h="1092">
                <a:moveTo>
                  <a:pt x="12055" y="11237"/>
                </a:moveTo>
                <a:cubicBezTo>
                  <a:pt x="12101" y="11237"/>
                  <a:pt x="12123" y="11239"/>
                  <a:pt x="12129" y="11187"/>
                </a:cubicBezTo>
                <a:cubicBezTo>
                  <a:pt x="12135" y="11134"/>
                  <a:pt x="12094" y="11137"/>
                  <a:pt x="12055" y="11137"/>
                </a:cubicBezTo>
                <a:cubicBezTo>
                  <a:pt x="12004" y="11137"/>
                  <a:pt x="11946" y="11165"/>
                  <a:pt x="11906" y="11187"/>
                </a:cubicBezTo>
                <a:cubicBezTo>
                  <a:pt x="11847" y="11219"/>
                  <a:pt x="11814" y="11240"/>
                  <a:pt x="11807" y="11311"/>
                </a:cubicBezTo>
                <a:cubicBezTo>
                  <a:pt x="11802" y="11359"/>
                  <a:pt x="11806" y="11412"/>
                  <a:pt x="11857" y="11435"/>
                </a:cubicBezTo>
                <a:cubicBezTo>
                  <a:pt x="11904" y="11456"/>
                  <a:pt x="11954" y="11482"/>
                  <a:pt x="12005" y="11485"/>
                </a:cubicBezTo>
                <a:cubicBezTo>
                  <a:pt x="12054" y="11488"/>
                  <a:pt x="12105" y="11485"/>
                  <a:pt x="12154" y="11485"/>
                </a:cubicBezTo>
              </a:path>
              <a:path w="4044" h="1092">
                <a:moveTo>
                  <a:pt x="12328" y="11361"/>
                </a:moveTo>
                <a:cubicBezTo>
                  <a:pt x="12328" y="11335"/>
                  <a:pt x="12335" y="11273"/>
                  <a:pt x="12353" y="11261"/>
                </a:cubicBezTo>
                <a:cubicBezTo>
                  <a:pt x="12379" y="11243"/>
                  <a:pt x="12416" y="11237"/>
                  <a:pt x="12452" y="11237"/>
                </a:cubicBezTo>
                <a:cubicBezTo>
                  <a:pt x="12496" y="11237"/>
                  <a:pt x="12521" y="11281"/>
                  <a:pt x="12551" y="11311"/>
                </a:cubicBezTo>
                <a:cubicBezTo>
                  <a:pt x="12588" y="11348"/>
                  <a:pt x="12576" y="11384"/>
                  <a:pt x="12576" y="11435"/>
                </a:cubicBezTo>
                <a:cubicBezTo>
                  <a:pt x="12576" y="11476"/>
                  <a:pt x="12541" y="11506"/>
                  <a:pt x="12502" y="11509"/>
                </a:cubicBezTo>
                <a:cubicBezTo>
                  <a:pt x="12446" y="11513"/>
                  <a:pt x="12410" y="11511"/>
                  <a:pt x="12378" y="11460"/>
                </a:cubicBezTo>
                <a:cubicBezTo>
                  <a:pt x="12343" y="11406"/>
                  <a:pt x="12344" y="11381"/>
                  <a:pt x="12378" y="11336"/>
                </a:cubicBezTo>
              </a:path>
              <a:path w="4044" h="1092">
                <a:moveTo>
                  <a:pt x="12750" y="11261"/>
                </a:moveTo>
                <a:cubicBezTo>
                  <a:pt x="12750" y="11327"/>
                  <a:pt x="12750" y="11394"/>
                  <a:pt x="12750" y="11460"/>
                </a:cubicBezTo>
                <a:cubicBezTo>
                  <a:pt x="12776" y="11451"/>
                  <a:pt x="12789" y="11401"/>
                  <a:pt x="12799" y="11361"/>
                </a:cubicBezTo>
                <a:cubicBezTo>
                  <a:pt x="12809" y="11321"/>
                  <a:pt x="12828" y="11268"/>
                  <a:pt x="12849" y="11237"/>
                </a:cubicBezTo>
                <a:cubicBezTo>
                  <a:pt x="12878" y="11195"/>
                  <a:pt x="12901" y="11187"/>
                  <a:pt x="12948" y="11187"/>
                </a:cubicBezTo>
                <a:cubicBezTo>
                  <a:pt x="12962" y="11187"/>
                  <a:pt x="13015" y="11236"/>
                  <a:pt x="13022" y="11261"/>
                </a:cubicBezTo>
                <a:cubicBezTo>
                  <a:pt x="13038" y="11318"/>
                  <a:pt x="13022" y="11400"/>
                  <a:pt x="13022" y="11460"/>
                </a:cubicBezTo>
              </a:path>
              <a:path w="4044" h="1092">
                <a:moveTo>
                  <a:pt x="13444" y="11261"/>
                </a:moveTo>
                <a:cubicBezTo>
                  <a:pt x="13444" y="11204"/>
                  <a:pt x="13431" y="11193"/>
                  <a:pt x="13370" y="11187"/>
                </a:cubicBezTo>
                <a:cubicBezTo>
                  <a:pt x="13314" y="11181"/>
                  <a:pt x="13258" y="11233"/>
                  <a:pt x="13246" y="11286"/>
                </a:cubicBezTo>
                <a:cubicBezTo>
                  <a:pt x="13234" y="11338"/>
                  <a:pt x="13248" y="11371"/>
                  <a:pt x="13271" y="11410"/>
                </a:cubicBezTo>
                <a:cubicBezTo>
                  <a:pt x="13359" y="11392"/>
                  <a:pt x="13337" y="11357"/>
                  <a:pt x="13395" y="11311"/>
                </a:cubicBezTo>
                <a:cubicBezTo>
                  <a:pt x="13419" y="11311"/>
                  <a:pt x="13428" y="11311"/>
                  <a:pt x="13444" y="11311"/>
                </a:cubicBezTo>
                <a:cubicBezTo>
                  <a:pt x="13485" y="11379"/>
                  <a:pt x="13491" y="11448"/>
                  <a:pt x="13494" y="11534"/>
                </a:cubicBezTo>
                <a:cubicBezTo>
                  <a:pt x="13499" y="11669"/>
                  <a:pt x="13498" y="11759"/>
                  <a:pt x="13444" y="11881"/>
                </a:cubicBezTo>
                <a:cubicBezTo>
                  <a:pt x="13409" y="11960"/>
                  <a:pt x="13361" y="12035"/>
                  <a:pt x="13271" y="12055"/>
                </a:cubicBezTo>
                <a:cubicBezTo>
                  <a:pt x="13200" y="12071"/>
                  <a:pt x="13070" y="12007"/>
                  <a:pt x="13022" y="11956"/>
                </a:cubicBezTo>
                <a:cubicBezTo>
                  <a:pt x="12980" y="11911"/>
                  <a:pt x="12935" y="11843"/>
                  <a:pt x="12923" y="11782"/>
                </a:cubicBezTo>
              </a:path>
              <a:path w="4044" h="1092">
                <a:moveTo>
                  <a:pt x="13717" y="11162"/>
                </a:moveTo>
                <a:cubicBezTo>
                  <a:pt x="13743" y="11206"/>
                  <a:pt x="13742" y="11233"/>
                  <a:pt x="13742" y="11286"/>
                </a:cubicBezTo>
                <a:cubicBezTo>
                  <a:pt x="13742" y="11311"/>
                  <a:pt x="13742" y="11319"/>
                  <a:pt x="13742" y="11336"/>
                </a:cubicBezTo>
                <a:cubicBezTo>
                  <a:pt x="13742" y="11262"/>
                  <a:pt x="13748" y="11200"/>
                  <a:pt x="13767" y="11137"/>
                </a:cubicBezTo>
                <a:cubicBezTo>
                  <a:pt x="13779" y="11098"/>
                  <a:pt x="13793" y="11066"/>
                  <a:pt x="13841" y="11063"/>
                </a:cubicBezTo>
                <a:cubicBezTo>
                  <a:pt x="13897" y="11059"/>
                  <a:pt x="13947" y="11055"/>
                  <a:pt x="13990" y="11088"/>
                </a:cubicBezTo>
                <a:cubicBezTo>
                  <a:pt x="14027" y="11117"/>
                  <a:pt x="14028" y="11102"/>
                  <a:pt x="14039" y="11137"/>
                </a:cubicBezTo>
              </a:path>
              <a:path w="4044" h="1092">
                <a:moveTo>
                  <a:pt x="14163" y="11137"/>
                </a:moveTo>
                <a:cubicBezTo>
                  <a:pt x="14135" y="11176"/>
                  <a:pt x="14125" y="11234"/>
                  <a:pt x="14139" y="11286"/>
                </a:cubicBezTo>
                <a:cubicBezTo>
                  <a:pt x="14152" y="11336"/>
                  <a:pt x="14204" y="11404"/>
                  <a:pt x="14263" y="11385"/>
                </a:cubicBezTo>
                <a:cubicBezTo>
                  <a:pt x="14314" y="11369"/>
                  <a:pt x="14335" y="11302"/>
                  <a:pt x="14337" y="11261"/>
                </a:cubicBezTo>
                <a:cubicBezTo>
                  <a:pt x="14340" y="11214"/>
                  <a:pt x="14353" y="11182"/>
                  <a:pt x="14362" y="11137"/>
                </a:cubicBezTo>
              </a:path>
              <a:path w="4044" h="1092">
                <a:moveTo>
                  <a:pt x="14511" y="11261"/>
                </a:moveTo>
                <a:cubicBezTo>
                  <a:pt x="14546" y="11270"/>
                  <a:pt x="14592" y="11308"/>
                  <a:pt x="14635" y="11286"/>
                </a:cubicBezTo>
                <a:cubicBezTo>
                  <a:pt x="14668" y="11269"/>
                  <a:pt x="14705" y="11220"/>
                  <a:pt x="14709" y="11187"/>
                </a:cubicBezTo>
                <a:cubicBezTo>
                  <a:pt x="14714" y="11141"/>
                  <a:pt x="14647" y="11124"/>
                  <a:pt x="14610" y="11137"/>
                </a:cubicBezTo>
                <a:cubicBezTo>
                  <a:pt x="14549" y="11159"/>
                  <a:pt x="14496" y="11244"/>
                  <a:pt x="14511" y="11311"/>
                </a:cubicBezTo>
                <a:cubicBezTo>
                  <a:pt x="14532" y="11407"/>
                  <a:pt x="14573" y="11431"/>
                  <a:pt x="14660" y="11435"/>
                </a:cubicBezTo>
                <a:cubicBezTo>
                  <a:pt x="14741" y="11439"/>
                  <a:pt x="14810" y="11441"/>
                  <a:pt x="14883" y="11410"/>
                </a:cubicBezTo>
              </a:path>
              <a:path w="4044" h="1092">
                <a:moveTo>
                  <a:pt x="14957" y="11261"/>
                </a:moveTo>
                <a:cubicBezTo>
                  <a:pt x="14995" y="11274"/>
                  <a:pt x="14982" y="11291"/>
                  <a:pt x="14982" y="11336"/>
                </a:cubicBezTo>
                <a:cubicBezTo>
                  <a:pt x="14982" y="11369"/>
                  <a:pt x="14982" y="11402"/>
                  <a:pt x="14982" y="11435"/>
                </a:cubicBezTo>
                <a:cubicBezTo>
                  <a:pt x="15014" y="11392"/>
                  <a:pt x="15020" y="11332"/>
                  <a:pt x="15056" y="11286"/>
                </a:cubicBezTo>
                <a:cubicBezTo>
                  <a:pt x="15089" y="11243"/>
                  <a:pt x="15122" y="11204"/>
                  <a:pt x="15156" y="11162"/>
                </a:cubicBezTo>
                <a:cubicBezTo>
                  <a:pt x="15210" y="11176"/>
                  <a:pt x="15228" y="11210"/>
                  <a:pt x="15255" y="11261"/>
                </a:cubicBezTo>
                <a:cubicBezTo>
                  <a:pt x="15286" y="11320"/>
                  <a:pt x="15299" y="11394"/>
                  <a:pt x="15304" y="11460"/>
                </a:cubicBezTo>
                <a:cubicBezTo>
                  <a:pt x="15304" y="11485"/>
                  <a:pt x="15304" y="11493"/>
                  <a:pt x="15304" y="11509"/>
                </a:cubicBezTo>
              </a:path>
              <a:path w="4044" h="1092">
                <a:moveTo>
                  <a:pt x="15652" y="10988"/>
                </a:moveTo>
                <a:cubicBezTo>
                  <a:pt x="15675" y="10966"/>
                  <a:pt x="15686" y="10958"/>
                  <a:pt x="15652" y="10964"/>
                </a:cubicBezTo>
                <a:cubicBezTo>
                  <a:pt x="15644" y="11021"/>
                  <a:pt x="15621" y="11081"/>
                  <a:pt x="15602" y="11137"/>
                </a:cubicBezTo>
                <a:cubicBezTo>
                  <a:pt x="15585" y="11188"/>
                  <a:pt x="15562" y="11289"/>
                  <a:pt x="15602" y="11336"/>
                </a:cubicBezTo>
                <a:cubicBezTo>
                  <a:pt x="15622" y="11359"/>
                  <a:pt x="15691" y="11397"/>
                  <a:pt x="15726" y="11385"/>
                </a:cubicBezTo>
                <a:cubicBezTo>
                  <a:pt x="15772" y="11369"/>
                  <a:pt x="15814" y="11338"/>
                  <a:pt x="15850" y="11311"/>
                </a:cubicBezTo>
              </a:path>
              <a:path w="4044" h="1092">
                <a:moveTo>
                  <a:pt x="15850" y="11137"/>
                </a:moveTo>
                <a:cubicBezTo>
                  <a:pt x="15743" y="11137"/>
                  <a:pt x="15635" y="11137"/>
                  <a:pt x="15528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34080" y="4010040"/>
            <a:ext cx="430200" cy="177840"/>
          </a:xfrm>
          <a:custGeom>
            <a:avLst/>
            <a:gdLst/>
            <a:ahLst/>
            <a:rect l="l" t="t" r="r" b="b"/>
            <a:pathLst>
              <a:path w="1192" h="497">
                <a:moveTo>
                  <a:pt x="18504" y="11162"/>
                </a:moveTo>
                <a:cubicBezTo>
                  <a:pt x="18504" y="11137"/>
                  <a:pt x="18504" y="11129"/>
                  <a:pt x="18529" y="11137"/>
                </a:cubicBezTo>
                <a:cubicBezTo>
                  <a:pt x="18529" y="11191"/>
                  <a:pt x="18507" y="11206"/>
                  <a:pt x="18504" y="11261"/>
                </a:cubicBezTo>
                <a:cubicBezTo>
                  <a:pt x="18500" y="11358"/>
                  <a:pt x="18474" y="11439"/>
                  <a:pt x="18504" y="11534"/>
                </a:cubicBezTo>
                <a:cubicBezTo>
                  <a:pt x="18529" y="11611"/>
                  <a:pt x="18592" y="11634"/>
                  <a:pt x="18653" y="11609"/>
                </a:cubicBezTo>
                <a:cubicBezTo>
                  <a:pt x="18698" y="11590"/>
                  <a:pt x="18735" y="11559"/>
                  <a:pt x="18777" y="11534"/>
                </a:cubicBezTo>
              </a:path>
              <a:path w="1192" h="497">
                <a:moveTo>
                  <a:pt x="18678" y="11311"/>
                </a:moveTo>
                <a:cubicBezTo>
                  <a:pt x="18610" y="11311"/>
                  <a:pt x="18584" y="11318"/>
                  <a:pt x="18529" y="11336"/>
                </a:cubicBezTo>
                <a:cubicBezTo>
                  <a:pt x="18492" y="11348"/>
                  <a:pt x="18473" y="11361"/>
                  <a:pt x="18430" y="11361"/>
                </a:cubicBezTo>
              </a:path>
              <a:path w="1192" h="497">
                <a:moveTo>
                  <a:pt x="19000" y="11261"/>
                </a:moveTo>
                <a:cubicBezTo>
                  <a:pt x="19028" y="11261"/>
                  <a:pt x="19039" y="11259"/>
                  <a:pt x="19050" y="11237"/>
                </a:cubicBezTo>
                <a:cubicBezTo>
                  <a:pt x="18980" y="11237"/>
                  <a:pt x="18982" y="11275"/>
                  <a:pt x="18951" y="11336"/>
                </a:cubicBezTo>
                <a:cubicBezTo>
                  <a:pt x="18921" y="11396"/>
                  <a:pt x="18926" y="11443"/>
                  <a:pt x="18926" y="11509"/>
                </a:cubicBezTo>
                <a:cubicBezTo>
                  <a:pt x="18984" y="11495"/>
                  <a:pt x="18974" y="11465"/>
                  <a:pt x="19000" y="11410"/>
                </a:cubicBezTo>
                <a:cubicBezTo>
                  <a:pt x="19033" y="11340"/>
                  <a:pt x="19047" y="11355"/>
                  <a:pt x="19100" y="11385"/>
                </a:cubicBezTo>
                <a:cubicBezTo>
                  <a:pt x="19159" y="11418"/>
                  <a:pt x="19172" y="11480"/>
                  <a:pt x="19224" y="11509"/>
                </a:cubicBezTo>
                <a:cubicBezTo>
                  <a:pt x="19232" y="11509"/>
                  <a:pt x="19240" y="11509"/>
                  <a:pt x="19248" y="11509"/>
                </a:cubicBezTo>
              </a:path>
              <a:path w="1192" h="497">
                <a:moveTo>
                  <a:pt x="19298" y="11361"/>
                </a:moveTo>
                <a:cubicBezTo>
                  <a:pt x="19321" y="11368"/>
                  <a:pt x="19337" y="11403"/>
                  <a:pt x="19348" y="11435"/>
                </a:cubicBezTo>
                <a:cubicBezTo>
                  <a:pt x="19348" y="11460"/>
                  <a:pt x="19348" y="11468"/>
                  <a:pt x="19372" y="11460"/>
                </a:cubicBezTo>
                <a:cubicBezTo>
                  <a:pt x="19381" y="11417"/>
                  <a:pt x="19387" y="11338"/>
                  <a:pt x="19422" y="11311"/>
                </a:cubicBezTo>
                <a:cubicBezTo>
                  <a:pt x="19494" y="11256"/>
                  <a:pt x="19558" y="11353"/>
                  <a:pt x="19596" y="11410"/>
                </a:cubicBezTo>
                <a:cubicBezTo>
                  <a:pt x="19604" y="11427"/>
                  <a:pt x="19613" y="11443"/>
                  <a:pt x="19621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3973680"/>
            <a:ext cx="260280" cy="169560"/>
          </a:xfrm>
          <a:custGeom>
            <a:avLst/>
            <a:gdLst/>
            <a:ahLst/>
            <a:rect l="l" t="t" r="r" b="b"/>
            <a:pathLst>
              <a:path w="720" h="472">
                <a:moveTo>
                  <a:pt x="20241" y="11261"/>
                </a:moveTo>
                <a:cubicBezTo>
                  <a:pt x="20241" y="11221"/>
                  <a:pt x="20203" y="11168"/>
                  <a:pt x="20216" y="11137"/>
                </a:cubicBezTo>
                <a:cubicBezTo>
                  <a:pt x="20239" y="11079"/>
                  <a:pt x="20315" y="11067"/>
                  <a:pt x="20365" y="11063"/>
                </a:cubicBezTo>
                <a:cubicBezTo>
                  <a:pt x="20406" y="11060"/>
                  <a:pt x="20474" y="11060"/>
                  <a:pt x="20489" y="11112"/>
                </a:cubicBezTo>
                <a:cubicBezTo>
                  <a:pt x="20508" y="11179"/>
                  <a:pt x="20451" y="11267"/>
                  <a:pt x="20414" y="11311"/>
                </a:cubicBezTo>
                <a:cubicBezTo>
                  <a:pt x="20369" y="11364"/>
                  <a:pt x="20365" y="11392"/>
                  <a:pt x="20365" y="11460"/>
                </a:cubicBezTo>
                <a:cubicBezTo>
                  <a:pt x="20365" y="11509"/>
                  <a:pt x="20419" y="11527"/>
                  <a:pt x="20464" y="11509"/>
                </a:cubicBezTo>
                <a:cubicBezTo>
                  <a:pt x="20517" y="11488"/>
                  <a:pt x="20556" y="11429"/>
                  <a:pt x="20613" y="11410"/>
                </a:cubicBezTo>
                <a:cubicBezTo>
                  <a:pt x="20621" y="11410"/>
                  <a:pt x="20630" y="11410"/>
                  <a:pt x="20638" y="11410"/>
                </a:cubicBezTo>
              </a:path>
              <a:path w="720" h="472">
                <a:moveTo>
                  <a:pt x="20786" y="11063"/>
                </a:moveTo>
                <a:cubicBezTo>
                  <a:pt x="20809" y="11040"/>
                  <a:pt x="20813" y="11032"/>
                  <a:pt x="20836" y="11038"/>
                </a:cubicBezTo>
                <a:cubicBezTo>
                  <a:pt x="20849" y="11102"/>
                  <a:pt x="20862" y="11173"/>
                  <a:pt x="20886" y="11237"/>
                </a:cubicBezTo>
                <a:cubicBezTo>
                  <a:pt x="20910" y="11302"/>
                  <a:pt x="20922" y="11368"/>
                  <a:pt x="20935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32800" y="3973680"/>
            <a:ext cx="90360" cy="5364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21654" y="11038"/>
                </a:moveTo>
                <a:cubicBezTo>
                  <a:pt x="21679" y="11038"/>
                  <a:pt x="21687" y="11038"/>
                  <a:pt x="21704" y="11038"/>
                </a:cubicBezTo>
                <a:cubicBezTo>
                  <a:pt x="21649" y="11038"/>
                  <a:pt x="21634" y="11050"/>
                  <a:pt x="21580" y="11063"/>
                </a:cubicBezTo>
                <a:cubicBezTo>
                  <a:pt x="21547" y="11071"/>
                  <a:pt x="21515" y="11081"/>
                  <a:pt x="21481" y="11088"/>
                </a:cubicBezTo>
              </a:path>
              <a:path w="249" h="150">
                <a:moveTo>
                  <a:pt x="21704" y="11112"/>
                </a:moveTo>
                <a:cubicBezTo>
                  <a:pt x="21712" y="11112"/>
                  <a:pt x="21721" y="11112"/>
                  <a:pt x="21729" y="11112"/>
                </a:cubicBezTo>
                <a:cubicBezTo>
                  <a:pt x="21692" y="11140"/>
                  <a:pt x="21665" y="11151"/>
                  <a:pt x="21630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86840" y="3813120"/>
            <a:ext cx="438120" cy="384120"/>
          </a:xfrm>
          <a:custGeom>
            <a:avLst/>
            <a:gdLst/>
            <a:ahLst/>
            <a:rect l="l" t="t" r="r" b="b"/>
            <a:pathLst>
              <a:path w="1216" h="1067">
                <a:moveTo>
                  <a:pt x="23068" y="10765"/>
                </a:moveTo>
                <a:cubicBezTo>
                  <a:pt x="23090" y="10743"/>
                  <a:pt x="23099" y="10738"/>
                  <a:pt x="23093" y="10716"/>
                </a:cubicBezTo>
                <a:cubicBezTo>
                  <a:pt x="23074" y="10722"/>
                  <a:pt x="23033" y="10759"/>
                  <a:pt x="23019" y="10790"/>
                </a:cubicBezTo>
                <a:cubicBezTo>
                  <a:pt x="23005" y="10822"/>
                  <a:pt x="23036" y="10880"/>
                  <a:pt x="23068" y="10889"/>
                </a:cubicBezTo>
                <a:cubicBezTo>
                  <a:pt x="23121" y="10904"/>
                  <a:pt x="23192" y="10891"/>
                  <a:pt x="23242" y="10914"/>
                </a:cubicBezTo>
                <a:cubicBezTo>
                  <a:pt x="23294" y="10938"/>
                  <a:pt x="23264" y="10978"/>
                  <a:pt x="23242" y="10988"/>
                </a:cubicBezTo>
                <a:cubicBezTo>
                  <a:pt x="23180" y="11016"/>
                  <a:pt x="23135" y="11013"/>
                  <a:pt x="23068" y="11013"/>
                </a:cubicBezTo>
              </a:path>
              <a:path w="1216" h="1067">
                <a:moveTo>
                  <a:pt x="23341" y="10716"/>
                </a:moveTo>
                <a:cubicBezTo>
                  <a:pt x="23361" y="10675"/>
                  <a:pt x="23380" y="10659"/>
                  <a:pt x="23341" y="10666"/>
                </a:cubicBezTo>
                <a:cubicBezTo>
                  <a:pt x="23291" y="10679"/>
                  <a:pt x="23248" y="10723"/>
                  <a:pt x="23192" y="10740"/>
                </a:cubicBezTo>
                <a:cubicBezTo>
                  <a:pt x="23164" y="10740"/>
                  <a:pt x="23154" y="10743"/>
                  <a:pt x="23143" y="10765"/>
                </a:cubicBezTo>
              </a:path>
              <a:path w="1216" h="1067">
                <a:moveTo>
                  <a:pt x="23490" y="10592"/>
                </a:moveTo>
                <a:cubicBezTo>
                  <a:pt x="23557" y="10592"/>
                  <a:pt x="23584" y="10587"/>
                  <a:pt x="23589" y="10666"/>
                </a:cubicBezTo>
                <a:cubicBezTo>
                  <a:pt x="23593" y="10720"/>
                  <a:pt x="23558" y="10861"/>
                  <a:pt x="23614" y="10889"/>
                </a:cubicBezTo>
                <a:cubicBezTo>
                  <a:pt x="23671" y="10917"/>
                  <a:pt x="23761" y="10872"/>
                  <a:pt x="23812" y="10864"/>
                </a:cubicBezTo>
                <a:cubicBezTo>
                  <a:pt x="23873" y="10854"/>
                  <a:pt x="23926" y="10853"/>
                  <a:pt x="23986" y="10840"/>
                </a:cubicBezTo>
                <a:cubicBezTo>
                  <a:pt x="24032" y="10830"/>
                  <a:pt x="24009" y="10857"/>
                  <a:pt x="23986" y="10864"/>
                </a:cubicBezTo>
              </a:path>
              <a:path w="1216" h="1067">
                <a:moveTo>
                  <a:pt x="23788" y="10765"/>
                </a:moveTo>
                <a:cubicBezTo>
                  <a:pt x="23763" y="10765"/>
                  <a:pt x="23755" y="10765"/>
                  <a:pt x="23738" y="10765"/>
                </a:cubicBezTo>
                <a:cubicBezTo>
                  <a:pt x="23738" y="10832"/>
                  <a:pt x="23753" y="10878"/>
                  <a:pt x="23763" y="10939"/>
                </a:cubicBezTo>
                <a:cubicBezTo>
                  <a:pt x="23763" y="10983"/>
                  <a:pt x="23760" y="10997"/>
                  <a:pt x="23788" y="11013"/>
                </a:cubicBezTo>
              </a:path>
              <a:path w="1216" h="1067">
                <a:moveTo>
                  <a:pt x="24234" y="11088"/>
                </a:moveTo>
                <a:cubicBezTo>
                  <a:pt x="24115" y="11088"/>
                  <a:pt x="24004" y="11101"/>
                  <a:pt x="23887" y="11112"/>
                </a:cubicBezTo>
                <a:cubicBezTo>
                  <a:pt x="23764" y="11124"/>
                  <a:pt x="23636" y="11113"/>
                  <a:pt x="23515" y="11137"/>
                </a:cubicBezTo>
                <a:cubicBezTo>
                  <a:pt x="23438" y="11152"/>
                  <a:pt x="23365" y="11170"/>
                  <a:pt x="23292" y="11187"/>
                </a:cubicBezTo>
                <a:cubicBezTo>
                  <a:pt x="23248" y="11197"/>
                  <a:pt x="23256" y="11169"/>
                  <a:pt x="23242" y="11212"/>
                </a:cubicBezTo>
              </a:path>
              <a:path w="1216" h="1067">
                <a:moveTo>
                  <a:pt x="23440" y="11509"/>
                </a:moveTo>
                <a:cubicBezTo>
                  <a:pt x="23406" y="11492"/>
                  <a:pt x="23457" y="11468"/>
                  <a:pt x="23490" y="11435"/>
                </a:cubicBezTo>
                <a:cubicBezTo>
                  <a:pt x="23560" y="11365"/>
                  <a:pt x="23585" y="11376"/>
                  <a:pt x="23639" y="11435"/>
                </a:cubicBezTo>
                <a:cubicBezTo>
                  <a:pt x="23691" y="11492"/>
                  <a:pt x="23697" y="11521"/>
                  <a:pt x="23664" y="11584"/>
                </a:cubicBezTo>
                <a:cubicBezTo>
                  <a:pt x="23621" y="11665"/>
                  <a:pt x="23604" y="11658"/>
                  <a:pt x="23515" y="11658"/>
                </a:cubicBezTo>
              </a:path>
              <a:path w="1216" h="1067">
                <a:moveTo>
                  <a:pt x="23763" y="11336"/>
                </a:moveTo>
                <a:cubicBezTo>
                  <a:pt x="23763" y="11284"/>
                  <a:pt x="23722" y="11385"/>
                  <a:pt x="23713" y="11410"/>
                </a:cubicBezTo>
                <a:cubicBezTo>
                  <a:pt x="23687" y="11486"/>
                  <a:pt x="23707" y="11548"/>
                  <a:pt x="23763" y="11584"/>
                </a:cubicBezTo>
                <a:cubicBezTo>
                  <a:pt x="23842" y="11634"/>
                  <a:pt x="23928" y="11605"/>
                  <a:pt x="24011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59760" y="4464000"/>
            <a:ext cx="447480" cy="117360"/>
          </a:xfrm>
          <a:custGeom>
            <a:avLst/>
            <a:gdLst/>
            <a:ahLst/>
            <a:rect l="l" t="t" r="r" b="b"/>
            <a:pathLst>
              <a:path w="1241" h="324">
                <a:moveTo>
                  <a:pt x="20166" y="12502"/>
                </a:moveTo>
                <a:cubicBezTo>
                  <a:pt x="20210" y="12476"/>
                  <a:pt x="20283" y="12461"/>
                  <a:pt x="20340" y="12477"/>
                </a:cubicBezTo>
                <a:cubicBezTo>
                  <a:pt x="20426" y="12501"/>
                  <a:pt x="20414" y="12552"/>
                  <a:pt x="20414" y="12626"/>
                </a:cubicBezTo>
                <a:cubicBezTo>
                  <a:pt x="20414" y="12709"/>
                  <a:pt x="20366" y="12721"/>
                  <a:pt x="20290" y="12725"/>
                </a:cubicBezTo>
                <a:cubicBezTo>
                  <a:pt x="20249" y="12725"/>
                  <a:pt x="20241" y="12725"/>
                  <a:pt x="20216" y="12725"/>
                </a:cubicBezTo>
              </a:path>
              <a:path w="1241" h="324">
                <a:moveTo>
                  <a:pt x="20464" y="12452"/>
                </a:moveTo>
                <a:cubicBezTo>
                  <a:pt x="20520" y="12414"/>
                  <a:pt x="20523" y="12397"/>
                  <a:pt x="20563" y="12402"/>
                </a:cubicBezTo>
                <a:cubicBezTo>
                  <a:pt x="20563" y="12457"/>
                  <a:pt x="20541" y="12496"/>
                  <a:pt x="20538" y="12551"/>
                </a:cubicBezTo>
                <a:cubicBezTo>
                  <a:pt x="20533" y="12633"/>
                  <a:pt x="20562" y="12670"/>
                  <a:pt x="20638" y="12675"/>
                </a:cubicBezTo>
                <a:cubicBezTo>
                  <a:pt x="20654" y="12675"/>
                  <a:pt x="20671" y="12675"/>
                  <a:pt x="20687" y="12675"/>
                </a:cubicBezTo>
              </a:path>
              <a:path w="1241" h="324">
                <a:moveTo>
                  <a:pt x="21282" y="12402"/>
                </a:moveTo>
                <a:cubicBezTo>
                  <a:pt x="21324" y="12402"/>
                  <a:pt x="21332" y="12402"/>
                  <a:pt x="21357" y="12402"/>
                </a:cubicBezTo>
                <a:cubicBezTo>
                  <a:pt x="21307" y="12442"/>
                  <a:pt x="21259" y="12443"/>
                  <a:pt x="21208" y="12477"/>
                </a:cubicBezTo>
                <a:cubicBezTo>
                  <a:pt x="21200" y="12485"/>
                  <a:pt x="21191" y="12494"/>
                  <a:pt x="21183" y="12502"/>
                </a:cubicBezTo>
              </a:path>
              <a:path w="1241" h="324">
                <a:moveTo>
                  <a:pt x="21332" y="12526"/>
                </a:moveTo>
                <a:cubicBezTo>
                  <a:pt x="21392" y="12535"/>
                  <a:pt x="21393" y="12520"/>
                  <a:pt x="21406" y="12576"/>
                </a:cubicBezTo>
                <a:cubicBezTo>
                  <a:pt x="21359" y="12576"/>
                  <a:pt x="21326" y="12592"/>
                  <a:pt x="21282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28000" y="4259160"/>
            <a:ext cx="455760" cy="295200"/>
          </a:xfrm>
          <a:custGeom>
            <a:avLst/>
            <a:gdLst/>
            <a:ahLst/>
            <a:rect l="l" t="t" r="r" b="b"/>
            <a:pathLst>
              <a:path w="1266" h="819">
                <a:moveTo>
                  <a:pt x="22324" y="11956"/>
                </a:moveTo>
                <a:cubicBezTo>
                  <a:pt x="22332" y="11948"/>
                  <a:pt x="22341" y="11939"/>
                  <a:pt x="22349" y="11931"/>
                </a:cubicBezTo>
                <a:cubicBezTo>
                  <a:pt x="22349" y="11967"/>
                  <a:pt x="22342" y="12003"/>
                  <a:pt x="22324" y="12030"/>
                </a:cubicBezTo>
                <a:cubicBezTo>
                  <a:pt x="22285" y="12089"/>
                  <a:pt x="22302" y="12075"/>
                  <a:pt x="22349" y="12105"/>
                </a:cubicBezTo>
                <a:cubicBezTo>
                  <a:pt x="22399" y="12137"/>
                  <a:pt x="22450" y="12105"/>
                  <a:pt x="22498" y="12129"/>
                </a:cubicBezTo>
                <a:cubicBezTo>
                  <a:pt x="22526" y="12157"/>
                  <a:pt x="22539" y="12166"/>
                  <a:pt x="22572" y="12154"/>
                </a:cubicBezTo>
                <a:cubicBezTo>
                  <a:pt x="22572" y="12195"/>
                  <a:pt x="22578" y="12263"/>
                  <a:pt x="22523" y="12278"/>
                </a:cubicBezTo>
                <a:cubicBezTo>
                  <a:pt x="22468" y="12293"/>
                  <a:pt x="22408" y="12303"/>
                  <a:pt x="22349" y="12303"/>
                </a:cubicBezTo>
              </a:path>
              <a:path w="1266" h="819">
                <a:moveTo>
                  <a:pt x="22572" y="11981"/>
                </a:moveTo>
                <a:cubicBezTo>
                  <a:pt x="22580" y="11964"/>
                  <a:pt x="22589" y="11948"/>
                  <a:pt x="22597" y="11931"/>
                </a:cubicBezTo>
                <a:cubicBezTo>
                  <a:pt x="22550" y="11931"/>
                  <a:pt x="22487" y="11937"/>
                  <a:pt x="22448" y="11956"/>
                </a:cubicBezTo>
                <a:cubicBezTo>
                  <a:pt x="22440" y="11964"/>
                  <a:pt x="22431" y="11973"/>
                  <a:pt x="22423" y="11981"/>
                </a:cubicBezTo>
              </a:path>
              <a:path w="1266" h="819">
                <a:moveTo>
                  <a:pt x="22820" y="11857"/>
                </a:moveTo>
                <a:cubicBezTo>
                  <a:pt x="22837" y="11849"/>
                  <a:pt x="22853" y="11840"/>
                  <a:pt x="22870" y="11832"/>
                </a:cubicBezTo>
                <a:cubicBezTo>
                  <a:pt x="22870" y="11886"/>
                  <a:pt x="22892" y="11901"/>
                  <a:pt x="22895" y="11956"/>
                </a:cubicBezTo>
                <a:cubicBezTo>
                  <a:pt x="22899" y="12038"/>
                  <a:pt x="22898" y="12074"/>
                  <a:pt x="22920" y="12154"/>
                </a:cubicBezTo>
              </a:path>
              <a:path w="1266" h="819">
                <a:moveTo>
                  <a:pt x="23564" y="12303"/>
                </a:moveTo>
                <a:cubicBezTo>
                  <a:pt x="23539" y="12314"/>
                  <a:pt x="23490" y="12347"/>
                  <a:pt x="23465" y="12353"/>
                </a:cubicBezTo>
                <a:cubicBezTo>
                  <a:pt x="23382" y="12371"/>
                  <a:pt x="23301" y="12399"/>
                  <a:pt x="23217" y="12427"/>
                </a:cubicBezTo>
                <a:cubicBezTo>
                  <a:pt x="23101" y="12466"/>
                  <a:pt x="22966" y="12512"/>
                  <a:pt x="22845" y="12526"/>
                </a:cubicBezTo>
                <a:cubicBezTo>
                  <a:pt x="22727" y="12540"/>
                  <a:pt x="22637" y="12563"/>
                  <a:pt x="22523" y="12601"/>
                </a:cubicBezTo>
                <a:cubicBezTo>
                  <a:pt x="22450" y="12625"/>
                  <a:pt x="22374" y="12638"/>
                  <a:pt x="22299" y="12650"/>
                </a:cubicBezTo>
              </a:path>
              <a:path w="1266" h="819">
                <a:moveTo>
                  <a:pt x="22944" y="12105"/>
                </a:moveTo>
                <a:cubicBezTo>
                  <a:pt x="22936" y="12105"/>
                  <a:pt x="22928" y="12105"/>
                  <a:pt x="22920" y="12105"/>
                </a:cubicBezTo>
                <a:cubicBezTo>
                  <a:pt x="22953" y="12094"/>
                  <a:pt x="22951" y="12069"/>
                  <a:pt x="22994" y="12055"/>
                </a:cubicBezTo>
                <a:cubicBezTo>
                  <a:pt x="23033" y="12042"/>
                  <a:pt x="23077" y="12021"/>
                  <a:pt x="23118" y="12005"/>
                </a:cubicBezTo>
                <a:cubicBezTo>
                  <a:pt x="23167" y="11986"/>
                  <a:pt x="23215" y="11961"/>
                  <a:pt x="23267" y="11956"/>
                </a:cubicBezTo>
                <a:cubicBezTo>
                  <a:pt x="23299" y="11953"/>
                  <a:pt x="23310" y="11939"/>
                  <a:pt x="23341" y="11931"/>
                </a:cubicBezTo>
              </a:path>
              <a:path w="1266" h="819">
                <a:moveTo>
                  <a:pt x="23143" y="11931"/>
                </a:moveTo>
                <a:cubicBezTo>
                  <a:pt x="23143" y="11923"/>
                  <a:pt x="23143" y="11914"/>
                  <a:pt x="23143" y="11906"/>
                </a:cubicBezTo>
                <a:cubicBezTo>
                  <a:pt x="23153" y="11945"/>
                  <a:pt x="23168" y="11961"/>
                  <a:pt x="23168" y="12005"/>
                </a:cubicBezTo>
                <a:cubicBezTo>
                  <a:pt x="23168" y="12015"/>
                  <a:pt x="23186" y="12124"/>
                  <a:pt x="23192" y="12129"/>
                </a:cubicBezTo>
                <a:cubicBezTo>
                  <a:pt x="23200" y="12129"/>
                  <a:pt x="23209" y="12129"/>
                  <a:pt x="23217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4510080"/>
            <a:ext cx="571680" cy="268200"/>
          </a:xfrm>
          <a:custGeom>
            <a:avLst/>
            <a:gdLst/>
            <a:ahLst/>
            <a:rect l="l" t="t" r="r" b="b"/>
            <a:pathLst>
              <a:path w="1588" h="746">
                <a:moveTo>
                  <a:pt x="21977" y="12998"/>
                </a:moveTo>
                <a:cubicBezTo>
                  <a:pt x="21977" y="12913"/>
                  <a:pt x="21995" y="12924"/>
                  <a:pt x="21952" y="12973"/>
                </a:cubicBezTo>
                <a:cubicBezTo>
                  <a:pt x="21932" y="12996"/>
                  <a:pt x="21899" y="13116"/>
                  <a:pt x="21903" y="13146"/>
                </a:cubicBezTo>
                <a:cubicBezTo>
                  <a:pt x="21909" y="13189"/>
                  <a:pt x="21983" y="13260"/>
                  <a:pt x="22027" y="13271"/>
                </a:cubicBezTo>
                <a:cubicBezTo>
                  <a:pt x="22071" y="13271"/>
                  <a:pt x="22085" y="13274"/>
                  <a:pt x="22101" y="13246"/>
                </a:cubicBezTo>
              </a:path>
              <a:path w="1588" h="746">
                <a:moveTo>
                  <a:pt x="22151" y="13047"/>
                </a:moveTo>
                <a:cubicBezTo>
                  <a:pt x="22087" y="13023"/>
                  <a:pt x="22046" y="13022"/>
                  <a:pt x="21977" y="13022"/>
                </a:cubicBezTo>
                <a:cubicBezTo>
                  <a:pt x="21969" y="13022"/>
                  <a:pt x="21960" y="13022"/>
                  <a:pt x="21952" y="13022"/>
                </a:cubicBezTo>
              </a:path>
              <a:path w="1588" h="746">
                <a:moveTo>
                  <a:pt x="22324" y="12973"/>
                </a:moveTo>
                <a:cubicBezTo>
                  <a:pt x="22358" y="12922"/>
                  <a:pt x="22341" y="12990"/>
                  <a:pt x="22374" y="12923"/>
                </a:cubicBezTo>
                <a:cubicBezTo>
                  <a:pt x="22374" y="12915"/>
                  <a:pt x="22374" y="12906"/>
                  <a:pt x="22374" y="12898"/>
                </a:cubicBezTo>
                <a:cubicBezTo>
                  <a:pt x="22346" y="12935"/>
                  <a:pt x="22324" y="12980"/>
                  <a:pt x="22299" y="13022"/>
                </a:cubicBezTo>
                <a:cubicBezTo>
                  <a:pt x="22270" y="13072"/>
                  <a:pt x="22275" y="13091"/>
                  <a:pt x="22275" y="13146"/>
                </a:cubicBezTo>
                <a:cubicBezTo>
                  <a:pt x="22320" y="13146"/>
                  <a:pt x="22339" y="13152"/>
                  <a:pt x="22374" y="13122"/>
                </a:cubicBezTo>
                <a:cubicBezTo>
                  <a:pt x="22415" y="13086"/>
                  <a:pt x="22418" y="13072"/>
                  <a:pt x="22473" y="13072"/>
                </a:cubicBezTo>
                <a:cubicBezTo>
                  <a:pt x="22498" y="13072"/>
                  <a:pt x="22506" y="13072"/>
                  <a:pt x="22523" y="13072"/>
                </a:cubicBezTo>
              </a:path>
              <a:path w="1588" h="746">
                <a:moveTo>
                  <a:pt x="22597" y="12973"/>
                </a:moveTo>
                <a:cubicBezTo>
                  <a:pt x="22619" y="13010"/>
                  <a:pt x="22625" y="13035"/>
                  <a:pt x="22647" y="13072"/>
                </a:cubicBezTo>
                <a:cubicBezTo>
                  <a:pt x="22647" y="13023"/>
                  <a:pt x="22652" y="12958"/>
                  <a:pt x="22696" y="12923"/>
                </a:cubicBezTo>
                <a:cubicBezTo>
                  <a:pt x="22726" y="12899"/>
                  <a:pt x="22819" y="12931"/>
                  <a:pt x="22845" y="12948"/>
                </a:cubicBezTo>
                <a:cubicBezTo>
                  <a:pt x="22870" y="12973"/>
                  <a:pt x="22878" y="12981"/>
                  <a:pt x="22895" y="12998"/>
                </a:cubicBezTo>
              </a:path>
              <a:path w="1588" h="746">
                <a:moveTo>
                  <a:pt x="23019" y="12650"/>
                </a:moveTo>
                <a:cubicBezTo>
                  <a:pt x="23011" y="12650"/>
                  <a:pt x="23002" y="12650"/>
                  <a:pt x="22994" y="12650"/>
                </a:cubicBezTo>
                <a:cubicBezTo>
                  <a:pt x="23006" y="12603"/>
                  <a:pt x="23041" y="12589"/>
                  <a:pt x="23093" y="12576"/>
                </a:cubicBezTo>
                <a:cubicBezTo>
                  <a:pt x="23145" y="12563"/>
                  <a:pt x="23176" y="12579"/>
                  <a:pt x="23192" y="12626"/>
                </a:cubicBezTo>
                <a:cubicBezTo>
                  <a:pt x="23205" y="12665"/>
                  <a:pt x="23180" y="12740"/>
                  <a:pt x="23168" y="12774"/>
                </a:cubicBezTo>
                <a:cubicBezTo>
                  <a:pt x="23149" y="12828"/>
                  <a:pt x="23143" y="12843"/>
                  <a:pt x="23143" y="12898"/>
                </a:cubicBezTo>
                <a:cubicBezTo>
                  <a:pt x="23143" y="12906"/>
                  <a:pt x="23143" y="12915"/>
                  <a:pt x="23143" y="12923"/>
                </a:cubicBezTo>
                <a:cubicBezTo>
                  <a:pt x="23186" y="12912"/>
                  <a:pt x="23208" y="12883"/>
                  <a:pt x="23242" y="12849"/>
                </a:cubicBezTo>
                <a:cubicBezTo>
                  <a:pt x="23267" y="12824"/>
                  <a:pt x="23275" y="12816"/>
                  <a:pt x="23292" y="12799"/>
                </a:cubicBezTo>
              </a:path>
              <a:path w="1588" h="746">
                <a:moveTo>
                  <a:pt x="23416" y="12576"/>
                </a:moveTo>
                <a:cubicBezTo>
                  <a:pt x="23416" y="12559"/>
                  <a:pt x="23416" y="12543"/>
                  <a:pt x="23416" y="12526"/>
                </a:cubicBezTo>
                <a:cubicBezTo>
                  <a:pt x="23443" y="12602"/>
                  <a:pt x="23461" y="12668"/>
                  <a:pt x="23465" y="12750"/>
                </a:cubicBezTo>
                <a:cubicBezTo>
                  <a:pt x="23465" y="12801"/>
                  <a:pt x="23466" y="12820"/>
                  <a:pt x="23490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62880" y="5000760"/>
            <a:ext cx="81000" cy="54000"/>
          </a:xfrm>
          <a:custGeom>
            <a:avLst/>
            <a:gdLst/>
            <a:ahLst/>
            <a:rect l="l" t="t" r="r" b="b"/>
            <a:pathLst>
              <a:path w="224" h="149">
                <a:moveTo>
                  <a:pt x="21158" y="13940"/>
                </a:moveTo>
                <a:cubicBezTo>
                  <a:pt x="21185" y="13904"/>
                  <a:pt x="21174" y="13902"/>
                  <a:pt x="21208" y="13891"/>
                </a:cubicBezTo>
                <a:cubicBezTo>
                  <a:pt x="21153" y="13891"/>
                  <a:pt x="21025" y="13870"/>
                  <a:pt x="21010" y="13915"/>
                </a:cubicBezTo>
              </a:path>
              <a:path w="224" h="149">
                <a:moveTo>
                  <a:pt x="21158" y="13965"/>
                </a:moveTo>
                <a:cubicBezTo>
                  <a:pt x="21200" y="13965"/>
                  <a:pt x="21208" y="13965"/>
                  <a:pt x="21233" y="13965"/>
                </a:cubicBezTo>
                <a:cubicBezTo>
                  <a:pt x="21220" y="14004"/>
                  <a:pt x="21193" y="13992"/>
                  <a:pt x="21158" y="14015"/>
                </a:cubicBezTo>
                <a:cubicBezTo>
                  <a:pt x="21136" y="14037"/>
                  <a:pt x="21131" y="14045"/>
                  <a:pt x="21109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23160" y="4911840"/>
            <a:ext cx="409680" cy="187200"/>
          </a:xfrm>
          <a:custGeom>
            <a:avLst/>
            <a:gdLst/>
            <a:ahLst/>
            <a:rect l="l" t="t" r="r" b="b"/>
            <a:pathLst>
              <a:path w="1142" h="521">
                <a:moveTo>
                  <a:pt x="21729" y="13767"/>
                </a:moveTo>
                <a:cubicBezTo>
                  <a:pt x="21763" y="13721"/>
                  <a:pt x="21754" y="13705"/>
                  <a:pt x="21754" y="13767"/>
                </a:cubicBezTo>
                <a:cubicBezTo>
                  <a:pt x="21754" y="13880"/>
                  <a:pt x="21762" y="13983"/>
                  <a:pt x="21779" y="14089"/>
                </a:cubicBezTo>
                <a:cubicBezTo>
                  <a:pt x="21779" y="14106"/>
                  <a:pt x="21779" y="14122"/>
                  <a:pt x="21779" y="14139"/>
                </a:cubicBezTo>
              </a:path>
              <a:path w="1142" h="521">
                <a:moveTo>
                  <a:pt x="22002" y="13643"/>
                </a:moveTo>
                <a:cubicBezTo>
                  <a:pt x="22069" y="13659"/>
                  <a:pt x="22051" y="13703"/>
                  <a:pt x="22051" y="13767"/>
                </a:cubicBezTo>
                <a:cubicBezTo>
                  <a:pt x="22051" y="13846"/>
                  <a:pt x="22023" y="13980"/>
                  <a:pt x="22076" y="14039"/>
                </a:cubicBezTo>
                <a:cubicBezTo>
                  <a:pt x="22124" y="14092"/>
                  <a:pt x="22144" y="14049"/>
                  <a:pt x="22200" y="14039"/>
                </a:cubicBezTo>
                <a:cubicBezTo>
                  <a:pt x="22264" y="14028"/>
                  <a:pt x="22336" y="14025"/>
                  <a:pt x="22399" y="14015"/>
                </a:cubicBezTo>
                <a:cubicBezTo>
                  <a:pt x="22454" y="14006"/>
                  <a:pt x="22525" y="14010"/>
                  <a:pt x="22572" y="14039"/>
                </a:cubicBezTo>
                <a:cubicBezTo>
                  <a:pt x="22608" y="14061"/>
                  <a:pt x="22647" y="14072"/>
                  <a:pt x="22597" y="14089"/>
                </a:cubicBezTo>
              </a:path>
              <a:path w="1142" h="521">
                <a:moveTo>
                  <a:pt x="22324" y="13965"/>
                </a:moveTo>
                <a:cubicBezTo>
                  <a:pt x="22304" y="13925"/>
                  <a:pt x="22295" y="13918"/>
                  <a:pt x="22299" y="13891"/>
                </a:cubicBezTo>
                <a:cubicBezTo>
                  <a:pt x="22272" y="13900"/>
                  <a:pt x="22253" y="13925"/>
                  <a:pt x="22250" y="13965"/>
                </a:cubicBezTo>
                <a:cubicBezTo>
                  <a:pt x="22245" y="14039"/>
                  <a:pt x="22261" y="14095"/>
                  <a:pt x="22275" y="14163"/>
                </a:cubicBezTo>
              </a:path>
              <a:path w="1142" h="521">
                <a:moveTo>
                  <a:pt x="22820" y="13692"/>
                </a:moveTo>
                <a:cubicBezTo>
                  <a:pt x="22828" y="13676"/>
                  <a:pt x="22837" y="13659"/>
                  <a:pt x="22845" y="13643"/>
                </a:cubicBezTo>
                <a:cubicBezTo>
                  <a:pt x="22880" y="13688"/>
                  <a:pt x="22880" y="13755"/>
                  <a:pt x="22870" y="13816"/>
                </a:cubicBezTo>
                <a:cubicBezTo>
                  <a:pt x="22852" y="13928"/>
                  <a:pt x="22843" y="13956"/>
                  <a:pt x="22870" y="14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510760" y="4983120"/>
            <a:ext cx="320400" cy="88920"/>
          </a:xfrm>
          <a:custGeom>
            <a:avLst/>
            <a:gdLst/>
            <a:ahLst/>
            <a:rect l="l" t="t" r="r" b="b"/>
            <a:pathLst>
              <a:path w="894" h="249">
                <a:moveTo>
                  <a:pt x="23738" y="13940"/>
                </a:moveTo>
                <a:cubicBezTo>
                  <a:pt x="23761" y="13917"/>
                  <a:pt x="23765" y="13909"/>
                  <a:pt x="23788" y="13915"/>
                </a:cubicBezTo>
                <a:cubicBezTo>
                  <a:pt x="23779" y="13889"/>
                  <a:pt x="23769" y="13870"/>
                  <a:pt x="23738" y="13866"/>
                </a:cubicBezTo>
                <a:cubicBezTo>
                  <a:pt x="23711" y="13863"/>
                  <a:pt x="23647" y="13912"/>
                  <a:pt x="23639" y="13940"/>
                </a:cubicBezTo>
                <a:cubicBezTo>
                  <a:pt x="23630" y="13970"/>
                  <a:pt x="23644" y="14047"/>
                  <a:pt x="23664" y="14064"/>
                </a:cubicBezTo>
                <a:cubicBezTo>
                  <a:pt x="23707" y="14100"/>
                  <a:pt x="23761" y="14089"/>
                  <a:pt x="23812" y="14089"/>
                </a:cubicBezTo>
                <a:cubicBezTo>
                  <a:pt x="23837" y="14089"/>
                  <a:pt x="23845" y="14089"/>
                  <a:pt x="23862" y="14089"/>
                </a:cubicBezTo>
              </a:path>
              <a:path w="894" h="249">
                <a:moveTo>
                  <a:pt x="24011" y="13990"/>
                </a:moveTo>
                <a:cubicBezTo>
                  <a:pt x="24011" y="13965"/>
                  <a:pt x="24011" y="13957"/>
                  <a:pt x="24036" y="13965"/>
                </a:cubicBezTo>
                <a:cubicBezTo>
                  <a:pt x="24059" y="13973"/>
                  <a:pt x="24075" y="14007"/>
                  <a:pt x="24085" y="14039"/>
                </a:cubicBezTo>
                <a:cubicBezTo>
                  <a:pt x="24085" y="14064"/>
                  <a:pt x="24085" y="14072"/>
                  <a:pt x="24110" y="14064"/>
                </a:cubicBezTo>
                <a:cubicBezTo>
                  <a:pt x="24121" y="14011"/>
                  <a:pt x="24147" y="13967"/>
                  <a:pt x="24160" y="13915"/>
                </a:cubicBezTo>
                <a:cubicBezTo>
                  <a:pt x="24168" y="13885"/>
                  <a:pt x="24212" y="13872"/>
                  <a:pt x="24234" y="13915"/>
                </a:cubicBezTo>
                <a:cubicBezTo>
                  <a:pt x="24250" y="13947"/>
                  <a:pt x="24275" y="13980"/>
                  <a:pt x="24284" y="14015"/>
                </a:cubicBezTo>
                <a:cubicBezTo>
                  <a:pt x="24294" y="13976"/>
                  <a:pt x="24316" y="13903"/>
                  <a:pt x="24333" y="13866"/>
                </a:cubicBezTo>
                <a:cubicBezTo>
                  <a:pt x="24361" y="13806"/>
                  <a:pt x="24455" y="13860"/>
                  <a:pt x="24482" y="13891"/>
                </a:cubicBezTo>
                <a:cubicBezTo>
                  <a:pt x="24507" y="13940"/>
                  <a:pt x="24516" y="13957"/>
                  <a:pt x="24532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48760" y="2633760"/>
            <a:ext cx="384120" cy="233280"/>
          </a:xfrm>
          <a:custGeom>
            <a:avLst/>
            <a:gdLst/>
            <a:ahLst/>
            <a:rect l="l" t="t" r="r" b="b"/>
            <a:pathLst>
              <a:path w="1068" h="646">
                <a:moveTo>
                  <a:pt x="23217" y="7590"/>
                </a:moveTo>
                <a:cubicBezTo>
                  <a:pt x="23189" y="7581"/>
                  <a:pt x="23170" y="7539"/>
                  <a:pt x="23217" y="7516"/>
                </a:cubicBezTo>
                <a:cubicBezTo>
                  <a:pt x="23251" y="7499"/>
                  <a:pt x="23348" y="7513"/>
                  <a:pt x="23366" y="7541"/>
                </a:cubicBezTo>
                <a:cubicBezTo>
                  <a:pt x="23383" y="7567"/>
                  <a:pt x="23408" y="7655"/>
                  <a:pt x="23391" y="7689"/>
                </a:cubicBezTo>
                <a:cubicBezTo>
                  <a:pt x="23370" y="7730"/>
                  <a:pt x="23303" y="7714"/>
                  <a:pt x="23267" y="7714"/>
                </a:cubicBezTo>
                <a:cubicBezTo>
                  <a:pt x="23225" y="7714"/>
                  <a:pt x="23196" y="7679"/>
                  <a:pt x="23192" y="7640"/>
                </a:cubicBezTo>
                <a:cubicBezTo>
                  <a:pt x="23192" y="7632"/>
                  <a:pt x="23192" y="7623"/>
                  <a:pt x="23192" y="7615"/>
                </a:cubicBezTo>
              </a:path>
              <a:path w="1068" h="646">
                <a:moveTo>
                  <a:pt x="23564" y="7541"/>
                </a:moveTo>
                <a:cubicBezTo>
                  <a:pt x="23564" y="7533"/>
                  <a:pt x="23564" y="7524"/>
                  <a:pt x="23564" y="7516"/>
                </a:cubicBezTo>
                <a:cubicBezTo>
                  <a:pt x="23620" y="7530"/>
                  <a:pt x="23629" y="7576"/>
                  <a:pt x="23639" y="7640"/>
                </a:cubicBezTo>
                <a:cubicBezTo>
                  <a:pt x="23653" y="7731"/>
                  <a:pt x="23676" y="7822"/>
                  <a:pt x="23688" y="7913"/>
                </a:cubicBezTo>
                <a:cubicBezTo>
                  <a:pt x="23688" y="7929"/>
                  <a:pt x="23688" y="7946"/>
                  <a:pt x="23688" y="7962"/>
                </a:cubicBezTo>
              </a:path>
              <a:path w="1068" h="646">
                <a:moveTo>
                  <a:pt x="23688" y="7615"/>
                </a:moveTo>
                <a:cubicBezTo>
                  <a:pt x="23661" y="7577"/>
                  <a:pt x="23664" y="7563"/>
                  <a:pt x="23664" y="7516"/>
                </a:cubicBezTo>
                <a:cubicBezTo>
                  <a:pt x="23664" y="7474"/>
                  <a:pt x="23698" y="7444"/>
                  <a:pt x="23738" y="7441"/>
                </a:cubicBezTo>
                <a:cubicBezTo>
                  <a:pt x="23806" y="7436"/>
                  <a:pt x="23816" y="7445"/>
                  <a:pt x="23862" y="7491"/>
                </a:cubicBezTo>
                <a:cubicBezTo>
                  <a:pt x="23898" y="7527"/>
                  <a:pt x="23897" y="7598"/>
                  <a:pt x="23837" y="7615"/>
                </a:cubicBezTo>
                <a:cubicBezTo>
                  <a:pt x="23786" y="7630"/>
                  <a:pt x="23745" y="7640"/>
                  <a:pt x="23688" y="7640"/>
                </a:cubicBezTo>
                <a:cubicBezTo>
                  <a:pt x="23680" y="7640"/>
                  <a:pt x="23672" y="7640"/>
                  <a:pt x="23664" y="7640"/>
                </a:cubicBezTo>
              </a:path>
              <a:path w="1068" h="646">
                <a:moveTo>
                  <a:pt x="23887" y="7516"/>
                </a:moveTo>
                <a:cubicBezTo>
                  <a:pt x="23944" y="7492"/>
                  <a:pt x="23964" y="7474"/>
                  <a:pt x="24011" y="7516"/>
                </a:cubicBezTo>
                <a:cubicBezTo>
                  <a:pt x="24082" y="7579"/>
                  <a:pt x="24046" y="7633"/>
                  <a:pt x="24061" y="7714"/>
                </a:cubicBezTo>
                <a:cubicBezTo>
                  <a:pt x="24075" y="7787"/>
                  <a:pt x="24085" y="7838"/>
                  <a:pt x="24085" y="7913"/>
                </a:cubicBezTo>
              </a:path>
              <a:path w="1068" h="646">
                <a:moveTo>
                  <a:pt x="24036" y="7466"/>
                </a:moveTo>
                <a:cubicBezTo>
                  <a:pt x="24036" y="7368"/>
                  <a:pt x="24025" y="7383"/>
                  <a:pt x="24085" y="7342"/>
                </a:cubicBezTo>
                <a:cubicBezTo>
                  <a:pt x="24122" y="7317"/>
                  <a:pt x="24176" y="7293"/>
                  <a:pt x="24209" y="7342"/>
                </a:cubicBezTo>
                <a:cubicBezTo>
                  <a:pt x="24242" y="7390"/>
                  <a:pt x="24283" y="7454"/>
                  <a:pt x="24259" y="7516"/>
                </a:cubicBezTo>
                <a:cubicBezTo>
                  <a:pt x="24239" y="7568"/>
                  <a:pt x="24178" y="7584"/>
                  <a:pt x="24135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89120" y="5572080"/>
            <a:ext cx="285840" cy="169920"/>
          </a:xfrm>
          <a:custGeom>
            <a:avLst/>
            <a:gdLst/>
            <a:ahLst/>
            <a:rect l="l" t="t" r="r" b="b"/>
            <a:pathLst>
              <a:path w="795" h="472">
                <a:moveTo>
                  <a:pt x="7367" y="15553"/>
                </a:moveTo>
                <a:cubicBezTo>
                  <a:pt x="7399" y="15553"/>
                  <a:pt x="7433" y="15545"/>
                  <a:pt x="7441" y="15528"/>
                </a:cubicBezTo>
                <a:cubicBezTo>
                  <a:pt x="7441" y="15520"/>
                  <a:pt x="7441" y="15511"/>
                  <a:pt x="7441" y="15503"/>
                </a:cubicBezTo>
                <a:cubicBezTo>
                  <a:pt x="7412" y="15493"/>
                  <a:pt x="7395" y="15460"/>
                  <a:pt x="7342" y="15478"/>
                </a:cubicBezTo>
                <a:cubicBezTo>
                  <a:pt x="7282" y="15498"/>
                  <a:pt x="7210" y="15566"/>
                  <a:pt x="7193" y="15627"/>
                </a:cubicBezTo>
                <a:cubicBezTo>
                  <a:pt x="7173" y="15698"/>
                  <a:pt x="7190" y="15811"/>
                  <a:pt x="7218" y="15875"/>
                </a:cubicBezTo>
                <a:cubicBezTo>
                  <a:pt x="7241" y="15927"/>
                  <a:pt x="7245" y="15938"/>
                  <a:pt x="7293" y="15949"/>
                </a:cubicBezTo>
                <a:cubicBezTo>
                  <a:pt x="7326" y="15907"/>
                  <a:pt x="7338" y="15864"/>
                  <a:pt x="7367" y="15825"/>
                </a:cubicBezTo>
                <a:cubicBezTo>
                  <a:pt x="7401" y="15836"/>
                  <a:pt x="7396" y="15864"/>
                  <a:pt x="7417" y="15875"/>
                </a:cubicBezTo>
                <a:cubicBezTo>
                  <a:pt x="7425" y="15875"/>
                  <a:pt x="7433" y="15875"/>
                  <a:pt x="7441" y="15875"/>
                </a:cubicBezTo>
              </a:path>
              <a:path w="795" h="472">
                <a:moveTo>
                  <a:pt x="7615" y="15577"/>
                </a:moveTo>
                <a:cubicBezTo>
                  <a:pt x="7615" y="15553"/>
                  <a:pt x="7615" y="15544"/>
                  <a:pt x="7615" y="15528"/>
                </a:cubicBezTo>
                <a:cubicBezTo>
                  <a:pt x="7645" y="15538"/>
                  <a:pt x="7658" y="15608"/>
                  <a:pt x="7665" y="15652"/>
                </a:cubicBezTo>
                <a:cubicBezTo>
                  <a:pt x="7672" y="15692"/>
                  <a:pt x="7670" y="15779"/>
                  <a:pt x="7714" y="15801"/>
                </a:cubicBezTo>
                <a:cubicBezTo>
                  <a:pt x="7722" y="15801"/>
                  <a:pt x="7731" y="15801"/>
                  <a:pt x="7739" y="15801"/>
                </a:cubicBezTo>
                <a:cubicBezTo>
                  <a:pt x="7739" y="15746"/>
                  <a:pt x="7751" y="15730"/>
                  <a:pt x="7764" y="15677"/>
                </a:cubicBezTo>
                <a:cubicBezTo>
                  <a:pt x="7773" y="15641"/>
                  <a:pt x="7811" y="15638"/>
                  <a:pt x="7838" y="15677"/>
                </a:cubicBezTo>
                <a:cubicBezTo>
                  <a:pt x="7858" y="15705"/>
                  <a:pt x="7883" y="15782"/>
                  <a:pt x="7938" y="15751"/>
                </a:cubicBezTo>
                <a:cubicBezTo>
                  <a:pt x="7981" y="15727"/>
                  <a:pt x="7962" y="15643"/>
                  <a:pt x="7962" y="15602"/>
                </a:cubicBezTo>
                <a:cubicBezTo>
                  <a:pt x="7962" y="15543"/>
                  <a:pt x="7955" y="15546"/>
                  <a:pt x="7987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00240" y="5626080"/>
            <a:ext cx="295560" cy="152280"/>
          </a:xfrm>
          <a:custGeom>
            <a:avLst/>
            <a:gdLst/>
            <a:ahLst/>
            <a:rect l="l" t="t" r="r" b="b"/>
            <a:pathLst>
              <a:path w="820" h="423">
                <a:moveTo>
                  <a:pt x="8334" y="15701"/>
                </a:moveTo>
                <a:cubicBezTo>
                  <a:pt x="8334" y="15709"/>
                  <a:pt x="8334" y="15718"/>
                  <a:pt x="8334" y="15726"/>
                </a:cubicBezTo>
                <a:cubicBezTo>
                  <a:pt x="8399" y="15726"/>
                  <a:pt x="8447" y="15711"/>
                  <a:pt x="8508" y="15701"/>
                </a:cubicBezTo>
                <a:cubicBezTo>
                  <a:pt x="8525" y="15701"/>
                  <a:pt x="8541" y="15701"/>
                  <a:pt x="8558" y="15701"/>
                </a:cubicBezTo>
              </a:path>
              <a:path w="820" h="423">
                <a:moveTo>
                  <a:pt x="8781" y="15974"/>
                </a:moveTo>
                <a:cubicBezTo>
                  <a:pt x="8781" y="16032"/>
                  <a:pt x="8789" y="16076"/>
                  <a:pt x="8806" y="15999"/>
                </a:cubicBezTo>
                <a:cubicBezTo>
                  <a:pt x="8820" y="15934"/>
                  <a:pt x="8809" y="15864"/>
                  <a:pt x="8830" y="15801"/>
                </a:cubicBezTo>
                <a:cubicBezTo>
                  <a:pt x="8845" y="15756"/>
                  <a:pt x="8887" y="15651"/>
                  <a:pt x="8930" y="15627"/>
                </a:cubicBezTo>
                <a:cubicBezTo>
                  <a:pt x="8961" y="15609"/>
                  <a:pt x="9020" y="15648"/>
                  <a:pt x="9029" y="15677"/>
                </a:cubicBezTo>
                <a:cubicBezTo>
                  <a:pt x="9050" y="15749"/>
                  <a:pt x="9059" y="15829"/>
                  <a:pt x="9079" y="15900"/>
                </a:cubicBezTo>
                <a:cubicBezTo>
                  <a:pt x="9091" y="15942"/>
                  <a:pt x="9104" y="15968"/>
                  <a:pt x="9128" y="15999"/>
                </a:cubicBezTo>
              </a:path>
              <a:path w="820" h="423">
                <a:moveTo>
                  <a:pt x="9153" y="15900"/>
                </a:moveTo>
                <a:cubicBezTo>
                  <a:pt x="9113" y="15840"/>
                  <a:pt x="9121" y="15850"/>
                  <a:pt x="9054" y="15850"/>
                </a:cubicBezTo>
                <a:cubicBezTo>
                  <a:pt x="9004" y="15850"/>
                  <a:pt x="8955" y="15850"/>
                  <a:pt x="8905" y="158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94080" y="5634000"/>
            <a:ext cx="123840" cy="162000"/>
          </a:xfrm>
          <a:custGeom>
            <a:avLst/>
            <a:gdLst/>
            <a:ahLst/>
            <a:rect l="l" t="t" r="r" b="b"/>
            <a:pathLst>
              <a:path w="348" h="447">
                <a:moveTo>
                  <a:pt x="9525" y="15726"/>
                </a:moveTo>
                <a:cubicBezTo>
                  <a:pt x="9545" y="15711"/>
                  <a:pt x="9593" y="15680"/>
                  <a:pt x="9599" y="15677"/>
                </a:cubicBezTo>
                <a:cubicBezTo>
                  <a:pt x="9624" y="15677"/>
                  <a:pt x="9632" y="15677"/>
                  <a:pt x="9624" y="15652"/>
                </a:cubicBezTo>
                <a:cubicBezTo>
                  <a:pt x="9580" y="15663"/>
                  <a:pt x="9529" y="15710"/>
                  <a:pt x="9500" y="15751"/>
                </a:cubicBezTo>
                <a:cubicBezTo>
                  <a:pt x="9450" y="15821"/>
                  <a:pt x="9430" y="15918"/>
                  <a:pt x="9426" y="15999"/>
                </a:cubicBezTo>
                <a:cubicBezTo>
                  <a:pt x="9426" y="16051"/>
                  <a:pt x="9427" y="16069"/>
                  <a:pt x="9451" y="16098"/>
                </a:cubicBezTo>
                <a:cubicBezTo>
                  <a:pt x="9494" y="16087"/>
                  <a:pt x="9517" y="16057"/>
                  <a:pt x="9550" y="16024"/>
                </a:cubicBezTo>
                <a:cubicBezTo>
                  <a:pt x="9590" y="15984"/>
                  <a:pt x="9644" y="15999"/>
                  <a:pt x="9699" y="15999"/>
                </a:cubicBezTo>
                <a:cubicBezTo>
                  <a:pt x="9740" y="15999"/>
                  <a:pt x="9748" y="15999"/>
                  <a:pt x="9773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7781" t="67269" r="5943" b="5670"/>
          <a:stretch/>
        </p:blipFill>
        <p:spPr>
          <a:xfrm>
            <a:off x="0" y="0"/>
            <a:ext cx="6705720" cy="2895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33240" y="2384280"/>
            <a:ext cx="322560" cy="142920"/>
          </a:xfrm>
          <a:custGeom>
            <a:avLst/>
            <a:gdLst/>
            <a:ahLst/>
            <a:rect l="l" t="t" r="r" b="b"/>
            <a:pathLst>
              <a:path w="894" h="398">
                <a:moveTo>
                  <a:pt x="1885" y="6648"/>
                </a:moveTo>
                <a:cubicBezTo>
                  <a:pt x="1853" y="6679"/>
                  <a:pt x="1830" y="6717"/>
                  <a:pt x="1786" y="6722"/>
                </a:cubicBezTo>
                <a:cubicBezTo>
                  <a:pt x="1778" y="6722"/>
                  <a:pt x="1769" y="6722"/>
                  <a:pt x="1761" y="6722"/>
                </a:cubicBezTo>
                <a:cubicBezTo>
                  <a:pt x="1769" y="6698"/>
                  <a:pt x="1803" y="6669"/>
                  <a:pt x="1836" y="6648"/>
                </a:cubicBezTo>
                <a:cubicBezTo>
                  <a:pt x="1860" y="6633"/>
                  <a:pt x="1979" y="6598"/>
                  <a:pt x="2009" y="6623"/>
                </a:cubicBezTo>
                <a:cubicBezTo>
                  <a:pt x="2035" y="6644"/>
                  <a:pt x="2047" y="6741"/>
                  <a:pt x="2034" y="6772"/>
                </a:cubicBezTo>
                <a:cubicBezTo>
                  <a:pt x="2017" y="6812"/>
                  <a:pt x="1939" y="6882"/>
                  <a:pt x="1910" y="6921"/>
                </a:cubicBezTo>
                <a:cubicBezTo>
                  <a:pt x="1867" y="6977"/>
                  <a:pt x="1895" y="6965"/>
                  <a:pt x="1910" y="6995"/>
                </a:cubicBezTo>
                <a:cubicBezTo>
                  <a:pt x="1930" y="7034"/>
                  <a:pt x="1981" y="7020"/>
                  <a:pt x="2034" y="7020"/>
                </a:cubicBezTo>
                <a:cubicBezTo>
                  <a:pt x="2079" y="7020"/>
                  <a:pt x="2118" y="6990"/>
                  <a:pt x="2158" y="6970"/>
                </a:cubicBezTo>
              </a:path>
              <a:path w="894" h="398">
                <a:moveTo>
                  <a:pt x="2530" y="6672"/>
                </a:moveTo>
                <a:cubicBezTo>
                  <a:pt x="2572" y="6672"/>
                  <a:pt x="2568" y="6682"/>
                  <a:pt x="2580" y="6648"/>
                </a:cubicBezTo>
                <a:cubicBezTo>
                  <a:pt x="2569" y="6615"/>
                  <a:pt x="2501" y="6606"/>
                  <a:pt x="2456" y="6623"/>
                </a:cubicBezTo>
                <a:cubicBezTo>
                  <a:pt x="2415" y="6639"/>
                  <a:pt x="2341" y="6692"/>
                  <a:pt x="2356" y="6747"/>
                </a:cubicBezTo>
                <a:cubicBezTo>
                  <a:pt x="2372" y="6807"/>
                  <a:pt x="2432" y="6859"/>
                  <a:pt x="2480" y="6796"/>
                </a:cubicBezTo>
                <a:cubicBezTo>
                  <a:pt x="2503" y="6766"/>
                  <a:pt x="2530" y="6664"/>
                  <a:pt x="2555" y="6648"/>
                </a:cubicBezTo>
                <a:cubicBezTo>
                  <a:pt x="2563" y="6648"/>
                  <a:pt x="2572" y="6648"/>
                  <a:pt x="2580" y="6648"/>
                </a:cubicBezTo>
                <a:cubicBezTo>
                  <a:pt x="2608" y="6695"/>
                  <a:pt x="2645" y="6786"/>
                  <a:pt x="2654" y="6846"/>
                </a:cubicBezTo>
                <a:cubicBezTo>
                  <a:pt x="2654" y="6912"/>
                  <a:pt x="2654" y="6929"/>
                  <a:pt x="2654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16280" y="2330280"/>
            <a:ext cx="366840" cy="187560"/>
          </a:xfrm>
          <a:custGeom>
            <a:avLst/>
            <a:gdLst/>
            <a:ahLst/>
            <a:rect l="l" t="t" r="r" b="b"/>
            <a:pathLst>
              <a:path w="1018" h="522">
                <a:moveTo>
                  <a:pt x="12849" y="6548"/>
                </a:moveTo>
                <a:cubicBezTo>
                  <a:pt x="12781" y="6616"/>
                  <a:pt x="12886" y="6507"/>
                  <a:pt x="12898" y="6499"/>
                </a:cubicBezTo>
                <a:cubicBezTo>
                  <a:pt x="12940" y="6472"/>
                  <a:pt x="13013" y="6450"/>
                  <a:pt x="13047" y="6499"/>
                </a:cubicBezTo>
                <a:cubicBezTo>
                  <a:pt x="13105" y="6582"/>
                  <a:pt x="13055" y="6635"/>
                  <a:pt x="12998" y="6697"/>
                </a:cubicBezTo>
                <a:cubicBezTo>
                  <a:pt x="12965" y="6733"/>
                  <a:pt x="12894" y="6775"/>
                  <a:pt x="12874" y="6821"/>
                </a:cubicBezTo>
                <a:cubicBezTo>
                  <a:pt x="12874" y="6829"/>
                  <a:pt x="12874" y="6838"/>
                  <a:pt x="12874" y="6846"/>
                </a:cubicBezTo>
                <a:cubicBezTo>
                  <a:pt x="12955" y="6846"/>
                  <a:pt x="13021" y="6835"/>
                  <a:pt x="13097" y="6821"/>
                </a:cubicBezTo>
                <a:cubicBezTo>
                  <a:pt x="13148" y="6821"/>
                  <a:pt x="13167" y="6820"/>
                  <a:pt x="13196" y="6796"/>
                </a:cubicBezTo>
              </a:path>
              <a:path w="1018" h="522">
                <a:moveTo>
                  <a:pt x="13345" y="6548"/>
                </a:moveTo>
                <a:cubicBezTo>
                  <a:pt x="13365" y="6508"/>
                  <a:pt x="13364" y="6492"/>
                  <a:pt x="13395" y="6499"/>
                </a:cubicBezTo>
                <a:cubicBezTo>
                  <a:pt x="13395" y="6567"/>
                  <a:pt x="13360" y="6784"/>
                  <a:pt x="13419" y="6821"/>
                </a:cubicBezTo>
                <a:cubicBezTo>
                  <a:pt x="13458" y="6846"/>
                  <a:pt x="13521" y="6846"/>
                  <a:pt x="13568" y="6846"/>
                </a:cubicBezTo>
                <a:cubicBezTo>
                  <a:pt x="13653" y="6846"/>
                  <a:pt x="13713" y="6841"/>
                  <a:pt x="13791" y="6821"/>
                </a:cubicBezTo>
                <a:cubicBezTo>
                  <a:pt x="13816" y="6821"/>
                  <a:pt x="13824" y="6821"/>
                  <a:pt x="13841" y="6821"/>
                </a:cubicBezTo>
              </a:path>
              <a:path w="1018" h="522">
                <a:moveTo>
                  <a:pt x="13643" y="6772"/>
                </a:moveTo>
                <a:cubicBezTo>
                  <a:pt x="13623" y="6731"/>
                  <a:pt x="13625" y="6715"/>
                  <a:pt x="13593" y="6722"/>
                </a:cubicBezTo>
                <a:cubicBezTo>
                  <a:pt x="13593" y="6801"/>
                  <a:pt x="13631" y="6844"/>
                  <a:pt x="13643" y="6921"/>
                </a:cubicBezTo>
                <a:cubicBezTo>
                  <a:pt x="13643" y="6946"/>
                  <a:pt x="13643" y="6970"/>
                  <a:pt x="13643" y="69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91080" y="2259000"/>
            <a:ext cx="295200" cy="206280"/>
          </a:xfrm>
          <a:custGeom>
            <a:avLst/>
            <a:gdLst/>
            <a:ahLst/>
            <a:rect l="l" t="t" r="r" b="b"/>
            <a:pathLst>
              <a:path w="819" h="571">
                <a:moveTo>
                  <a:pt x="15329" y="6325"/>
                </a:moveTo>
                <a:cubicBezTo>
                  <a:pt x="15329" y="6297"/>
                  <a:pt x="15331" y="6286"/>
                  <a:pt x="15354" y="6276"/>
                </a:cubicBezTo>
                <a:cubicBezTo>
                  <a:pt x="15343" y="6308"/>
                  <a:pt x="15327" y="6332"/>
                  <a:pt x="15304" y="6375"/>
                </a:cubicBezTo>
                <a:cubicBezTo>
                  <a:pt x="15294" y="6394"/>
                  <a:pt x="15254" y="6501"/>
                  <a:pt x="15280" y="6524"/>
                </a:cubicBezTo>
                <a:cubicBezTo>
                  <a:pt x="15335" y="6573"/>
                  <a:pt x="15373" y="6524"/>
                  <a:pt x="15429" y="6548"/>
                </a:cubicBezTo>
                <a:cubicBezTo>
                  <a:pt x="15472" y="6566"/>
                  <a:pt x="15522" y="6568"/>
                  <a:pt x="15528" y="6623"/>
                </a:cubicBezTo>
                <a:cubicBezTo>
                  <a:pt x="15533" y="6669"/>
                  <a:pt x="15491" y="6722"/>
                  <a:pt x="15453" y="6747"/>
                </a:cubicBezTo>
                <a:cubicBezTo>
                  <a:pt x="15398" y="6783"/>
                  <a:pt x="15342" y="6772"/>
                  <a:pt x="15280" y="6772"/>
                </a:cubicBezTo>
                <a:cubicBezTo>
                  <a:pt x="15272" y="6772"/>
                  <a:pt x="15263" y="6772"/>
                  <a:pt x="15255" y="6772"/>
                </a:cubicBezTo>
              </a:path>
              <a:path w="819" h="571">
                <a:moveTo>
                  <a:pt x="15627" y="6350"/>
                </a:moveTo>
                <a:cubicBezTo>
                  <a:pt x="15619" y="6342"/>
                  <a:pt x="15504" y="6340"/>
                  <a:pt x="15453" y="6350"/>
                </a:cubicBezTo>
                <a:cubicBezTo>
                  <a:pt x="15388" y="6372"/>
                  <a:pt x="15373" y="6380"/>
                  <a:pt x="15329" y="6375"/>
                </a:cubicBezTo>
              </a:path>
              <a:path w="819" h="571">
                <a:moveTo>
                  <a:pt x="15801" y="6524"/>
                </a:moveTo>
                <a:cubicBezTo>
                  <a:pt x="15818" y="6575"/>
                  <a:pt x="15844" y="6530"/>
                  <a:pt x="15875" y="6499"/>
                </a:cubicBezTo>
                <a:cubicBezTo>
                  <a:pt x="15900" y="6474"/>
                  <a:pt x="15992" y="6449"/>
                  <a:pt x="16024" y="6474"/>
                </a:cubicBezTo>
                <a:cubicBezTo>
                  <a:pt x="16084" y="6520"/>
                  <a:pt x="16084" y="6659"/>
                  <a:pt x="16073" y="6722"/>
                </a:cubicBezTo>
                <a:cubicBezTo>
                  <a:pt x="16057" y="6813"/>
                  <a:pt x="15967" y="6864"/>
                  <a:pt x="15875" y="6846"/>
                </a:cubicBezTo>
                <a:cubicBezTo>
                  <a:pt x="15789" y="6829"/>
                  <a:pt x="15776" y="6768"/>
                  <a:pt x="15776" y="6697"/>
                </a:cubicBezTo>
                <a:cubicBezTo>
                  <a:pt x="15776" y="6681"/>
                  <a:pt x="15776" y="6664"/>
                  <a:pt x="15776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9960" y="3071880"/>
            <a:ext cx="1268280" cy="357120"/>
          </a:xfrm>
          <a:custGeom>
            <a:avLst/>
            <a:gdLst/>
            <a:ahLst/>
            <a:rect l="l" t="t" r="r" b="b"/>
            <a:pathLst>
              <a:path w="3523" h="993">
                <a:moveTo>
                  <a:pt x="5383" y="9153"/>
                </a:moveTo>
                <a:cubicBezTo>
                  <a:pt x="5328" y="9135"/>
                  <a:pt x="5370" y="9118"/>
                  <a:pt x="5383" y="9079"/>
                </a:cubicBezTo>
                <a:cubicBezTo>
                  <a:pt x="5399" y="9031"/>
                  <a:pt x="5408" y="8985"/>
                  <a:pt x="5457" y="8954"/>
                </a:cubicBezTo>
                <a:cubicBezTo>
                  <a:pt x="5536" y="8904"/>
                  <a:pt x="5560" y="8894"/>
                  <a:pt x="5655" y="8930"/>
                </a:cubicBezTo>
                <a:cubicBezTo>
                  <a:pt x="5726" y="8956"/>
                  <a:pt x="5768" y="9055"/>
                  <a:pt x="5779" y="9128"/>
                </a:cubicBezTo>
                <a:cubicBezTo>
                  <a:pt x="5795" y="9233"/>
                  <a:pt x="5736" y="9337"/>
                  <a:pt x="5655" y="9401"/>
                </a:cubicBezTo>
                <a:cubicBezTo>
                  <a:pt x="5588" y="9454"/>
                  <a:pt x="5493" y="9424"/>
                  <a:pt x="5432" y="9376"/>
                </a:cubicBezTo>
                <a:cubicBezTo>
                  <a:pt x="5362" y="9322"/>
                  <a:pt x="5337" y="9214"/>
                  <a:pt x="5358" y="9128"/>
                </a:cubicBezTo>
                <a:cubicBezTo>
                  <a:pt x="5380" y="9085"/>
                  <a:pt x="5384" y="9074"/>
                  <a:pt x="5407" y="9054"/>
                </a:cubicBezTo>
              </a:path>
              <a:path w="3523" h="993">
                <a:moveTo>
                  <a:pt x="6400" y="9302"/>
                </a:moveTo>
                <a:cubicBezTo>
                  <a:pt x="6408" y="9294"/>
                  <a:pt x="6416" y="9285"/>
                  <a:pt x="6424" y="9277"/>
                </a:cubicBezTo>
                <a:cubicBezTo>
                  <a:pt x="6362" y="9261"/>
                  <a:pt x="6356" y="9252"/>
                  <a:pt x="6276" y="9252"/>
                </a:cubicBezTo>
                <a:cubicBezTo>
                  <a:pt x="6230" y="9252"/>
                  <a:pt x="6116" y="9244"/>
                  <a:pt x="6077" y="9227"/>
                </a:cubicBezTo>
                <a:cubicBezTo>
                  <a:pt x="6069" y="9219"/>
                  <a:pt x="6060" y="9211"/>
                  <a:pt x="6052" y="9203"/>
                </a:cubicBezTo>
              </a:path>
              <a:path w="3523" h="993">
                <a:moveTo>
                  <a:pt x="6201" y="9128"/>
                </a:moveTo>
                <a:cubicBezTo>
                  <a:pt x="6224" y="9105"/>
                  <a:pt x="6228" y="9097"/>
                  <a:pt x="6251" y="9103"/>
                </a:cubicBezTo>
                <a:cubicBezTo>
                  <a:pt x="6251" y="9202"/>
                  <a:pt x="6251" y="9302"/>
                  <a:pt x="6251" y="9401"/>
                </a:cubicBezTo>
              </a:path>
              <a:path w="3523" h="993">
                <a:moveTo>
                  <a:pt x="6722" y="9079"/>
                </a:moveTo>
                <a:cubicBezTo>
                  <a:pt x="6742" y="9038"/>
                  <a:pt x="6740" y="9022"/>
                  <a:pt x="6772" y="9029"/>
                </a:cubicBezTo>
                <a:cubicBezTo>
                  <a:pt x="6772" y="9153"/>
                  <a:pt x="6772" y="9277"/>
                  <a:pt x="6772" y="9401"/>
                </a:cubicBezTo>
              </a:path>
              <a:path w="3523" h="993">
                <a:moveTo>
                  <a:pt x="6871" y="8830"/>
                </a:moveTo>
                <a:cubicBezTo>
                  <a:pt x="7014" y="8814"/>
                  <a:pt x="7040" y="8807"/>
                  <a:pt x="7144" y="8905"/>
                </a:cubicBezTo>
                <a:cubicBezTo>
                  <a:pt x="7216" y="8973"/>
                  <a:pt x="7209" y="9129"/>
                  <a:pt x="7193" y="9227"/>
                </a:cubicBezTo>
                <a:cubicBezTo>
                  <a:pt x="7170" y="9371"/>
                  <a:pt x="7046" y="9419"/>
                  <a:pt x="6945" y="9475"/>
                </a:cubicBezTo>
                <a:cubicBezTo>
                  <a:pt x="6868" y="9527"/>
                  <a:pt x="6840" y="9543"/>
                  <a:pt x="6772" y="9525"/>
                </a:cubicBezTo>
              </a:path>
              <a:path w="3523" h="993">
                <a:moveTo>
                  <a:pt x="5283" y="8657"/>
                </a:moveTo>
                <a:cubicBezTo>
                  <a:pt x="5283" y="8649"/>
                  <a:pt x="5283" y="8640"/>
                  <a:pt x="5283" y="8632"/>
                </a:cubicBezTo>
                <a:cubicBezTo>
                  <a:pt x="5250" y="8644"/>
                  <a:pt x="5206" y="8682"/>
                  <a:pt x="5184" y="8731"/>
                </a:cubicBezTo>
                <a:cubicBezTo>
                  <a:pt x="5133" y="8842"/>
                  <a:pt x="5113" y="8960"/>
                  <a:pt x="5110" y="9079"/>
                </a:cubicBezTo>
                <a:cubicBezTo>
                  <a:pt x="5106" y="9207"/>
                  <a:pt x="5127" y="9283"/>
                  <a:pt x="5209" y="9376"/>
                </a:cubicBezTo>
              </a:path>
              <a:path w="3523" h="993">
                <a:moveTo>
                  <a:pt x="7541" y="8632"/>
                </a:moveTo>
                <a:cubicBezTo>
                  <a:pt x="7516" y="8632"/>
                  <a:pt x="7508" y="8632"/>
                  <a:pt x="7516" y="8607"/>
                </a:cubicBezTo>
                <a:cubicBezTo>
                  <a:pt x="7529" y="8569"/>
                  <a:pt x="7538" y="8579"/>
                  <a:pt x="7565" y="8558"/>
                </a:cubicBezTo>
                <a:cubicBezTo>
                  <a:pt x="7603" y="8529"/>
                  <a:pt x="7617" y="8533"/>
                  <a:pt x="7665" y="8533"/>
                </a:cubicBezTo>
                <a:cubicBezTo>
                  <a:pt x="7673" y="8533"/>
                  <a:pt x="7681" y="8533"/>
                  <a:pt x="7689" y="8533"/>
                </a:cubicBezTo>
                <a:cubicBezTo>
                  <a:pt x="7689" y="8594"/>
                  <a:pt x="7700" y="8653"/>
                  <a:pt x="7665" y="8706"/>
                </a:cubicBezTo>
                <a:cubicBezTo>
                  <a:pt x="7639" y="8745"/>
                  <a:pt x="7626" y="8786"/>
                  <a:pt x="7615" y="8830"/>
                </a:cubicBezTo>
                <a:cubicBezTo>
                  <a:pt x="7652" y="8830"/>
                  <a:pt x="7710" y="8821"/>
                  <a:pt x="7739" y="8806"/>
                </a:cubicBezTo>
                <a:cubicBezTo>
                  <a:pt x="7773" y="8789"/>
                  <a:pt x="7775" y="8766"/>
                  <a:pt x="7813" y="8756"/>
                </a:cubicBezTo>
              </a:path>
              <a:path w="3523" h="993">
                <a:moveTo>
                  <a:pt x="8558" y="9103"/>
                </a:moveTo>
                <a:cubicBezTo>
                  <a:pt x="8613" y="9103"/>
                  <a:pt x="8658" y="9103"/>
                  <a:pt x="8582" y="9103"/>
                </a:cubicBezTo>
                <a:cubicBezTo>
                  <a:pt x="8516" y="9103"/>
                  <a:pt x="8450" y="9103"/>
                  <a:pt x="8384" y="9103"/>
                </a:cubicBezTo>
              </a:path>
              <a:path w="3523" h="993">
                <a:moveTo>
                  <a:pt x="8384" y="9004"/>
                </a:moveTo>
                <a:cubicBezTo>
                  <a:pt x="8462" y="8956"/>
                  <a:pt x="8502" y="8919"/>
                  <a:pt x="8508" y="9029"/>
                </a:cubicBezTo>
                <a:cubicBezTo>
                  <a:pt x="8513" y="9109"/>
                  <a:pt x="8523" y="9176"/>
                  <a:pt x="8533" y="92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10000" y="2982960"/>
            <a:ext cx="731880" cy="285840"/>
          </a:xfrm>
          <a:custGeom>
            <a:avLst/>
            <a:gdLst/>
            <a:ahLst/>
            <a:rect l="l" t="t" r="r" b="b"/>
            <a:pathLst>
              <a:path w="2035" h="795">
                <a:moveTo>
                  <a:pt x="9773" y="8434"/>
                </a:moveTo>
                <a:cubicBezTo>
                  <a:pt x="9806" y="8434"/>
                  <a:pt x="9839" y="8434"/>
                  <a:pt x="9872" y="8434"/>
                </a:cubicBezTo>
                <a:cubicBezTo>
                  <a:pt x="9860" y="8479"/>
                  <a:pt x="9839" y="8535"/>
                  <a:pt x="9823" y="8582"/>
                </a:cubicBezTo>
                <a:cubicBezTo>
                  <a:pt x="9810" y="8620"/>
                  <a:pt x="9739" y="8708"/>
                  <a:pt x="9773" y="8756"/>
                </a:cubicBezTo>
                <a:cubicBezTo>
                  <a:pt x="9791" y="8782"/>
                  <a:pt x="9920" y="8788"/>
                  <a:pt x="9947" y="8781"/>
                </a:cubicBezTo>
                <a:cubicBezTo>
                  <a:pt x="10015" y="8764"/>
                  <a:pt x="10073" y="8737"/>
                  <a:pt x="10145" y="8731"/>
                </a:cubicBezTo>
                <a:cubicBezTo>
                  <a:pt x="10181" y="8728"/>
                  <a:pt x="10210" y="8713"/>
                  <a:pt x="10244" y="8706"/>
                </a:cubicBezTo>
              </a:path>
              <a:path w="2035" h="795">
                <a:moveTo>
                  <a:pt x="10096" y="8657"/>
                </a:moveTo>
                <a:cubicBezTo>
                  <a:pt x="10088" y="8640"/>
                  <a:pt x="10079" y="8624"/>
                  <a:pt x="10071" y="8607"/>
                </a:cubicBezTo>
                <a:cubicBezTo>
                  <a:pt x="10071" y="8673"/>
                  <a:pt x="10092" y="8717"/>
                  <a:pt x="10096" y="8781"/>
                </a:cubicBezTo>
                <a:cubicBezTo>
                  <a:pt x="10096" y="8822"/>
                  <a:pt x="10096" y="8830"/>
                  <a:pt x="10096" y="8855"/>
                </a:cubicBezTo>
              </a:path>
              <a:path w="2035" h="795">
                <a:moveTo>
                  <a:pt x="10889" y="8359"/>
                </a:moveTo>
                <a:cubicBezTo>
                  <a:pt x="10917" y="8359"/>
                  <a:pt x="10928" y="8357"/>
                  <a:pt x="10939" y="8334"/>
                </a:cubicBezTo>
                <a:cubicBezTo>
                  <a:pt x="10930" y="8298"/>
                  <a:pt x="10911" y="8268"/>
                  <a:pt x="10864" y="8285"/>
                </a:cubicBezTo>
                <a:cubicBezTo>
                  <a:pt x="10800" y="8308"/>
                  <a:pt x="10748" y="8354"/>
                  <a:pt x="10716" y="8409"/>
                </a:cubicBezTo>
                <a:cubicBezTo>
                  <a:pt x="10696" y="8443"/>
                  <a:pt x="10671" y="8518"/>
                  <a:pt x="10691" y="8558"/>
                </a:cubicBezTo>
                <a:cubicBezTo>
                  <a:pt x="10709" y="8593"/>
                  <a:pt x="10805" y="8605"/>
                  <a:pt x="10840" y="8607"/>
                </a:cubicBezTo>
                <a:cubicBezTo>
                  <a:pt x="10898" y="8610"/>
                  <a:pt x="10957" y="8616"/>
                  <a:pt x="10964" y="8682"/>
                </a:cubicBezTo>
                <a:cubicBezTo>
                  <a:pt x="10969" y="8722"/>
                  <a:pt x="10958" y="8790"/>
                  <a:pt x="10914" y="8806"/>
                </a:cubicBezTo>
                <a:cubicBezTo>
                  <a:pt x="10890" y="8814"/>
                  <a:pt x="10801" y="8815"/>
                  <a:pt x="10790" y="8781"/>
                </a:cubicBezTo>
                <a:cubicBezTo>
                  <a:pt x="10776" y="8735"/>
                  <a:pt x="10840" y="8594"/>
                  <a:pt x="10864" y="8558"/>
                </a:cubicBezTo>
                <a:cubicBezTo>
                  <a:pt x="10898" y="8506"/>
                  <a:pt x="10947" y="8456"/>
                  <a:pt x="10988" y="8409"/>
                </a:cubicBezTo>
              </a:path>
              <a:path w="2035" h="795">
                <a:moveTo>
                  <a:pt x="11633" y="9029"/>
                </a:moveTo>
                <a:cubicBezTo>
                  <a:pt x="11738" y="9037"/>
                  <a:pt x="11714" y="9033"/>
                  <a:pt x="11782" y="9054"/>
                </a:cubicBezTo>
                <a:cubicBezTo>
                  <a:pt x="11754" y="9065"/>
                  <a:pt x="11696" y="9079"/>
                  <a:pt x="11633" y="9079"/>
                </a:cubicBezTo>
                <a:cubicBezTo>
                  <a:pt x="11485" y="9079"/>
                  <a:pt x="11333" y="9071"/>
                  <a:pt x="11187" y="9054"/>
                </a:cubicBezTo>
                <a:cubicBezTo>
                  <a:pt x="11001" y="9033"/>
                  <a:pt x="10848" y="9039"/>
                  <a:pt x="10666" y="9054"/>
                </a:cubicBezTo>
                <a:cubicBezTo>
                  <a:pt x="10532" y="9065"/>
                  <a:pt x="10405" y="9079"/>
                  <a:pt x="10269" y="9079"/>
                </a:cubicBezTo>
                <a:cubicBezTo>
                  <a:pt x="10155" y="9079"/>
                  <a:pt x="10056" y="9066"/>
                  <a:pt x="9947" y="9054"/>
                </a:cubicBezTo>
                <a:cubicBezTo>
                  <a:pt x="9883" y="9047"/>
                  <a:pt x="9813" y="9054"/>
                  <a:pt x="9748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10000" y="3394080"/>
            <a:ext cx="446040" cy="150840"/>
          </a:xfrm>
          <a:custGeom>
            <a:avLst/>
            <a:gdLst/>
            <a:ahLst/>
            <a:rect l="l" t="t" r="r" b="b"/>
            <a:pathLst>
              <a:path w="1241" h="422">
                <a:moveTo>
                  <a:pt x="9823" y="9624"/>
                </a:moveTo>
                <a:cubicBezTo>
                  <a:pt x="9798" y="9624"/>
                  <a:pt x="9790" y="9624"/>
                  <a:pt x="9773" y="9624"/>
                </a:cubicBezTo>
                <a:cubicBezTo>
                  <a:pt x="9773" y="9588"/>
                  <a:pt x="9779" y="9538"/>
                  <a:pt x="9823" y="9525"/>
                </a:cubicBezTo>
                <a:cubicBezTo>
                  <a:pt x="9891" y="9505"/>
                  <a:pt x="9994" y="9569"/>
                  <a:pt x="10021" y="9624"/>
                </a:cubicBezTo>
                <a:cubicBezTo>
                  <a:pt x="10054" y="9690"/>
                  <a:pt x="10064" y="9775"/>
                  <a:pt x="9996" y="9823"/>
                </a:cubicBezTo>
                <a:cubicBezTo>
                  <a:pt x="9939" y="9864"/>
                  <a:pt x="9857" y="9843"/>
                  <a:pt x="9798" y="9823"/>
                </a:cubicBezTo>
                <a:cubicBezTo>
                  <a:pt x="9730" y="9800"/>
                  <a:pt x="9748" y="9782"/>
                  <a:pt x="9748" y="9723"/>
                </a:cubicBezTo>
              </a:path>
              <a:path w="1241" h="422">
                <a:moveTo>
                  <a:pt x="10567" y="9624"/>
                </a:moveTo>
                <a:cubicBezTo>
                  <a:pt x="10554" y="9662"/>
                  <a:pt x="10492" y="9660"/>
                  <a:pt x="10443" y="9649"/>
                </a:cubicBezTo>
                <a:cubicBezTo>
                  <a:pt x="10362" y="9631"/>
                  <a:pt x="10304" y="9624"/>
                  <a:pt x="10220" y="9624"/>
                </a:cubicBezTo>
              </a:path>
              <a:path w="1241" h="422">
                <a:moveTo>
                  <a:pt x="10294" y="9500"/>
                </a:moveTo>
                <a:cubicBezTo>
                  <a:pt x="10309" y="9490"/>
                  <a:pt x="10420" y="9377"/>
                  <a:pt x="10443" y="9451"/>
                </a:cubicBezTo>
                <a:cubicBezTo>
                  <a:pt x="10464" y="9519"/>
                  <a:pt x="10443" y="9628"/>
                  <a:pt x="10443" y="9699"/>
                </a:cubicBezTo>
              </a:path>
              <a:path w="1241" h="422">
                <a:moveTo>
                  <a:pt x="10864" y="9500"/>
                </a:moveTo>
                <a:cubicBezTo>
                  <a:pt x="10902" y="9444"/>
                  <a:pt x="10897" y="9419"/>
                  <a:pt x="10939" y="9426"/>
                </a:cubicBezTo>
                <a:cubicBezTo>
                  <a:pt x="10979" y="9492"/>
                  <a:pt x="10950" y="9546"/>
                  <a:pt x="10964" y="9624"/>
                </a:cubicBezTo>
                <a:cubicBezTo>
                  <a:pt x="10977" y="9692"/>
                  <a:pt x="10988" y="9729"/>
                  <a:pt x="10988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27720" y="3276720"/>
            <a:ext cx="88560" cy="1440"/>
          </a:xfrm>
          <a:custGeom>
            <a:avLst/>
            <a:gdLst/>
            <a:ahLst/>
            <a:rect l="l" t="t" r="r" b="b"/>
            <a:pathLst>
              <a:path w="249" h="1">
                <a:moveTo>
                  <a:pt x="12799" y="9103"/>
                </a:moveTo>
                <a:cubicBezTo>
                  <a:pt x="12857" y="9103"/>
                  <a:pt x="12733" y="9103"/>
                  <a:pt x="12675" y="9103"/>
                </a:cubicBezTo>
                <a:cubicBezTo>
                  <a:pt x="12626" y="9103"/>
                  <a:pt x="12609" y="9103"/>
                  <a:pt x="12576" y="9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76840" y="3143160"/>
            <a:ext cx="358560" cy="187560"/>
          </a:xfrm>
          <a:custGeom>
            <a:avLst/>
            <a:gdLst/>
            <a:ahLst/>
            <a:rect l="l" t="t" r="r" b="b"/>
            <a:pathLst>
              <a:path w="993" h="522">
                <a:moveTo>
                  <a:pt x="13295" y="8880"/>
                </a:moveTo>
                <a:cubicBezTo>
                  <a:pt x="13279" y="8857"/>
                  <a:pt x="13253" y="8814"/>
                  <a:pt x="13271" y="8781"/>
                </a:cubicBezTo>
                <a:cubicBezTo>
                  <a:pt x="13291" y="8744"/>
                  <a:pt x="13359" y="8733"/>
                  <a:pt x="13395" y="8731"/>
                </a:cubicBezTo>
                <a:cubicBezTo>
                  <a:pt x="13458" y="8727"/>
                  <a:pt x="13526" y="8723"/>
                  <a:pt x="13568" y="8781"/>
                </a:cubicBezTo>
                <a:cubicBezTo>
                  <a:pt x="13615" y="8846"/>
                  <a:pt x="13588" y="8920"/>
                  <a:pt x="13543" y="8979"/>
                </a:cubicBezTo>
                <a:cubicBezTo>
                  <a:pt x="13487" y="9051"/>
                  <a:pt x="13417" y="9069"/>
                  <a:pt x="13370" y="9153"/>
                </a:cubicBezTo>
                <a:cubicBezTo>
                  <a:pt x="13350" y="9193"/>
                  <a:pt x="13341" y="9200"/>
                  <a:pt x="13345" y="9227"/>
                </a:cubicBezTo>
                <a:cubicBezTo>
                  <a:pt x="13406" y="9272"/>
                  <a:pt x="13425" y="9239"/>
                  <a:pt x="13494" y="9227"/>
                </a:cubicBezTo>
                <a:cubicBezTo>
                  <a:pt x="13567" y="9215"/>
                  <a:pt x="13649" y="9201"/>
                  <a:pt x="13717" y="9178"/>
                </a:cubicBezTo>
                <a:cubicBezTo>
                  <a:pt x="13734" y="9170"/>
                  <a:pt x="13750" y="9161"/>
                  <a:pt x="13767" y="9153"/>
                </a:cubicBezTo>
              </a:path>
              <a:path w="993" h="522">
                <a:moveTo>
                  <a:pt x="13841" y="8979"/>
                </a:moveTo>
                <a:cubicBezTo>
                  <a:pt x="13893" y="8950"/>
                  <a:pt x="13923" y="8922"/>
                  <a:pt x="13965" y="8880"/>
                </a:cubicBezTo>
                <a:cubicBezTo>
                  <a:pt x="14007" y="8838"/>
                  <a:pt x="14047" y="8791"/>
                  <a:pt x="14114" y="8806"/>
                </a:cubicBezTo>
                <a:cubicBezTo>
                  <a:pt x="14181" y="8820"/>
                  <a:pt x="14251" y="8913"/>
                  <a:pt x="14263" y="8979"/>
                </a:cubicBezTo>
                <a:cubicBezTo>
                  <a:pt x="14285" y="9102"/>
                  <a:pt x="14184" y="9125"/>
                  <a:pt x="14089" y="9128"/>
                </a:cubicBezTo>
                <a:cubicBezTo>
                  <a:pt x="13961" y="9132"/>
                  <a:pt x="13898" y="9088"/>
                  <a:pt x="13791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0880" y="3973680"/>
            <a:ext cx="100080" cy="6336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5333" y="11063"/>
                </a:moveTo>
                <a:cubicBezTo>
                  <a:pt x="5280" y="11063"/>
                  <a:pt x="5260" y="11047"/>
                  <a:pt x="5209" y="11038"/>
                </a:cubicBezTo>
                <a:cubicBezTo>
                  <a:pt x="5159" y="11038"/>
                  <a:pt x="5143" y="11038"/>
                  <a:pt x="5110" y="11038"/>
                </a:cubicBezTo>
              </a:path>
              <a:path w="274" h="175">
                <a:moveTo>
                  <a:pt x="5159" y="11162"/>
                </a:moveTo>
                <a:cubicBezTo>
                  <a:pt x="5144" y="11223"/>
                  <a:pt x="5121" y="11212"/>
                  <a:pt x="5060" y="112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52800" y="3894120"/>
            <a:ext cx="17280" cy="150840"/>
          </a:xfrm>
          <a:custGeom>
            <a:avLst/>
            <a:gdLst/>
            <a:ahLst/>
            <a:rect l="l" t="t" r="r" b="b"/>
            <a:pathLst>
              <a:path w="51" h="423">
                <a:moveTo>
                  <a:pt x="5978" y="10914"/>
                </a:moveTo>
                <a:cubicBezTo>
                  <a:pt x="5978" y="10889"/>
                  <a:pt x="5978" y="10865"/>
                  <a:pt x="5978" y="10840"/>
                </a:cubicBezTo>
                <a:cubicBezTo>
                  <a:pt x="5978" y="10772"/>
                  <a:pt x="5975" y="10948"/>
                  <a:pt x="5978" y="10964"/>
                </a:cubicBezTo>
                <a:cubicBezTo>
                  <a:pt x="5996" y="11063"/>
                  <a:pt x="6028" y="11137"/>
                  <a:pt x="6028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63840" y="3938760"/>
            <a:ext cx="152280" cy="71280"/>
          </a:xfrm>
          <a:custGeom>
            <a:avLst/>
            <a:gdLst/>
            <a:ahLst/>
            <a:rect l="l" t="t" r="r" b="b"/>
            <a:pathLst>
              <a:path w="423" h="199">
                <a:moveTo>
                  <a:pt x="7218" y="11063"/>
                </a:moveTo>
                <a:cubicBezTo>
                  <a:pt x="7259" y="11043"/>
                  <a:pt x="7286" y="11034"/>
                  <a:pt x="7243" y="11038"/>
                </a:cubicBezTo>
                <a:cubicBezTo>
                  <a:pt x="7181" y="11050"/>
                  <a:pt x="7136" y="11063"/>
                  <a:pt x="7069" y="11063"/>
                </a:cubicBezTo>
                <a:cubicBezTo>
                  <a:pt x="6988" y="11063"/>
                  <a:pt x="6928" y="11088"/>
                  <a:pt x="6846" y="11088"/>
                </a:cubicBezTo>
              </a:path>
              <a:path w="423" h="199">
                <a:moveTo>
                  <a:pt x="6945" y="10964"/>
                </a:moveTo>
                <a:cubicBezTo>
                  <a:pt x="7014" y="10935"/>
                  <a:pt x="7041" y="10928"/>
                  <a:pt x="7069" y="11013"/>
                </a:cubicBezTo>
                <a:cubicBezTo>
                  <a:pt x="7084" y="11058"/>
                  <a:pt x="7073" y="11095"/>
                  <a:pt x="7094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95760" y="3840120"/>
            <a:ext cx="366480" cy="196920"/>
          </a:xfrm>
          <a:custGeom>
            <a:avLst/>
            <a:gdLst/>
            <a:ahLst/>
            <a:rect l="l" t="t" r="r" b="b"/>
            <a:pathLst>
              <a:path w="1018" h="547">
                <a:moveTo>
                  <a:pt x="7764" y="10691"/>
                </a:moveTo>
                <a:cubicBezTo>
                  <a:pt x="7772" y="10683"/>
                  <a:pt x="7781" y="10674"/>
                  <a:pt x="7789" y="10666"/>
                </a:cubicBezTo>
                <a:cubicBezTo>
                  <a:pt x="7789" y="10739"/>
                  <a:pt x="7775" y="10797"/>
                  <a:pt x="7764" y="10864"/>
                </a:cubicBezTo>
                <a:cubicBezTo>
                  <a:pt x="7757" y="10907"/>
                  <a:pt x="7742" y="11039"/>
                  <a:pt x="7789" y="11063"/>
                </a:cubicBezTo>
                <a:cubicBezTo>
                  <a:pt x="7827" y="11083"/>
                  <a:pt x="7882" y="11046"/>
                  <a:pt x="7913" y="11038"/>
                </a:cubicBezTo>
                <a:cubicBezTo>
                  <a:pt x="7958" y="11027"/>
                  <a:pt x="8017" y="11018"/>
                  <a:pt x="8062" y="11013"/>
                </a:cubicBezTo>
                <a:cubicBezTo>
                  <a:pt x="8086" y="11011"/>
                  <a:pt x="8112" y="11013"/>
                  <a:pt x="8136" y="11013"/>
                </a:cubicBezTo>
              </a:path>
              <a:path w="1018" h="547">
                <a:moveTo>
                  <a:pt x="7987" y="10889"/>
                </a:moveTo>
                <a:cubicBezTo>
                  <a:pt x="7971" y="10889"/>
                  <a:pt x="7954" y="10889"/>
                  <a:pt x="7938" y="10889"/>
                </a:cubicBezTo>
                <a:cubicBezTo>
                  <a:pt x="7938" y="10981"/>
                  <a:pt x="7970" y="11025"/>
                  <a:pt x="7987" y="11112"/>
                </a:cubicBezTo>
                <a:cubicBezTo>
                  <a:pt x="7987" y="11154"/>
                  <a:pt x="7987" y="11162"/>
                  <a:pt x="7987" y="11187"/>
                </a:cubicBezTo>
              </a:path>
              <a:path w="1018" h="547">
                <a:moveTo>
                  <a:pt x="8682" y="10864"/>
                </a:moveTo>
                <a:cubicBezTo>
                  <a:pt x="8702" y="10844"/>
                  <a:pt x="8750" y="10793"/>
                  <a:pt x="8756" y="10790"/>
                </a:cubicBezTo>
                <a:cubicBezTo>
                  <a:pt x="8764" y="10790"/>
                  <a:pt x="8773" y="10790"/>
                  <a:pt x="8781" y="10790"/>
                </a:cubicBezTo>
                <a:cubicBezTo>
                  <a:pt x="8772" y="10763"/>
                  <a:pt x="8745" y="10751"/>
                  <a:pt x="8706" y="10765"/>
                </a:cubicBezTo>
                <a:cubicBezTo>
                  <a:pt x="8657" y="10783"/>
                  <a:pt x="8543" y="10827"/>
                  <a:pt x="8508" y="10864"/>
                </a:cubicBezTo>
                <a:cubicBezTo>
                  <a:pt x="8483" y="10891"/>
                  <a:pt x="8442" y="10954"/>
                  <a:pt x="8434" y="10988"/>
                </a:cubicBezTo>
                <a:cubicBezTo>
                  <a:pt x="8486" y="11028"/>
                  <a:pt x="8520" y="10996"/>
                  <a:pt x="8582" y="11013"/>
                </a:cubicBezTo>
                <a:cubicBezTo>
                  <a:pt x="8629" y="11026"/>
                  <a:pt x="8696" y="11058"/>
                  <a:pt x="8731" y="11088"/>
                </a:cubicBezTo>
                <a:cubicBezTo>
                  <a:pt x="8775" y="11127"/>
                  <a:pt x="8760" y="11188"/>
                  <a:pt x="8706" y="11212"/>
                </a:cubicBezTo>
                <a:cubicBezTo>
                  <a:pt x="8664" y="11231"/>
                  <a:pt x="8601" y="11204"/>
                  <a:pt x="8582" y="11162"/>
                </a:cubicBezTo>
                <a:cubicBezTo>
                  <a:pt x="8568" y="11130"/>
                  <a:pt x="8637" y="11014"/>
                  <a:pt x="8657" y="10988"/>
                </a:cubicBezTo>
                <a:cubicBezTo>
                  <a:pt x="8692" y="10943"/>
                  <a:pt x="8741" y="10904"/>
                  <a:pt x="8781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13080" y="3938760"/>
            <a:ext cx="98280" cy="17280"/>
          </a:xfrm>
          <a:custGeom>
            <a:avLst/>
            <a:gdLst/>
            <a:ahLst/>
            <a:rect l="l" t="t" r="r" b="b"/>
            <a:pathLst>
              <a:path w="273" h="50">
                <a:moveTo>
                  <a:pt x="9203" y="10988"/>
                </a:moveTo>
                <a:cubicBezTo>
                  <a:pt x="9246" y="10956"/>
                  <a:pt x="9270" y="10964"/>
                  <a:pt x="9327" y="10964"/>
                </a:cubicBezTo>
                <a:cubicBezTo>
                  <a:pt x="9384" y="10964"/>
                  <a:pt x="9422" y="10950"/>
                  <a:pt x="9475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71920" y="3875040"/>
            <a:ext cx="268200" cy="135000"/>
          </a:xfrm>
          <a:custGeom>
            <a:avLst/>
            <a:gdLst/>
            <a:ahLst/>
            <a:rect l="l" t="t" r="r" b="b"/>
            <a:pathLst>
              <a:path w="745" h="373">
                <a:moveTo>
                  <a:pt x="9922" y="10914"/>
                </a:moveTo>
                <a:cubicBezTo>
                  <a:pt x="9947" y="10880"/>
                  <a:pt x="9956" y="10841"/>
                  <a:pt x="9996" y="10815"/>
                </a:cubicBezTo>
                <a:cubicBezTo>
                  <a:pt x="10028" y="10795"/>
                  <a:pt x="10092" y="10731"/>
                  <a:pt x="10120" y="10790"/>
                </a:cubicBezTo>
                <a:cubicBezTo>
                  <a:pt x="10143" y="10837"/>
                  <a:pt x="10091" y="10881"/>
                  <a:pt x="10071" y="10914"/>
                </a:cubicBezTo>
                <a:cubicBezTo>
                  <a:pt x="10047" y="10954"/>
                  <a:pt x="10026" y="11018"/>
                  <a:pt x="10021" y="11063"/>
                </a:cubicBezTo>
                <a:cubicBezTo>
                  <a:pt x="10016" y="11109"/>
                  <a:pt x="10023" y="11132"/>
                  <a:pt x="10071" y="11137"/>
                </a:cubicBezTo>
                <a:cubicBezTo>
                  <a:pt x="10138" y="11144"/>
                  <a:pt x="10164" y="11119"/>
                  <a:pt x="10220" y="11088"/>
                </a:cubicBezTo>
              </a:path>
              <a:path w="745" h="373">
                <a:moveTo>
                  <a:pt x="10368" y="10914"/>
                </a:moveTo>
                <a:cubicBezTo>
                  <a:pt x="10316" y="10896"/>
                  <a:pt x="10362" y="10891"/>
                  <a:pt x="10393" y="10864"/>
                </a:cubicBezTo>
                <a:cubicBezTo>
                  <a:pt x="10444" y="10819"/>
                  <a:pt x="10523" y="10790"/>
                  <a:pt x="10592" y="10815"/>
                </a:cubicBezTo>
                <a:cubicBezTo>
                  <a:pt x="10646" y="10834"/>
                  <a:pt x="10697" y="10932"/>
                  <a:pt x="10666" y="10988"/>
                </a:cubicBezTo>
                <a:cubicBezTo>
                  <a:pt x="10617" y="11076"/>
                  <a:pt x="10527" y="11063"/>
                  <a:pt x="10443" y="11063"/>
                </a:cubicBezTo>
                <a:cubicBezTo>
                  <a:pt x="10391" y="11063"/>
                  <a:pt x="10373" y="11062"/>
                  <a:pt x="10344" y="110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71960" y="3776760"/>
            <a:ext cx="581040" cy="179280"/>
          </a:xfrm>
          <a:custGeom>
            <a:avLst/>
            <a:gdLst/>
            <a:ahLst/>
            <a:rect l="l" t="t" r="r" b="b"/>
            <a:pathLst>
              <a:path w="1613" h="497">
                <a:moveTo>
                  <a:pt x="11460" y="10790"/>
                </a:moveTo>
                <a:cubicBezTo>
                  <a:pt x="11498" y="10751"/>
                  <a:pt x="11515" y="10750"/>
                  <a:pt x="11509" y="10716"/>
                </a:cubicBezTo>
                <a:cubicBezTo>
                  <a:pt x="11452" y="10716"/>
                  <a:pt x="11415" y="10728"/>
                  <a:pt x="11361" y="10740"/>
                </a:cubicBezTo>
                <a:cubicBezTo>
                  <a:pt x="11353" y="10740"/>
                  <a:pt x="11344" y="10740"/>
                  <a:pt x="11336" y="10740"/>
                </a:cubicBezTo>
              </a:path>
              <a:path w="1613" h="497">
                <a:moveTo>
                  <a:pt x="11435" y="10840"/>
                </a:moveTo>
                <a:cubicBezTo>
                  <a:pt x="11492" y="10840"/>
                  <a:pt x="11517" y="10823"/>
                  <a:pt x="11509" y="10864"/>
                </a:cubicBezTo>
                <a:cubicBezTo>
                  <a:pt x="11451" y="10864"/>
                  <a:pt x="11415" y="10885"/>
                  <a:pt x="11361" y="10889"/>
                </a:cubicBezTo>
                <a:cubicBezTo>
                  <a:pt x="11344" y="10889"/>
                  <a:pt x="11328" y="10889"/>
                  <a:pt x="11311" y="10889"/>
                </a:cubicBezTo>
              </a:path>
              <a:path w="1613" h="497">
                <a:moveTo>
                  <a:pt x="11906" y="10716"/>
                </a:moveTo>
                <a:cubicBezTo>
                  <a:pt x="11861" y="10708"/>
                  <a:pt x="11837" y="10709"/>
                  <a:pt x="11832" y="10666"/>
                </a:cubicBezTo>
                <a:cubicBezTo>
                  <a:pt x="11827" y="10622"/>
                  <a:pt x="11893" y="10576"/>
                  <a:pt x="11931" y="10567"/>
                </a:cubicBezTo>
                <a:cubicBezTo>
                  <a:pt x="11998" y="10551"/>
                  <a:pt x="12057" y="10572"/>
                  <a:pt x="12105" y="10616"/>
                </a:cubicBezTo>
                <a:cubicBezTo>
                  <a:pt x="12155" y="10661"/>
                  <a:pt x="12128" y="10737"/>
                  <a:pt x="12105" y="10790"/>
                </a:cubicBezTo>
                <a:cubicBezTo>
                  <a:pt x="12084" y="10837"/>
                  <a:pt x="12035" y="10866"/>
                  <a:pt x="12030" y="10914"/>
                </a:cubicBezTo>
                <a:cubicBezTo>
                  <a:pt x="12030" y="10922"/>
                  <a:pt x="12030" y="10931"/>
                  <a:pt x="12030" y="10939"/>
                </a:cubicBezTo>
                <a:cubicBezTo>
                  <a:pt x="12103" y="10939"/>
                  <a:pt x="12161" y="10925"/>
                  <a:pt x="12229" y="10914"/>
                </a:cubicBezTo>
                <a:cubicBezTo>
                  <a:pt x="12273" y="10914"/>
                  <a:pt x="12287" y="10917"/>
                  <a:pt x="12303" y="10889"/>
                </a:cubicBezTo>
              </a:path>
              <a:path w="1613" h="497">
                <a:moveTo>
                  <a:pt x="12799" y="10567"/>
                </a:moveTo>
                <a:cubicBezTo>
                  <a:pt x="12825" y="10532"/>
                  <a:pt x="12824" y="10536"/>
                  <a:pt x="12824" y="10492"/>
                </a:cubicBezTo>
                <a:cubicBezTo>
                  <a:pt x="12777" y="10492"/>
                  <a:pt x="12741" y="10485"/>
                  <a:pt x="12700" y="10517"/>
                </a:cubicBezTo>
                <a:cubicBezTo>
                  <a:pt x="12642" y="10561"/>
                  <a:pt x="12588" y="10604"/>
                  <a:pt x="12551" y="10666"/>
                </a:cubicBezTo>
                <a:cubicBezTo>
                  <a:pt x="12531" y="10706"/>
                  <a:pt x="12522" y="10713"/>
                  <a:pt x="12526" y="10740"/>
                </a:cubicBezTo>
                <a:cubicBezTo>
                  <a:pt x="12585" y="10740"/>
                  <a:pt x="12648" y="10753"/>
                  <a:pt x="12700" y="10716"/>
                </a:cubicBezTo>
                <a:cubicBezTo>
                  <a:pt x="12752" y="10679"/>
                  <a:pt x="12789" y="10631"/>
                  <a:pt x="12849" y="10616"/>
                </a:cubicBezTo>
                <a:cubicBezTo>
                  <a:pt x="12891" y="10711"/>
                  <a:pt x="12913" y="10811"/>
                  <a:pt x="12923" y="10914"/>
                </a:cubicBezTo>
                <a:cubicBezTo>
                  <a:pt x="12923" y="10939"/>
                  <a:pt x="12923" y="10963"/>
                  <a:pt x="12923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0960" y="4473720"/>
            <a:ext cx="249120" cy="241200"/>
          </a:xfrm>
          <a:custGeom>
            <a:avLst/>
            <a:gdLst/>
            <a:ahLst/>
            <a:rect l="l" t="t" r="r" b="b"/>
            <a:pathLst>
              <a:path w="695" h="671">
                <a:moveTo>
                  <a:pt x="2282" y="12601"/>
                </a:moveTo>
                <a:cubicBezTo>
                  <a:pt x="2267" y="12542"/>
                  <a:pt x="2244" y="12531"/>
                  <a:pt x="2183" y="12526"/>
                </a:cubicBezTo>
                <a:cubicBezTo>
                  <a:pt x="2135" y="12522"/>
                  <a:pt x="2097" y="12587"/>
                  <a:pt x="2084" y="12626"/>
                </a:cubicBezTo>
                <a:cubicBezTo>
                  <a:pt x="2064" y="12685"/>
                  <a:pt x="2099" y="12732"/>
                  <a:pt x="2133" y="12774"/>
                </a:cubicBezTo>
                <a:cubicBezTo>
                  <a:pt x="2189" y="12761"/>
                  <a:pt x="2215" y="12707"/>
                  <a:pt x="2232" y="12650"/>
                </a:cubicBezTo>
                <a:cubicBezTo>
                  <a:pt x="2232" y="12626"/>
                  <a:pt x="2232" y="12617"/>
                  <a:pt x="2232" y="12601"/>
                </a:cubicBezTo>
                <a:cubicBezTo>
                  <a:pt x="2281" y="12633"/>
                  <a:pt x="2235" y="12728"/>
                  <a:pt x="2232" y="12799"/>
                </a:cubicBezTo>
                <a:cubicBezTo>
                  <a:pt x="2229" y="12870"/>
                  <a:pt x="2182" y="12977"/>
                  <a:pt x="2208" y="13047"/>
                </a:cubicBezTo>
                <a:cubicBezTo>
                  <a:pt x="2218" y="13074"/>
                  <a:pt x="2244" y="13118"/>
                  <a:pt x="2282" y="13097"/>
                </a:cubicBezTo>
                <a:cubicBezTo>
                  <a:pt x="2318" y="13077"/>
                  <a:pt x="2339" y="13052"/>
                  <a:pt x="2381" y="13047"/>
                </a:cubicBezTo>
                <a:cubicBezTo>
                  <a:pt x="2389" y="13047"/>
                  <a:pt x="2398" y="13047"/>
                  <a:pt x="2406" y="13047"/>
                </a:cubicBezTo>
              </a:path>
              <a:path w="695" h="671">
                <a:moveTo>
                  <a:pt x="2729" y="12477"/>
                </a:moveTo>
                <a:cubicBezTo>
                  <a:pt x="2729" y="12452"/>
                  <a:pt x="2729" y="12444"/>
                  <a:pt x="2729" y="12427"/>
                </a:cubicBezTo>
              </a:path>
              <a:path w="695" h="671">
                <a:moveTo>
                  <a:pt x="2753" y="12576"/>
                </a:moveTo>
                <a:cubicBezTo>
                  <a:pt x="2775" y="12626"/>
                  <a:pt x="2778" y="12627"/>
                  <a:pt x="2778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33680" y="4348080"/>
            <a:ext cx="858600" cy="339840"/>
          </a:xfrm>
          <a:custGeom>
            <a:avLst/>
            <a:gdLst/>
            <a:ahLst/>
            <a:rect l="l" t="t" r="r" b="b"/>
            <a:pathLst>
              <a:path w="2383" h="943">
                <a:moveTo>
                  <a:pt x="4812" y="12502"/>
                </a:moveTo>
                <a:cubicBezTo>
                  <a:pt x="4819" y="12474"/>
                  <a:pt x="4864" y="12414"/>
                  <a:pt x="4837" y="12452"/>
                </a:cubicBezTo>
                <a:cubicBezTo>
                  <a:pt x="4803" y="12499"/>
                  <a:pt x="4792" y="12565"/>
                  <a:pt x="4787" y="12626"/>
                </a:cubicBezTo>
                <a:cubicBezTo>
                  <a:pt x="4784" y="12667"/>
                  <a:pt x="4826" y="12697"/>
                  <a:pt x="4862" y="12700"/>
                </a:cubicBezTo>
                <a:cubicBezTo>
                  <a:pt x="4927" y="12705"/>
                  <a:pt x="4976" y="12688"/>
                  <a:pt x="5035" y="12725"/>
                </a:cubicBezTo>
                <a:cubicBezTo>
                  <a:pt x="5066" y="12745"/>
                  <a:pt x="5076" y="12818"/>
                  <a:pt x="5060" y="12849"/>
                </a:cubicBezTo>
                <a:cubicBezTo>
                  <a:pt x="5037" y="12895"/>
                  <a:pt x="4951" y="12874"/>
                  <a:pt x="4911" y="12874"/>
                </a:cubicBezTo>
                <a:cubicBezTo>
                  <a:pt x="4895" y="12874"/>
                  <a:pt x="4878" y="12874"/>
                  <a:pt x="4862" y="12874"/>
                </a:cubicBezTo>
              </a:path>
              <a:path w="2383" h="943">
                <a:moveTo>
                  <a:pt x="5011" y="12477"/>
                </a:moveTo>
                <a:cubicBezTo>
                  <a:pt x="5011" y="12460"/>
                  <a:pt x="5011" y="12444"/>
                  <a:pt x="5011" y="12427"/>
                </a:cubicBezTo>
                <a:cubicBezTo>
                  <a:pt x="4978" y="12427"/>
                  <a:pt x="4944" y="12427"/>
                  <a:pt x="4911" y="12427"/>
                </a:cubicBezTo>
              </a:path>
              <a:path w="2383" h="943">
                <a:moveTo>
                  <a:pt x="5383" y="12601"/>
                </a:moveTo>
                <a:cubicBezTo>
                  <a:pt x="5442" y="12627"/>
                  <a:pt x="5480" y="12626"/>
                  <a:pt x="5407" y="12626"/>
                </a:cubicBezTo>
                <a:cubicBezTo>
                  <a:pt x="5353" y="12626"/>
                  <a:pt x="5312" y="12608"/>
                  <a:pt x="5259" y="12601"/>
                </a:cubicBezTo>
              </a:path>
              <a:path w="2383" h="943">
                <a:moveTo>
                  <a:pt x="5283" y="12551"/>
                </a:moveTo>
                <a:cubicBezTo>
                  <a:pt x="5300" y="12543"/>
                  <a:pt x="5316" y="12534"/>
                  <a:pt x="5333" y="12526"/>
                </a:cubicBezTo>
                <a:cubicBezTo>
                  <a:pt x="5344" y="12571"/>
                  <a:pt x="5358" y="12596"/>
                  <a:pt x="5358" y="12650"/>
                </a:cubicBezTo>
                <a:cubicBezTo>
                  <a:pt x="5358" y="12700"/>
                  <a:pt x="5358" y="12717"/>
                  <a:pt x="5358" y="12750"/>
                </a:cubicBezTo>
              </a:path>
              <a:path w="2383" h="943">
                <a:moveTo>
                  <a:pt x="5705" y="12526"/>
                </a:moveTo>
                <a:cubicBezTo>
                  <a:pt x="5722" y="12518"/>
                  <a:pt x="5738" y="12510"/>
                  <a:pt x="5755" y="12502"/>
                </a:cubicBezTo>
                <a:cubicBezTo>
                  <a:pt x="5767" y="12552"/>
                  <a:pt x="5779" y="12566"/>
                  <a:pt x="5779" y="12626"/>
                </a:cubicBezTo>
                <a:cubicBezTo>
                  <a:pt x="5779" y="12675"/>
                  <a:pt x="5779" y="12725"/>
                  <a:pt x="5779" y="12774"/>
                </a:cubicBezTo>
              </a:path>
              <a:path w="2383" h="943">
                <a:moveTo>
                  <a:pt x="5730" y="12427"/>
                </a:moveTo>
                <a:cubicBezTo>
                  <a:pt x="5838" y="12358"/>
                  <a:pt x="5901" y="12308"/>
                  <a:pt x="6003" y="12427"/>
                </a:cubicBezTo>
                <a:cubicBezTo>
                  <a:pt x="6077" y="12513"/>
                  <a:pt x="6102" y="12621"/>
                  <a:pt x="6052" y="12725"/>
                </a:cubicBezTo>
                <a:cubicBezTo>
                  <a:pt x="5999" y="12836"/>
                  <a:pt x="5936" y="12900"/>
                  <a:pt x="5829" y="12948"/>
                </a:cubicBezTo>
              </a:path>
              <a:path w="2383" h="943">
                <a:moveTo>
                  <a:pt x="4589" y="12378"/>
                </a:moveTo>
                <a:cubicBezTo>
                  <a:pt x="4604" y="12357"/>
                  <a:pt x="4635" y="12309"/>
                  <a:pt x="4638" y="12303"/>
                </a:cubicBezTo>
                <a:cubicBezTo>
                  <a:pt x="4667" y="12243"/>
                  <a:pt x="4592" y="12370"/>
                  <a:pt x="4589" y="12378"/>
                </a:cubicBezTo>
                <a:cubicBezTo>
                  <a:pt x="4534" y="12513"/>
                  <a:pt x="4534" y="12607"/>
                  <a:pt x="4564" y="12750"/>
                </a:cubicBezTo>
                <a:cubicBezTo>
                  <a:pt x="4586" y="12857"/>
                  <a:pt x="4632" y="12931"/>
                  <a:pt x="4688" y="13022"/>
                </a:cubicBezTo>
              </a:path>
              <a:path w="2383" h="943">
                <a:moveTo>
                  <a:pt x="6648" y="12154"/>
                </a:moveTo>
                <a:cubicBezTo>
                  <a:pt x="6618" y="12115"/>
                  <a:pt x="6611" y="12087"/>
                  <a:pt x="6672" y="12080"/>
                </a:cubicBezTo>
                <a:cubicBezTo>
                  <a:pt x="6713" y="12075"/>
                  <a:pt x="6744" y="12118"/>
                  <a:pt x="6747" y="12154"/>
                </a:cubicBezTo>
                <a:cubicBezTo>
                  <a:pt x="6752" y="12224"/>
                  <a:pt x="6701" y="12263"/>
                  <a:pt x="6697" y="12328"/>
                </a:cubicBezTo>
                <a:cubicBezTo>
                  <a:pt x="6692" y="12397"/>
                  <a:pt x="6713" y="12402"/>
                  <a:pt x="6772" y="12402"/>
                </a:cubicBezTo>
                <a:cubicBezTo>
                  <a:pt x="6834" y="12402"/>
                  <a:pt x="6872" y="12367"/>
                  <a:pt x="6921" y="12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51120" y="4545000"/>
            <a:ext cx="71280" cy="81000"/>
          </a:xfrm>
          <a:custGeom>
            <a:avLst/>
            <a:gdLst/>
            <a:ahLst/>
            <a:rect l="l" t="t" r="r" b="b"/>
            <a:pathLst>
              <a:path w="199" h="224">
                <a:moveTo>
                  <a:pt x="7838" y="12725"/>
                </a:moveTo>
                <a:cubicBezTo>
                  <a:pt x="7827" y="12692"/>
                  <a:pt x="7784" y="12685"/>
                  <a:pt x="7739" y="12700"/>
                </a:cubicBezTo>
                <a:cubicBezTo>
                  <a:pt x="7691" y="12724"/>
                  <a:pt x="7677" y="12732"/>
                  <a:pt x="7640" y="12725"/>
                </a:cubicBezTo>
              </a:path>
              <a:path w="199" h="224">
                <a:moveTo>
                  <a:pt x="7665" y="12626"/>
                </a:moveTo>
                <a:cubicBezTo>
                  <a:pt x="7732" y="12674"/>
                  <a:pt x="7759" y="12712"/>
                  <a:pt x="7764" y="12799"/>
                </a:cubicBezTo>
                <a:cubicBezTo>
                  <a:pt x="7764" y="12816"/>
                  <a:pt x="7764" y="12832"/>
                  <a:pt x="7764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51160" y="4340160"/>
            <a:ext cx="741240" cy="544680"/>
          </a:xfrm>
          <a:custGeom>
            <a:avLst/>
            <a:gdLst/>
            <a:ahLst/>
            <a:rect l="l" t="t" r="r" b="b"/>
            <a:pathLst>
              <a:path w="2060" h="1514">
                <a:moveTo>
                  <a:pt x="9500" y="12055"/>
                </a:moveTo>
                <a:cubicBezTo>
                  <a:pt x="9500" y="12114"/>
                  <a:pt x="9499" y="12144"/>
                  <a:pt x="9475" y="12204"/>
                </a:cubicBezTo>
                <a:cubicBezTo>
                  <a:pt x="9447" y="12276"/>
                  <a:pt x="9413" y="12354"/>
                  <a:pt x="9401" y="12427"/>
                </a:cubicBezTo>
                <a:cubicBezTo>
                  <a:pt x="9401" y="12469"/>
                  <a:pt x="9401" y="12477"/>
                  <a:pt x="9401" y="12502"/>
                </a:cubicBezTo>
                <a:cubicBezTo>
                  <a:pt x="9477" y="12502"/>
                  <a:pt x="9530" y="12489"/>
                  <a:pt x="9599" y="12477"/>
                </a:cubicBezTo>
                <a:cubicBezTo>
                  <a:pt x="9659" y="12466"/>
                  <a:pt x="9722" y="12437"/>
                  <a:pt x="9773" y="12427"/>
                </a:cubicBezTo>
                <a:cubicBezTo>
                  <a:pt x="9809" y="12420"/>
                  <a:pt x="9859" y="12427"/>
                  <a:pt x="9897" y="12427"/>
                </a:cubicBezTo>
              </a:path>
              <a:path w="2060" h="1514">
                <a:moveTo>
                  <a:pt x="9674" y="12353"/>
                </a:moveTo>
                <a:cubicBezTo>
                  <a:pt x="9666" y="12361"/>
                  <a:pt x="9657" y="12370"/>
                  <a:pt x="9649" y="12378"/>
                </a:cubicBezTo>
                <a:cubicBezTo>
                  <a:pt x="9680" y="12428"/>
                  <a:pt x="9694" y="12488"/>
                  <a:pt x="9699" y="12551"/>
                </a:cubicBezTo>
                <a:cubicBezTo>
                  <a:pt x="9699" y="12576"/>
                  <a:pt x="9699" y="12584"/>
                  <a:pt x="9699" y="12601"/>
                </a:cubicBezTo>
              </a:path>
              <a:path w="2060" h="1514">
                <a:moveTo>
                  <a:pt x="10443" y="12179"/>
                </a:moveTo>
                <a:cubicBezTo>
                  <a:pt x="10482" y="12152"/>
                  <a:pt x="10512" y="12141"/>
                  <a:pt x="10517" y="12105"/>
                </a:cubicBezTo>
                <a:cubicBezTo>
                  <a:pt x="10517" y="12097"/>
                  <a:pt x="10517" y="12088"/>
                  <a:pt x="10517" y="12080"/>
                </a:cubicBezTo>
                <a:cubicBezTo>
                  <a:pt x="10503" y="12070"/>
                  <a:pt x="10441" y="12030"/>
                  <a:pt x="10418" y="12055"/>
                </a:cubicBezTo>
                <a:cubicBezTo>
                  <a:pt x="10367" y="12111"/>
                  <a:pt x="10309" y="12158"/>
                  <a:pt x="10269" y="12229"/>
                </a:cubicBezTo>
                <a:cubicBezTo>
                  <a:pt x="10234" y="12292"/>
                  <a:pt x="10220" y="12345"/>
                  <a:pt x="10294" y="12378"/>
                </a:cubicBezTo>
                <a:cubicBezTo>
                  <a:pt x="10340" y="12399"/>
                  <a:pt x="10417" y="12381"/>
                  <a:pt x="10468" y="12402"/>
                </a:cubicBezTo>
                <a:cubicBezTo>
                  <a:pt x="10528" y="12426"/>
                  <a:pt x="10517" y="12426"/>
                  <a:pt x="10517" y="12477"/>
                </a:cubicBezTo>
                <a:cubicBezTo>
                  <a:pt x="10478" y="12506"/>
                  <a:pt x="10420" y="12517"/>
                  <a:pt x="10368" y="12502"/>
                </a:cubicBezTo>
                <a:cubicBezTo>
                  <a:pt x="10352" y="12494"/>
                  <a:pt x="10335" y="12485"/>
                  <a:pt x="10319" y="12477"/>
                </a:cubicBezTo>
                <a:cubicBezTo>
                  <a:pt x="10319" y="12416"/>
                  <a:pt x="10344" y="12360"/>
                  <a:pt x="10368" y="12303"/>
                </a:cubicBezTo>
                <a:cubicBezTo>
                  <a:pt x="10399" y="12231"/>
                  <a:pt x="10438" y="12184"/>
                  <a:pt x="10492" y="12129"/>
                </a:cubicBezTo>
              </a:path>
              <a:path w="2060" h="1514">
                <a:moveTo>
                  <a:pt x="11088" y="12750"/>
                </a:moveTo>
                <a:cubicBezTo>
                  <a:pt x="11042" y="12755"/>
                  <a:pt x="11008" y="12767"/>
                  <a:pt x="10964" y="12774"/>
                </a:cubicBezTo>
                <a:cubicBezTo>
                  <a:pt x="10843" y="12794"/>
                  <a:pt x="10715" y="12839"/>
                  <a:pt x="10592" y="12849"/>
                </a:cubicBezTo>
                <a:cubicBezTo>
                  <a:pt x="10364" y="12868"/>
                  <a:pt x="10126" y="12871"/>
                  <a:pt x="9897" y="12874"/>
                </a:cubicBezTo>
                <a:cubicBezTo>
                  <a:pt x="9671" y="12877"/>
                  <a:pt x="9450" y="12909"/>
                  <a:pt x="9227" y="12923"/>
                </a:cubicBezTo>
                <a:cubicBezTo>
                  <a:pt x="9118" y="12923"/>
                  <a:pt x="9091" y="12918"/>
                  <a:pt x="9029" y="12948"/>
                </a:cubicBezTo>
              </a:path>
              <a:path w="2060" h="1514">
                <a:moveTo>
                  <a:pt x="9103" y="13221"/>
                </a:moveTo>
                <a:cubicBezTo>
                  <a:pt x="9127" y="13140"/>
                  <a:pt x="9114" y="13106"/>
                  <a:pt x="9103" y="13146"/>
                </a:cubicBezTo>
                <a:cubicBezTo>
                  <a:pt x="9091" y="13190"/>
                  <a:pt x="9060" y="13270"/>
                  <a:pt x="9079" y="13320"/>
                </a:cubicBezTo>
                <a:cubicBezTo>
                  <a:pt x="9102" y="13383"/>
                  <a:pt x="9178" y="13383"/>
                  <a:pt x="9227" y="13395"/>
                </a:cubicBezTo>
                <a:cubicBezTo>
                  <a:pt x="9279" y="13408"/>
                  <a:pt x="9374" y="13409"/>
                  <a:pt x="9401" y="13469"/>
                </a:cubicBezTo>
                <a:cubicBezTo>
                  <a:pt x="9428" y="13530"/>
                  <a:pt x="9362" y="13529"/>
                  <a:pt x="9327" y="13543"/>
                </a:cubicBezTo>
                <a:cubicBezTo>
                  <a:pt x="9269" y="13566"/>
                  <a:pt x="9241" y="13568"/>
                  <a:pt x="9178" y="13568"/>
                </a:cubicBezTo>
              </a:path>
              <a:path w="2060" h="1514">
                <a:moveTo>
                  <a:pt x="9376" y="13171"/>
                </a:moveTo>
                <a:cubicBezTo>
                  <a:pt x="9401" y="13138"/>
                  <a:pt x="9426" y="13105"/>
                  <a:pt x="9451" y="13072"/>
                </a:cubicBezTo>
                <a:cubicBezTo>
                  <a:pt x="9391" y="13081"/>
                  <a:pt x="9310" y="13114"/>
                  <a:pt x="9252" y="13146"/>
                </a:cubicBezTo>
                <a:cubicBezTo>
                  <a:pt x="9244" y="13154"/>
                  <a:pt x="9235" y="13163"/>
                  <a:pt x="9227" y="13171"/>
                </a:cubicBezTo>
              </a:path>
              <a:path w="2060" h="1514">
                <a:moveTo>
                  <a:pt x="9947" y="13320"/>
                </a:moveTo>
                <a:cubicBezTo>
                  <a:pt x="9971" y="13320"/>
                  <a:pt x="9980" y="13320"/>
                  <a:pt x="9996" y="13320"/>
                </a:cubicBezTo>
                <a:cubicBezTo>
                  <a:pt x="9897" y="13320"/>
                  <a:pt x="9798" y="13320"/>
                  <a:pt x="9699" y="13320"/>
                </a:cubicBezTo>
              </a:path>
              <a:path w="2060" h="1514">
                <a:moveTo>
                  <a:pt x="9773" y="13122"/>
                </a:moveTo>
                <a:cubicBezTo>
                  <a:pt x="9790" y="13122"/>
                  <a:pt x="9806" y="13122"/>
                  <a:pt x="9823" y="13122"/>
                </a:cubicBezTo>
                <a:cubicBezTo>
                  <a:pt x="9823" y="13221"/>
                  <a:pt x="9823" y="13320"/>
                  <a:pt x="9823" y="13419"/>
                </a:cubicBezTo>
              </a:path>
              <a:path w="2060" h="1514">
                <a:moveTo>
                  <a:pt x="10344" y="13122"/>
                </a:moveTo>
                <a:cubicBezTo>
                  <a:pt x="10389" y="13145"/>
                  <a:pt x="10408" y="13214"/>
                  <a:pt x="10418" y="13271"/>
                </a:cubicBezTo>
                <a:cubicBezTo>
                  <a:pt x="10429" y="13339"/>
                  <a:pt x="10430" y="13403"/>
                  <a:pt x="10443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13160" y="4473720"/>
            <a:ext cx="679680" cy="179280"/>
          </a:xfrm>
          <a:custGeom>
            <a:avLst/>
            <a:gdLst/>
            <a:ahLst/>
            <a:rect l="l" t="t" r="r" b="b"/>
            <a:pathLst>
              <a:path w="1886" h="497">
                <a:moveTo>
                  <a:pt x="12005" y="12774"/>
                </a:moveTo>
                <a:cubicBezTo>
                  <a:pt x="11997" y="12774"/>
                  <a:pt x="11989" y="12774"/>
                  <a:pt x="11981" y="12774"/>
                </a:cubicBezTo>
                <a:cubicBezTo>
                  <a:pt x="11981" y="12824"/>
                  <a:pt x="11989" y="12843"/>
                  <a:pt x="12055" y="12824"/>
                </a:cubicBezTo>
                <a:cubicBezTo>
                  <a:pt x="12127" y="12803"/>
                  <a:pt x="12205" y="12786"/>
                  <a:pt x="12278" y="12774"/>
                </a:cubicBezTo>
                <a:cubicBezTo>
                  <a:pt x="12295" y="12774"/>
                  <a:pt x="12311" y="12774"/>
                  <a:pt x="12328" y="12774"/>
                </a:cubicBezTo>
              </a:path>
              <a:path w="1886" h="497">
                <a:moveTo>
                  <a:pt x="12874" y="12551"/>
                </a:moveTo>
                <a:cubicBezTo>
                  <a:pt x="12849" y="12551"/>
                  <a:pt x="12841" y="12551"/>
                  <a:pt x="12824" y="12551"/>
                </a:cubicBezTo>
                <a:cubicBezTo>
                  <a:pt x="12831" y="12524"/>
                  <a:pt x="12864" y="12462"/>
                  <a:pt x="12898" y="12452"/>
                </a:cubicBezTo>
                <a:cubicBezTo>
                  <a:pt x="12971" y="12431"/>
                  <a:pt x="13025" y="12420"/>
                  <a:pt x="13097" y="12452"/>
                </a:cubicBezTo>
                <a:cubicBezTo>
                  <a:pt x="13136" y="12469"/>
                  <a:pt x="13177" y="12523"/>
                  <a:pt x="13146" y="12576"/>
                </a:cubicBezTo>
                <a:cubicBezTo>
                  <a:pt x="13115" y="12630"/>
                  <a:pt x="13037" y="12703"/>
                  <a:pt x="12998" y="12750"/>
                </a:cubicBezTo>
                <a:cubicBezTo>
                  <a:pt x="12955" y="12801"/>
                  <a:pt x="12930" y="12828"/>
                  <a:pt x="12923" y="12898"/>
                </a:cubicBezTo>
                <a:cubicBezTo>
                  <a:pt x="12923" y="12906"/>
                  <a:pt x="12923" y="12915"/>
                  <a:pt x="12923" y="12923"/>
                </a:cubicBezTo>
                <a:cubicBezTo>
                  <a:pt x="12982" y="12923"/>
                  <a:pt x="13019" y="12900"/>
                  <a:pt x="13072" y="12874"/>
                </a:cubicBezTo>
                <a:cubicBezTo>
                  <a:pt x="13146" y="12837"/>
                  <a:pt x="13217" y="12838"/>
                  <a:pt x="13295" y="12799"/>
                </a:cubicBezTo>
              </a:path>
              <a:path w="1886" h="497">
                <a:moveTo>
                  <a:pt x="13519" y="12675"/>
                </a:moveTo>
                <a:cubicBezTo>
                  <a:pt x="13547" y="12580"/>
                  <a:pt x="13545" y="12562"/>
                  <a:pt x="13618" y="12502"/>
                </a:cubicBezTo>
                <a:cubicBezTo>
                  <a:pt x="13658" y="12469"/>
                  <a:pt x="13734" y="12420"/>
                  <a:pt x="13791" y="12452"/>
                </a:cubicBezTo>
                <a:cubicBezTo>
                  <a:pt x="13868" y="12495"/>
                  <a:pt x="13860" y="12609"/>
                  <a:pt x="13841" y="12675"/>
                </a:cubicBezTo>
                <a:cubicBezTo>
                  <a:pt x="13808" y="12786"/>
                  <a:pt x="13733" y="12832"/>
                  <a:pt x="13618" y="12849"/>
                </a:cubicBezTo>
                <a:cubicBezTo>
                  <a:pt x="13558" y="12858"/>
                  <a:pt x="13415" y="12810"/>
                  <a:pt x="13419" y="12725"/>
                </a:cubicBezTo>
                <a:cubicBezTo>
                  <a:pt x="13427" y="12700"/>
                  <a:pt x="13436" y="12675"/>
                  <a:pt x="13444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9920" y="5249880"/>
            <a:ext cx="9828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3795" y="14635"/>
                </a:moveTo>
                <a:cubicBezTo>
                  <a:pt x="3845" y="14635"/>
                  <a:pt x="3894" y="14635"/>
                  <a:pt x="3944" y="14635"/>
                </a:cubicBezTo>
                <a:cubicBezTo>
                  <a:pt x="3935" y="14608"/>
                  <a:pt x="3910" y="14588"/>
                  <a:pt x="3870" y="14585"/>
                </a:cubicBezTo>
                <a:cubicBezTo>
                  <a:pt x="3810" y="14581"/>
                  <a:pt x="3768" y="14581"/>
                  <a:pt x="3721" y="14610"/>
                </a:cubicBezTo>
              </a:path>
              <a:path w="274" h="224">
                <a:moveTo>
                  <a:pt x="3919" y="14734"/>
                </a:moveTo>
                <a:cubicBezTo>
                  <a:pt x="3963" y="14756"/>
                  <a:pt x="3975" y="14759"/>
                  <a:pt x="3994" y="14784"/>
                </a:cubicBezTo>
                <a:cubicBezTo>
                  <a:pt x="3952" y="14814"/>
                  <a:pt x="3925" y="14808"/>
                  <a:pt x="3870" y="14808"/>
                </a:cubicBezTo>
                <a:cubicBezTo>
                  <a:pt x="3853" y="14808"/>
                  <a:pt x="3837" y="14808"/>
                  <a:pt x="3820" y="14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68320" y="5126040"/>
            <a:ext cx="615960" cy="241200"/>
          </a:xfrm>
          <a:custGeom>
            <a:avLst/>
            <a:gdLst/>
            <a:ahLst/>
            <a:rect l="l" t="t" r="r" b="b"/>
            <a:pathLst>
              <a:path w="1713" h="671">
                <a:moveTo>
                  <a:pt x="4986" y="14436"/>
                </a:moveTo>
                <a:cubicBezTo>
                  <a:pt x="4942" y="14436"/>
                  <a:pt x="4946" y="14435"/>
                  <a:pt x="4911" y="14461"/>
                </a:cubicBezTo>
                <a:cubicBezTo>
                  <a:pt x="4911" y="14411"/>
                  <a:pt x="4917" y="14412"/>
                  <a:pt x="4961" y="14387"/>
                </a:cubicBezTo>
                <a:cubicBezTo>
                  <a:pt x="5035" y="14345"/>
                  <a:pt x="5107" y="14314"/>
                  <a:pt x="5184" y="14362"/>
                </a:cubicBezTo>
                <a:cubicBezTo>
                  <a:pt x="5249" y="14402"/>
                  <a:pt x="5244" y="14480"/>
                  <a:pt x="5209" y="14536"/>
                </a:cubicBezTo>
                <a:cubicBezTo>
                  <a:pt x="5169" y="14600"/>
                  <a:pt x="5088" y="14656"/>
                  <a:pt x="5035" y="14709"/>
                </a:cubicBezTo>
                <a:cubicBezTo>
                  <a:pt x="5013" y="14732"/>
                  <a:pt x="5005" y="14737"/>
                  <a:pt x="5011" y="14759"/>
                </a:cubicBezTo>
                <a:cubicBezTo>
                  <a:pt x="5061" y="14790"/>
                  <a:pt x="5121" y="14803"/>
                  <a:pt x="5184" y="14808"/>
                </a:cubicBezTo>
                <a:cubicBezTo>
                  <a:pt x="5219" y="14808"/>
                  <a:pt x="5237" y="14813"/>
                  <a:pt x="5259" y="14833"/>
                </a:cubicBezTo>
                <a:cubicBezTo>
                  <a:pt x="5243" y="14882"/>
                  <a:pt x="5197" y="14880"/>
                  <a:pt x="5135" y="14883"/>
                </a:cubicBezTo>
                <a:cubicBezTo>
                  <a:pt x="5082" y="14886"/>
                  <a:pt x="5037" y="14899"/>
                  <a:pt x="4986" y="14908"/>
                </a:cubicBezTo>
              </a:path>
              <a:path w="1713" h="671">
                <a:moveTo>
                  <a:pt x="5705" y="14288"/>
                </a:moveTo>
                <a:cubicBezTo>
                  <a:pt x="5774" y="14249"/>
                  <a:pt x="5797" y="14222"/>
                  <a:pt x="5730" y="14288"/>
                </a:cubicBezTo>
                <a:cubicBezTo>
                  <a:pt x="5638" y="14379"/>
                  <a:pt x="5589" y="14476"/>
                  <a:pt x="5606" y="14610"/>
                </a:cubicBezTo>
                <a:cubicBezTo>
                  <a:pt x="5617" y="14693"/>
                  <a:pt x="5675" y="14833"/>
                  <a:pt x="5779" y="14833"/>
                </a:cubicBezTo>
                <a:cubicBezTo>
                  <a:pt x="5828" y="14833"/>
                  <a:pt x="5875" y="14759"/>
                  <a:pt x="5854" y="14709"/>
                </a:cubicBezTo>
                <a:cubicBezTo>
                  <a:pt x="5841" y="14677"/>
                  <a:pt x="5760" y="14667"/>
                  <a:pt x="5730" y="14660"/>
                </a:cubicBezTo>
              </a:path>
              <a:path w="1713" h="671">
                <a:moveTo>
                  <a:pt x="6573" y="14511"/>
                </a:moveTo>
                <a:cubicBezTo>
                  <a:pt x="6598" y="14511"/>
                  <a:pt x="6606" y="14511"/>
                  <a:pt x="6623" y="14511"/>
                </a:cubicBezTo>
                <a:cubicBezTo>
                  <a:pt x="6604" y="14455"/>
                  <a:pt x="6574" y="14502"/>
                  <a:pt x="6524" y="14511"/>
                </a:cubicBezTo>
                <a:cubicBezTo>
                  <a:pt x="6455" y="14523"/>
                  <a:pt x="6398" y="14536"/>
                  <a:pt x="6325" y="14536"/>
                </a:cubicBezTo>
                <a:cubicBezTo>
                  <a:pt x="6300" y="14536"/>
                  <a:pt x="6292" y="14536"/>
                  <a:pt x="6276" y="14536"/>
                </a:cubicBezTo>
              </a:path>
              <a:path w="1713" h="671">
                <a:moveTo>
                  <a:pt x="6400" y="14412"/>
                </a:moveTo>
                <a:cubicBezTo>
                  <a:pt x="6436" y="14472"/>
                  <a:pt x="6442" y="14536"/>
                  <a:pt x="6449" y="146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24120" y="5045040"/>
            <a:ext cx="411120" cy="500040"/>
          </a:xfrm>
          <a:custGeom>
            <a:avLst/>
            <a:gdLst/>
            <a:ahLst/>
            <a:rect l="l" t="t" r="r" b="b"/>
            <a:pathLst>
              <a:path w="1142" h="1390">
                <a:moveTo>
                  <a:pt x="7590" y="14213"/>
                </a:moveTo>
                <a:cubicBezTo>
                  <a:pt x="7612" y="14152"/>
                  <a:pt x="7640" y="14103"/>
                  <a:pt x="7640" y="14039"/>
                </a:cubicBezTo>
                <a:cubicBezTo>
                  <a:pt x="7590" y="14089"/>
                  <a:pt x="7576" y="14139"/>
                  <a:pt x="7565" y="14213"/>
                </a:cubicBezTo>
                <a:cubicBezTo>
                  <a:pt x="7552" y="14301"/>
                  <a:pt x="7559" y="14336"/>
                  <a:pt x="7615" y="14387"/>
                </a:cubicBezTo>
                <a:cubicBezTo>
                  <a:pt x="7675" y="14442"/>
                  <a:pt x="7723" y="14398"/>
                  <a:pt x="7789" y="14387"/>
                </a:cubicBezTo>
                <a:cubicBezTo>
                  <a:pt x="7849" y="14377"/>
                  <a:pt x="7903" y="14343"/>
                  <a:pt x="7962" y="14337"/>
                </a:cubicBezTo>
                <a:cubicBezTo>
                  <a:pt x="7970" y="14337"/>
                  <a:pt x="7979" y="14337"/>
                  <a:pt x="7987" y="14337"/>
                </a:cubicBezTo>
              </a:path>
              <a:path w="1142" h="1390">
                <a:moveTo>
                  <a:pt x="7838" y="14263"/>
                </a:moveTo>
                <a:cubicBezTo>
                  <a:pt x="7797" y="14331"/>
                  <a:pt x="7814" y="14382"/>
                  <a:pt x="7838" y="14461"/>
                </a:cubicBezTo>
                <a:cubicBezTo>
                  <a:pt x="7861" y="14535"/>
                  <a:pt x="7863" y="14540"/>
                  <a:pt x="7863" y="14610"/>
                </a:cubicBezTo>
              </a:path>
              <a:path w="1142" h="1390">
                <a:moveTo>
                  <a:pt x="8409" y="14064"/>
                </a:moveTo>
                <a:cubicBezTo>
                  <a:pt x="8447" y="14042"/>
                  <a:pt x="8471" y="14024"/>
                  <a:pt x="8508" y="14015"/>
                </a:cubicBezTo>
                <a:cubicBezTo>
                  <a:pt x="8444" y="14015"/>
                  <a:pt x="8387" y="14022"/>
                  <a:pt x="8334" y="14064"/>
                </a:cubicBezTo>
                <a:cubicBezTo>
                  <a:pt x="8294" y="14095"/>
                  <a:pt x="8194" y="14177"/>
                  <a:pt x="8210" y="14238"/>
                </a:cubicBezTo>
                <a:cubicBezTo>
                  <a:pt x="8234" y="14327"/>
                  <a:pt x="8292" y="14315"/>
                  <a:pt x="8359" y="14337"/>
                </a:cubicBezTo>
                <a:cubicBezTo>
                  <a:pt x="8391" y="14348"/>
                  <a:pt x="8492" y="14381"/>
                  <a:pt x="8508" y="14412"/>
                </a:cubicBezTo>
                <a:cubicBezTo>
                  <a:pt x="8508" y="14420"/>
                  <a:pt x="8508" y="14428"/>
                  <a:pt x="8508" y="14436"/>
                </a:cubicBezTo>
                <a:cubicBezTo>
                  <a:pt x="8417" y="14436"/>
                  <a:pt x="8326" y="14436"/>
                  <a:pt x="8235" y="14436"/>
                </a:cubicBezTo>
                <a:cubicBezTo>
                  <a:pt x="8235" y="14365"/>
                  <a:pt x="8261" y="14341"/>
                  <a:pt x="8310" y="14288"/>
                </a:cubicBezTo>
                <a:cubicBezTo>
                  <a:pt x="8366" y="14229"/>
                  <a:pt x="8417" y="14187"/>
                  <a:pt x="8483" y="14139"/>
                </a:cubicBezTo>
              </a:path>
              <a:path w="1142" h="1390">
                <a:moveTo>
                  <a:pt x="8657" y="14833"/>
                </a:moveTo>
                <a:cubicBezTo>
                  <a:pt x="8673" y="14825"/>
                  <a:pt x="8690" y="14816"/>
                  <a:pt x="8706" y="14808"/>
                </a:cubicBezTo>
                <a:cubicBezTo>
                  <a:pt x="8571" y="14808"/>
                  <a:pt x="8443" y="14824"/>
                  <a:pt x="8310" y="14833"/>
                </a:cubicBezTo>
                <a:cubicBezTo>
                  <a:pt x="8204" y="14840"/>
                  <a:pt x="8061" y="14840"/>
                  <a:pt x="7962" y="14883"/>
                </a:cubicBezTo>
                <a:cubicBezTo>
                  <a:pt x="7940" y="14906"/>
                  <a:pt x="7935" y="14914"/>
                  <a:pt x="7913" y="14908"/>
                </a:cubicBezTo>
              </a:path>
              <a:path w="1142" h="1390">
                <a:moveTo>
                  <a:pt x="8161" y="15007"/>
                </a:moveTo>
                <a:cubicBezTo>
                  <a:pt x="8161" y="14938"/>
                  <a:pt x="8136" y="15101"/>
                  <a:pt x="8136" y="15106"/>
                </a:cubicBezTo>
                <a:cubicBezTo>
                  <a:pt x="8132" y="15209"/>
                  <a:pt x="8127" y="15307"/>
                  <a:pt x="8210" y="15379"/>
                </a:cubicBezTo>
                <a:cubicBezTo>
                  <a:pt x="8252" y="15416"/>
                  <a:pt x="8361" y="15419"/>
                  <a:pt x="8384" y="15354"/>
                </a:cubicBezTo>
                <a:cubicBezTo>
                  <a:pt x="8401" y="15307"/>
                  <a:pt x="8347" y="15254"/>
                  <a:pt x="8310" y="15230"/>
                </a:cubicBezTo>
                <a:cubicBezTo>
                  <a:pt x="8293" y="15222"/>
                  <a:pt x="8277" y="15213"/>
                  <a:pt x="8260" y="152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7720" y="5259240"/>
            <a:ext cx="544320" cy="189000"/>
          </a:xfrm>
          <a:custGeom>
            <a:avLst/>
            <a:gdLst/>
            <a:ahLst/>
            <a:rect l="l" t="t" r="r" b="b"/>
            <a:pathLst>
              <a:path w="1514" h="522">
                <a:moveTo>
                  <a:pt x="9351" y="15081"/>
                </a:moveTo>
                <a:cubicBezTo>
                  <a:pt x="9289" y="15081"/>
                  <a:pt x="9421" y="15057"/>
                  <a:pt x="9426" y="15056"/>
                </a:cubicBezTo>
                <a:cubicBezTo>
                  <a:pt x="9472" y="15048"/>
                  <a:pt x="9529" y="15056"/>
                  <a:pt x="9575" y="15056"/>
                </a:cubicBezTo>
              </a:path>
              <a:path w="1514" h="522">
                <a:moveTo>
                  <a:pt x="9947" y="14709"/>
                </a:moveTo>
                <a:cubicBezTo>
                  <a:pt x="9988" y="14677"/>
                  <a:pt x="10026" y="14684"/>
                  <a:pt x="10071" y="14660"/>
                </a:cubicBezTo>
                <a:cubicBezTo>
                  <a:pt x="10144" y="14621"/>
                  <a:pt x="10187" y="14610"/>
                  <a:pt x="10269" y="14610"/>
                </a:cubicBezTo>
                <a:cubicBezTo>
                  <a:pt x="10269" y="14669"/>
                  <a:pt x="10268" y="14699"/>
                  <a:pt x="10244" y="14759"/>
                </a:cubicBezTo>
                <a:cubicBezTo>
                  <a:pt x="10204" y="14859"/>
                  <a:pt x="10150" y="14923"/>
                  <a:pt x="10145" y="15032"/>
                </a:cubicBezTo>
                <a:cubicBezTo>
                  <a:pt x="10143" y="15081"/>
                  <a:pt x="10143" y="15152"/>
                  <a:pt x="10220" y="15131"/>
                </a:cubicBezTo>
                <a:cubicBezTo>
                  <a:pt x="10281" y="15115"/>
                  <a:pt x="10338" y="15062"/>
                  <a:pt x="10393" y="15032"/>
                </a:cubicBezTo>
              </a:path>
              <a:path w="1514" h="522">
                <a:moveTo>
                  <a:pt x="10592" y="14808"/>
                </a:moveTo>
                <a:cubicBezTo>
                  <a:pt x="10584" y="14792"/>
                  <a:pt x="10575" y="14775"/>
                  <a:pt x="10567" y="14759"/>
                </a:cubicBezTo>
                <a:cubicBezTo>
                  <a:pt x="10616" y="14747"/>
                  <a:pt x="10655" y="14721"/>
                  <a:pt x="10716" y="14734"/>
                </a:cubicBezTo>
                <a:cubicBezTo>
                  <a:pt x="10784" y="14749"/>
                  <a:pt x="10866" y="14825"/>
                  <a:pt x="10840" y="14908"/>
                </a:cubicBezTo>
                <a:cubicBezTo>
                  <a:pt x="10823" y="14964"/>
                  <a:pt x="10681" y="14978"/>
                  <a:pt x="10641" y="14957"/>
                </a:cubicBezTo>
                <a:cubicBezTo>
                  <a:pt x="10625" y="14941"/>
                  <a:pt x="10608" y="14924"/>
                  <a:pt x="10592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03800" y="5241960"/>
            <a:ext cx="90360" cy="7128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12129" y="14585"/>
                </a:moveTo>
                <a:cubicBezTo>
                  <a:pt x="12187" y="14585"/>
                  <a:pt x="12231" y="14577"/>
                  <a:pt x="12154" y="14560"/>
                </a:cubicBezTo>
                <a:cubicBezTo>
                  <a:pt x="12090" y="14546"/>
                  <a:pt x="12056" y="14579"/>
                  <a:pt x="12005" y="14585"/>
                </a:cubicBezTo>
                <a:cubicBezTo>
                  <a:pt x="11981" y="14585"/>
                  <a:pt x="11972" y="14585"/>
                  <a:pt x="11956" y="14585"/>
                </a:cubicBezTo>
              </a:path>
              <a:path w="249" h="200">
                <a:moveTo>
                  <a:pt x="12105" y="14684"/>
                </a:moveTo>
                <a:cubicBezTo>
                  <a:pt x="12154" y="14703"/>
                  <a:pt x="12185" y="14706"/>
                  <a:pt x="12204" y="14734"/>
                </a:cubicBezTo>
                <a:cubicBezTo>
                  <a:pt x="12191" y="14774"/>
                  <a:pt x="12156" y="14759"/>
                  <a:pt x="12105" y="14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0000" y="5153040"/>
            <a:ext cx="446040" cy="339840"/>
          </a:xfrm>
          <a:custGeom>
            <a:avLst/>
            <a:gdLst/>
            <a:ahLst/>
            <a:rect l="l" t="t" r="r" b="b"/>
            <a:pathLst>
              <a:path w="1241" h="944">
                <a:moveTo>
                  <a:pt x="12998" y="14436"/>
                </a:moveTo>
                <a:cubicBezTo>
                  <a:pt x="13016" y="14344"/>
                  <a:pt x="13014" y="14368"/>
                  <a:pt x="13072" y="14337"/>
                </a:cubicBezTo>
                <a:cubicBezTo>
                  <a:pt x="13124" y="14308"/>
                  <a:pt x="13196" y="14305"/>
                  <a:pt x="13246" y="14362"/>
                </a:cubicBezTo>
                <a:cubicBezTo>
                  <a:pt x="13289" y="14411"/>
                  <a:pt x="13212" y="14529"/>
                  <a:pt x="13196" y="14560"/>
                </a:cubicBezTo>
                <a:cubicBezTo>
                  <a:pt x="13156" y="14635"/>
                  <a:pt x="13069" y="14705"/>
                  <a:pt x="13047" y="14784"/>
                </a:cubicBezTo>
                <a:cubicBezTo>
                  <a:pt x="13037" y="14819"/>
                  <a:pt x="13047" y="14871"/>
                  <a:pt x="13047" y="14908"/>
                </a:cubicBezTo>
                <a:cubicBezTo>
                  <a:pt x="13136" y="14908"/>
                  <a:pt x="13212" y="14897"/>
                  <a:pt x="13295" y="14883"/>
                </a:cubicBezTo>
                <a:cubicBezTo>
                  <a:pt x="13347" y="14883"/>
                  <a:pt x="13365" y="14882"/>
                  <a:pt x="13395" y="14858"/>
                </a:cubicBezTo>
              </a:path>
              <a:path w="1241" h="944">
                <a:moveTo>
                  <a:pt x="13593" y="14560"/>
                </a:moveTo>
                <a:cubicBezTo>
                  <a:pt x="13615" y="14540"/>
                  <a:pt x="13701" y="14429"/>
                  <a:pt x="13742" y="14511"/>
                </a:cubicBezTo>
                <a:cubicBezTo>
                  <a:pt x="13768" y="14564"/>
                  <a:pt x="13720" y="14654"/>
                  <a:pt x="13717" y="14709"/>
                </a:cubicBezTo>
                <a:cubicBezTo>
                  <a:pt x="13714" y="14768"/>
                  <a:pt x="13712" y="14807"/>
                  <a:pt x="13742" y="14833"/>
                </a:cubicBezTo>
                <a:cubicBezTo>
                  <a:pt x="13789" y="14874"/>
                  <a:pt x="13853" y="14858"/>
                  <a:pt x="13915" y="14858"/>
                </a:cubicBezTo>
                <a:cubicBezTo>
                  <a:pt x="13988" y="14858"/>
                  <a:pt x="14045" y="14820"/>
                  <a:pt x="14114" y="14808"/>
                </a:cubicBezTo>
                <a:cubicBezTo>
                  <a:pt x="14118" y="14807"/>
                  <a:pt x="14276" y="14804"/>
                  <a:pt x="14238" y="14833"/>
                </a:cubicBezTo>
                <a:cubicBezTo>
                  <a:pt x="14213" y="14833"/>
                  <a:pt x="14205" y="14833"/>
                  <a:pt x="14213" y="14858"/>
                </a:cubicBezTo>
              </a:path>
              <a:path w="1241" h="944">
                <a:moveTo>
                  <a:pt x="13990" y="14709"/>
                </a:moveTo>
                <a:cubicBezTo>
                  <a:pt x="13860" y="14774"/>
                  <a:pt x="13887" y="14814"/>
                  <a:pt x="13915" y="14957"/>
                </a:cubicBezTo>
                <a:cubicBezTo>
                  <a:pt x="13935" y="15059"/>
                  <a:pt x="13957" y="15152"/>
                  <a:pt x="13965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1880" y="3348000"/>
            <a:ext cx="206280" cy="250920"/>
          </a:xfrm>
          <a:custGeom>
            <a:avLst/>
            <a:gdLst/>
            <a:ahLst/>
            <a:rect l="l" t="t" r="r" b="b"/>
            <a:pathLst>
              <a:path w="571" h="695">
                <a:moveTo>
                  <a:pt x="2208" y="9475"/>
                </a:moveTo>
                <a:cubicBezTo>
                  <a:pt x="2208" y="9451"/>
                  <a:pt x="2208" y="9443"/>
                  <a:pt x="2232" y="9451"/>
                </a:cubicBezTo>
                <a:cubicBezTo>
                  <a:pt x="2232" y="9633"/>
                  <a:pt x="2232" y="9814"/>
                  <a:pt x="2232" y="9996"/>
                </a:cubicBezTo>
              </a:path>
              <a:path w="571" h="695">
                <a:moveTo>
                  <a:pt x="2034" y="9550"/>
                </a:moveTo>
                <a:cubicBezTo>
                  <a:pt x="2039" y="9505"/>
                  <a:pt x="2044" y="9413"/>
                  <a:pt x="2084" y="9376"/>
                </a:cubicBezTo>
                <a:cubicBezTo>
                  <a:pt x="2112" y="9350"/>
                  <a:pt x="2192" y="9288"/>
                  <a:pt x="2232" y="9302"/>
                </a:cubicBezTo>
                <a:cubicBezTo>
                  <a:pt x="2290" y="9322"/>
                  <a:pt x="2318" y="9424"/>
                  <a:pt x="2307" y="9475"/>
                </a:cubicBezTo>
                <a:cubicBezTo>
                  <a:pt x="2292" y="9544"/>
                  <a:pt x="2239" y="9591"/>
                  <a:pt x="2183" y="9624"/>
                </a:cubicBezTo>
                <a:cubicBezTo>
                  <a:pt x="2166" y="9632"/>
                  <a:pt x="2150" y="9641"/>
                  <a:pt x="2133" y="9649"/>
                </a:cubicBezTo>
              </a:path>
              <a:path w="571" h="695">
                <a:moveTo>
                  <a:pt x="2580" y="9376"/>
                </a:moveTo>
                <a:cubicBezTo>
                  <a:pt x="2580" y="9351"/>
                  <a:pt x="2580" y="9343"/>
                  <a:pt x="2604" y="9351"/>
                </a:cubicBezTo>
              </a:path>
              <a:path w="571" h="695">
                <a:moveTo>
                  <a:pt x="2580" y="9376"/>
                </a:moveTo>
                <a:cubicBezTo>
                  <a:pt x="2580" y="9409"/>
                  <a:pt x="2580" y="9442"/>
                  <a:pt x="2580" y="94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9416" t="6945" r="7253" b="75964"/>
          <a:stretch/>
        </p:blipFill>
        <p:spPr>
          <a:xfrm>
            <a:off x="0" y="0"/>
            <a:ext cx="8077320" cy="2281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15001" t="8594" r="0" b="5467"/>
          <a:stretch/>
        </p:blipFill>
        <p:spPr>
          <a:xfrm>
            <a:off x="304920" y="2235240"/>
            <a:ext cx="5715000" cy="4622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" y="5638680"/>
            <a:ext cx="281952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5638680"/>
            <a:ext cx="0" cy="10670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5181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5791320"/>
            <a:ext cx="2514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579132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579132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348920" y="5495760"/>
            <a:ext cx="2698920" cy="109080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362320" y="6172200"/>
            <a:ext cx="0" cy="53352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6583320"/>
            <a:ext cx="271152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46400" y="5486400"/>
            <a:ext cx="0" cy="108432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3120" y="2670120"/>
            <a:ext cx="849240" cy="357120"/>
          </a:xfrm>
          <a:custGeom>
            <a:avLst/>
            <a:gdLst/>
            <a:ahLst/>
            <a:rect l="l" t="t" r="r" b="b"/>
            <a:pathLst>
              <a:path w="2358" h="993">
                <a:moveTo>
                  <a:pt x="967" y="8186"/>
                </a:moveTo>
                <a:cubicBezTo>
                  <a:pt x="929" y="8147"/>
                  <a:pt x="927" y="8130"/>
                  <a:pt x="893" y="8136"/>
                </a:cubicBezTo>
                <a:cubicBezTo>
                  <a:pt x="872" y="8164"/>
                  <a:pt x="832" y="8220"/>
                  <a:pt x="843" y="8260"/>
                </a:cubicBezTo>
                <a:cubicBezTo>
                  <a:pt x="854" y="8303"/>
                  <a:pt x="898" y="8389"/>
                  <a:pt x="943" y="8409"/>
                </a:cubicBezTo>
                <a:cubicBezTo>
                  <a:pt x="951" y="8409"/>
                  <a:pt x="959" y="8409"/>
                  <a:pt x="967" y="8409"/>
                </a:cubicBezTo>
                <a:cubicBezTo>
                  <a:pt x="1014" y="8330"/>
                  <a:pt x="977" y="8274"/>
                  <a:pt x="967" y="8186"/>
                </a:cubicBezTo>
                <a:cubicBezTo>
                  <a:pt x="956" y="8085"/>
                  <a:pt x="929" y="7988"/>
                  <a:pt x="918" y="7888"/>
                </a:cubicBezTo>
                <a:cubicBezTo>
                  <a:pt x="943" y="7838"/>
                  <a:pt x="969" y="7949"/>
                  <a:pt x="992" y="7987"/>
                </a:cubicBezTo>
                <a:cubicBezTo>
                  <a:pt x="1040" y="8066"/>
                  <a:pt x="1099" y="8196"/>
                  <a:pt x="1166" y="8260"/>
                </a:cubicBezTo>
                <a:cubicBezTo>
                  <a:pt x="1206" y="8280"/>
                  <a:pt x="1222" y="8279"/>
                  <a:pt x="1215" y="8310"/>
                </a:cubicBezTo>
              </a:path>
              <a:path w="2358" h="993">
                <a:moveTo>
                  <a:pt x="1191" y="8111"/>
                </a:moveTo>
                <a:cubicBezTo>
                  <a:pt x="1235" y="8045"/>
                  <a:pt x="1247" y="8059"/>
                  <a:pt x="1315" y="8111"/>
                </a:cubicBezTo>
                <a:cubicBezTo>
                  <a:pt x="1339" y="8136"/>
                  <a:pt x="1347" y="8145"/>
                  <a:pt x="1364" y="8161"/>
                </a:cubicBezTo>
              </a:path>
              <a:path w="2358" h="993">
                <a:moveTo>
                  <a:pt x="1215" y="7987"/>
                </a:moveTo>
                <a:cubicBezTo>
                  <a:pt x="1194" y="7944"/>
                  <a:pt x="1181" y="7932"/>
                  <a:pt x="1215" y="7913"/>
                </a:cubicBezTo>
              </a:path>
              <a:path w="2358" h="993">
                <a:moveTo>
                  <a:pt x="1612" y="7913"/>
                </a:moveTo>
                <a:cubicBezTo>
                  <a:pt x="1612" y="7905"/>
                  <a:pt x="1612" y="7896"/>
                  <a:pt x="1612" y="7888"/>
                </a:cubicBezTo>
                <a:cubicBezTo>
                  <a:pt x="1585" y="7897"/>
                  <a:pt x="1567" y="7923"/>
                  <a:pt x="1563" y="7962"/>
                </a:cubicBezTo>
                <a:cubicBezTo>
                  <a:pt x="1556" y="8022"/>
                  <a:pt x="1620" y="8033"/>
                  <a:pt x="1662" y="8037"/>
                </a:cubicBezTo>
                <a:cubicBezTo>
                  <a:pt x="1707" y="8041"/>
                  <a:pt x="1730" y="8032"/>
                  <a:pt x="1736" y="8086"/>
                </a:cubicBezTo>
                <a:cubicBezTo>
                  <a:pt x="1739" y="8110"/>
                  <a:pt x="1736" y="8137"/>
                  <a:pt x="1736" y="8161"/>
                </a:cubicBezTo>
                <a:cubicBezTo>
                  <a:pt x="1692" y="8161"/>
                  <a:pt x="1678" y="8158"/>
                  <a:pt x="1662" y="8186"/>
                </a:cubicBezTo>
              </a:path>
              <a:path w="2358" h="993">
                <a:moveTo>
                  <a:pt x="1687" y="7789"/>
                </a:moveTo>
                <a:cubicBezTo>
                  <a:pt x="1719" y="7719"/>
                  <a:pt x="1717" y="7679"/>
                  <a:pt x="1761" y="7665"/>
                </a:cubicBezTo>
                <a:cubicBezTo>
                  <a:pt x="1761" y="7717"/>
                  <a:pt x="1772" y="7790"/>
                  <a:pt x="1786" y="7838"/>
                </a:cubicBezTo>
                <a:cubicBezTo>
                  <a:pt x="1804" y="7901"/>
                  <a:pt x="1840" y="7993"/>
                  <a:pt x="1910" y="8012"/>
                </a:cubicBezTo>
                <a:cubicBezTo>
                  <a:pt x="1927" y="8012"/>
                  <a:pt x="1943" y="8012"/>
                  <a:pt x="1960" y="8012"/>
                </a:cubicBezTo>
              </a:path>
              <a:path w="2358" h="993">
                <a:moveTo>
                  <a:pt x="1984" y="7838"/>
                </a:moveTo>
                <a:cubicBezTo>
                  <a:pt x="1940" y="7793"/>
                  <a:pt x="1917" y="7767"/>
                  <a:pt x="1860" y="7813"/>
                </a:cubicBezTo>
                <a:cubicBezTo>
                  <a:pt x="1817" y="7847"/>
                  <a:pt x="1819" y="7844"/>
                  <a:pt x="1786" y="7888"/>
                </a:cubicBezTo>
              </a:path>
              <a:path w="2358" h="993">
                <a:moveTo>
                  <a:pt x="2208" y="7714"/>
                </a:moveTo>
                <a:cubicBezTo>
                  <a:pt x="2216" y="7706"/>
                  <a:pt x="2224" y="7697"/>
                  <a:pt x="2232" y="7689"/>
                </a:cubicBezTo>
                <a:cubicBezTo>
                  <a:pt x="2180" y="7651"/>
                  <a:pt x="2156" y="7672"/>
                  <a:pt x="2133" y="7739"/>
                </a:cubicBezTo>
                <a:cubicBezTo>
                  <a:pt x="2120" y="7777"/>
                  <a:pt x="2122" y="7865"/>
                  <a:pt x="2158" y="7888"/>
                </a:cubicBezTo>
                <a:cubicBezTo>
                  <a:pt x="2210" y="7921"/>
                  <a:pt x="2219" y="7847"/>
                  <a:pt x="2232" y="7838"/>
                </a:cubicBezTo>
                <a:cubicBezTo>
                  <a:pt x="2252" y="7824"/>
                  <a:pt x="2331" y="7838"/>
                  <a:pt x="2356" y="7838"/>
                </a:cubicBezTo>
              </a:path>
              <a:path w="2358" h="993">
                <a:moveTo>
                  <a:pt x="2381" y="7789"/>
                </a:moveTo>
                <a:cubicBezTo>
                  <a:pt x="2406" y="7813"/>
                  <a:pt x="2415" y="7821"/>
                  <a:pt x="2431" y="7838"/>
                </a:cubicBezTo>
                <a:cubicBezTo>
                  <a:pt x="2431" y="7790"/>
                  <a:pt x="2432" y="7729"/>
                  <a:pt x="2456" y="7689"/>
                </a:cubicBezTo>
                <a:cubicBezTo>
                  <a:pt x="2479" y="7650"/>
                  <a:pt x="2533" y="7620"/>
                  <a:pt x="2580" y="7640"/>
                </a:cubicBezTo>
                <a:cubicBezTo>
                  <a:pt x="2624" y="7659"/>
                  <a:pt x="2619" y="7678"/>
                  <a:pt x="2654" y="7689"/>
                </a:cubicBezTo>
              </a:path>
              <a:path w="2358" h="993">
                <a:moveTo>
                  <a:pt x="2704" y="7590"/>
                </a:moveTo>
                <a:cubicBezTo>
                  <a:pt x="2704" y="7549"/>
                  <a:pt x="2704" y="7541"/>
                  <a:pt x="2704" y="7516"/>
                </a:cubicBezTo>
                <a:cubicBezTo>
                  <a:pt x="2756" y="7529"/>
                  <a:pt x="2745" y="7553"/>
                  <a:pt x="2778" y="7590"/>
                </a:cubicBezTo>
                <a:cubicBezTo>
                  <a:pt x="2820" y="7637"/>
                  <a:pt x="2856" y="7656"/>
                  <a:pt x="2902" y="7615"/>
                </a:cubicBezTo>
                <a:cubicBezTo>
                  <a:pt x="2928" y="7592"/>
                  <a:pt x="2987" y="7548"/>
                  <a:pt x="3001" y="7516"/>
                </a:cubicBezTo>
                <a:cubicBezTo>
                  <a:pt x="3011" y="7492"/>
                  <a:pt x="3038" y="7447"/>
                  <a:pt x="3051" y="7441"/>
                </a:cubicBezTo>
                <a:cubicBezTo>
                  <a:pt x="3076" y="7441"/>
                  <a:pt x="3084" y="7441"/>
                  <a:pt x="3076" y="7417"/>
                </a:cubicBezTo>
                <a:cubicBezTo>
                  <a:pt x="3026" y="7433"/>
                  <a:pt x="3050" y="7438"/>
                  <a:pt x="3051" y="7441"/>
                </a:cubicBezTo>
                <a:cubicBezTo>
                  <a:pt x="3068" y="7483"/>
                  <a:pt x="3036" y="7509"/>
                  <a:pt x="3101" y="7516"/>
                </a:cubicBezTo>
                <a:cubicBezTo>
                  <a:pt x="3126" y="7519"/>
                  <a:pt x="3190" y="7506"/>
                  <a:pt x="3200" y="7491"/>
                </a:cubicBezTo>
                <a:cubicBezTo>
                  <a:pt x="3200" y="7483"/>
                  <a:pt x="3200" y="7474"/>
                  <a:pt x="3200" y="74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0960" y="2963880"/>
            <a:ext cx="480960" cy="233280"/>
          </a:xfrm>
          <a:custGeom>
            <a:avLst/>
            <a:gdLst/>
            <a:ahLst/>
            <a:rect l="l" t="t" r="r" b="b"/>
            <a:pathLst>
              <a:path w="1340" h="646">
                <a:moveTo>
                  <a:pt x="2282" y="8434"/>
                </a:moveTo>
                <a:cubicBezTo>
                  <a:pt x="2307" y="8428"/>
                  <a:pt x="2374" y="8402"/>
                  <a:pt x="2356" y="8359"/>
                </a:cubicBezTo>
                <a:cubicBezTo>
                  <a:pt x="2339" y="8320"/>
                  <a:pt x="2297" y="8280"/>
                  <a:pt x="2282" y="8260"/>
                </a:cubicBezTo>
                <a:cubicBezTo>
                  <a:pt x="2250" y="8218"/>
                  <a:pt x="2216" y="8231"/>
                  <a:pt x="2183" y="8260"/>
                </a:cubicBezTo>
                <a:cubicBezTo>
                  <a:pt x="2140" y="8298"/>
                  <a:pt x="2135" y="8401"/>
                  <a:pt x="2133" y="8458"/>
                </a:cubicBezTo>
                <a:cubicBezTo>
                  <a:pt x="2129" y="8546"/>
                  <a:pt x="2150" y="8652"/>
                  <a:pt x="2183" y="8731"/>
                </a:cubicBezTo>
                <a:cubicBezTo>
                  <a:pt x="2205" y="8783"/>
                  <a:pt x="2220" y="8830"/>
                  <a:pt x="2232" y="8880"/>
                </a:cubicBezTo>
              </a:path>
              <a:path w="1340" h="646">
                <a:moveTo>
                  <a:pt x="2232" y="8682"/>
                </a:moveTo>
                <a:cubicBezTo>
                  <a:pt x="2232" y="8665"/>
                  <a:pt x="2232" y="8649"/>
                  <a:pt x="2232" y="8632"/>
                </a:cubicBezTo>
                <a:cubicBezTo>
                  <a:pt x="2172" y="8632"/>
                  <a:pt x="2181" y="8660"/>
                  <a:pt x="2133" y="8682"/>
                </a:cubicBezTo>
                <a:cubicBezTo>
                  <a:pt x="2096" y="8698"/>
                  <a:pt x="2095" y="8687"/>
                  <a:pt x="2084" y="8731"/>
                </a:cubicBezTo>
              </a:path>
              <a:path w="1340" h="646">
                <a:moveTo>
                  <a:pt x="2555" y="8682"/>
                </a:moveTo>
                <a:cubicBezTo>
                  <a:pt x="2555" y="8690"/>
                  <a:pt x="2555" y="8698"/>
                  <a:pt x="2555" y="8706"/>
                </a:cubicBezTo>
                <a:cubicBezTo>
                  <a:pt x="2545" y="8667"/>
                  <a:pt x="2530" y="8652"/>
                  <a:pt x="2530" y="8607"/>
                </a:cubicBezTo>
                <a:cubicBezTo>
                  <a:pt x="2530" y="8553"/>
                  <a:pt x="2520" y="8523"/>
                  <a:pt x="2555" y="8483"/>
                </a:cubicBezTo>
                <a:cubicBezTo>
                  <a:pt x="2577" y="8461"/>
                  <a:pt x="2582" y="8452"/>
                  <a:pt x="2604" y="8458"/>
                </a:cubicBezTo>
              </a:path>
              <a:path w="1340" h="646">
                <a:moveTo>
                  <a:pt x="2679" y="8533"/>
                </a:moveTo>
                <a:cubicBezTo>
                  <a:pt x="2718" y="8481"/>
                  <a:pt x="2703" y="8464"/>
                  <a:pt x="2778" y="8458"/>
                </a:cubicBezTo>
                <a:cubicBezTo>
                  <a:pt x="2815" y="8455"/>
                  <a:pt x="2882" y="8442"/>
                  <a:pt x="2902" y="8483"/>
                </a:cubicBezTo>
                <a:cubicBezTo>
                  <a:pt x="2925" y="8530"/>
                  <a:pt x="2892" y="8568"/>
                  <a:pt x="2853" y="8582"/>
                </a:cubicBezTo>
                <a:cubicBezTo>
                  <a:pt x="2821" y="8593"/>
                  <a:pt x="2763" y="8582"/>
                  <a:pt x="2729" y="8582"/>
                </a:cubicBezTo>
              </a:path>
              <a:path w="1340" h="646">
                <a:moveTo>
                  <a:pt x="3026" y="8359"/>
                </a:moveTo>
                <a:cubicBezTo>
                  <a:pt x="3054" y="8387"/>
                  <a:pt x="3089" y="8423"/>
                  <a:pt x="3101" y="8458"/>
                </a:cubicBezTo>
                <a:cubicBezTo>
                  <a:pt x="3101" y="8483"/>
                  <a:pt x="3101" y="8491"/>
                  <a:pt x="3125" y="8483"/>
                </a:cubicBezTo>
                <a:cubicBezTo>
                  <a:pt x="3125" y="8442"/>
                  <a:pt x="3125" y="8400"/>
                  <a:pt x="3125" y="8359"/>
                </a:cubicBezTo>
                <a:cubicBezTo>
                  <a:pt x="3164" y="8369"/>
                  <a:pt x="3180" y="8384"/>
                  <a:pt x="3225" y="8384"/>
                </a:cubicBezTo>
                <a:cubicBezTo>
                  <a:pt x="3276" y="8384"/>
                  <a:pt x="3281" y="8316"/>
                  <a:pt x="3299" y="8310"/>
                </a:cubicBezTo>
                <a:cubicBezTo>
                  <a:pt x="3343" y="8294"/>
                  <a:pt x="3386" y="8319"/>
                  <a:pt x="3423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74840" y="2608200"/>
            <a:ext cx="822240" cy="312840"/>
          </a:xfrm>
          <a:custGeom>
            <a:avLst/>
            <a:gdLst/>
            <a:ahLst/>
            <a:rect l="l" t="t" r="r" b="b"/>
            <a:pathLst>
              <a:path w="2283" h="869">
                <a:moveTo>
                  <a:pt x="3870" y="7813"/>
                </a:moveTo>
                <a:cubicBezTo>
                  <a:pt x="3854" y="7793"/>
                  <a:pt x="3823" y="7745"/>
                  <a:pt x="3820" y="7739"/>
                </a:cubicBezTo>
                <a:cubicBezTo>
                  <a:pt x="3817" y="7733"/>
                  <a:pt x="3796" y="7632"/>
                  <a:pt x="3820" y="7689"/>
                </a:cubicBezTo>
                <a:cubicBezTo>
                  <a:pt x="3858" y="7779"/>
                  <a:pt x="3888" y="7869"/>
                  <a:pt x="3919" y="7962"/>
                </a:cubicBezTo>
                <a:cubicBezTo>
                  <a:pt x="3936" y="8013"/>
                  <a:pt x="3959" y="8061"/>
                  <a:pt x="3969" y="8111"/>
                </a:cubicBezTo>
              </a:path>
              <a:path w="2283" h="869">
                <a:moveTo>
                  <a:pt x="3820" y="7838"/>
                </a:moveTo>
                <a:cubicBezTo>
                  <a:pt x="3829" y="7773"/>
                  <a:pt x="3846" y="7761"/>
                  <a:pt x="3894" y="7714"/>
                </a:cubicBezTo>
                <a:cubicBezTo>
                  <a:pt x="3960" y="7648"/>
                  <a:pt x="4026" y="7608"/>
                  <a:pt x="4118" y="7665"/>
                </a:cubicBezTo>
                <a:cubicBezTo>
                  <a:pt x="4191" y="7710"/>
                  <a:pt x="4232" y="7832"/>
                  <a:pt x="4217" y="7913"/>
                </a:cubicBezTo>
                <a:cubicBezTo>
                  <a:pt x="4206" y="7971"/>
                  <a:pt x="4096" y="8025"/>
                  <a:pt x="4043" y="8037"/>
                </a:cubicBezTo>
                <a:cubicBezTo>
                  <a:pt x="3999" y="8037"/>
                  <a:pt x="3985" y="8034"/>
                  <a:pt x="3969" y="8062"/>
                </a:cubicBezTo>
              </a:path>
              <a:path w="2283" h="869">
                <a:moveTo>
                  <a:pt x="4316" y="7789"/>
                </a:moveTo>
                <a:cubicBezTo>
                  <a:pt x="4366" y="7739"/>
                  <a:pt x="4374" y="7714"/>
                  <a:pt x="4440" y="7714"/>
                </a:cubicBezTo>
                <a:cubicBezTo>
                  <a:pt x="4440" y="7750"/>
                  <a:pt x="4447" y="7786"/>
                  <a:pt x="4465" y="7813"/>
                </a:cubicBezTo>
                <a:cubicBezTo>
                  <a:pt x="4473" y="7821"/>
                  <a:pt x="4482" y="7830"/>
                  <a:pt x="4490" y="7838"/>
                </a:cubicBezTo>
              </a:path>
              <a:path w="2283" h="869">
                <a:moveTo>
                  <a:pt x="4415" y="7665"/>
                </a:moveTo>
                <a:cubicBezTo>
                  <a:pt x="4395" y="7624"/>
                  <a:pt x="4376" y="7608"/>
                  <a:pt x="4415" y="7615"/>
                </a:cubicBezTo>
              </a:path>
              <a:path w="2283" h="869">
                <a:moveTo>
                  <a:pt x="4564" y="7640"/>
                </a:moveTo>
                <a:cubicBezTo>
                  <a:pt x="4609" y="7684"/>
                  <a:pt x="4634" y="7721"/>
                  <a:pt x="4663" y="7764"/>
                </a:cubicBezTo>
                <a:cubicBezTo>
                  <a:pt x="4685" y="7786"/>
                  <a:pt x="4694" y="7791"/>
                  <a:pt x="4688" y="7813"/>
                </a:cubicBezTo>
                <a:cubicBezTo>
                  <a:pt x="4688" y="7747"/>
                  <a:pt x="4674" y="7739"/>
                  <a:pt x="4738" y="7739"/>
                </a:cubicBezTo>
                <a:cubicBezTo>
                  <a:pt x="4769" y="7739"/>
                  <a:pt x="4782" y="7757"/>
                  <a:pt x="4812" y="7764"/>
                </a:cubicBezTo>
                <a:cubicBezTo>
                  <a:pt x="4812" y="7725"/>
                  <a:pt x="4793" y="7637"/>
                  <a:pt x="4837" y="7615"/>
                </a:cubicBezTo>
                <a:cubicBezTo>
                  <a:pt x="4851" y="7608"/>
                  <a:pt x="4948" y="7656"/>
                  <a:pt x="4961" y="7665"/>
                </a:cubicBezTo>
                <a:cubicBezTo>
                  <a:pt x="4969" y="7673"/>
                  <a:pt x="4978" y="7681"/>
                  <a:pt x="4986" y="7689"/>
                </a:cubicBezTo>
              </a:path>
              <a:path w="2283" h="869">
                <a:moveTo>
                  <a:pt x="4986" y="7590"/>
                </a:moveTo>
                <a:cubicBezTo>
                  <a:pt x="5020" y="7539"/>
                  <a:pt x="5032" y="7519"/>
                  <a:pt x="5085" y="7565"/>
                </a:cubicBezTo>
                <a:cubicBezTo>
                  <a:pt x="5093" y="7573"/>
                  <a:pt x="5102" y="7582"/>
                  <a:pt x="5110" y="7590"/>
                </a:cubicBezTo>
              </a:path>
              <a:path w="2283" h="869">
                <a:moveTo>
                  <a:pt x="4986" y="7441"/>
                </a:moveTo>
                <a:cubicBezTo>
                  <a:pt x="4967" y="7384"/>
                  <a:pt x="4958" y="7377"/>
                  <a:pt x="4961" y="7342"/>
                </a:cubicBezTo>
              </a:path>
              <a:path w="2283" h="869">
                <a:moveTo>
                  <a:pt x="5135" y="7293"/>
                </a:moveTo>
                <a:cubicBezTo>
                  <a:pt x="5135" y="7219"/>
                  <a:pt x="5135" y="7417"/>
                  <a:pt x="5135" y="7417"/>
                </a:cubicBezTo>
                <a:cubicBezTo>
                  <a:pt x="5153" y="7497"/>
                  <a:pt x="5159" y="7564"/>
                  <a:pt x="5234" y="7615"/>
                </a:cubicBezTo>
                <a:cubicBezTo>
                  <a:pt x="5302" y="7661"/>
                  <a:pt x="5352" y="7640"/>
                  <a:pt x="5407" y="7590"/>
                </a:cubicBezTo>
                <a:cubicBezTo>
                  <a:pt x="5467" y="7536"/>
                  <a:pt x="5420" y="7524"/>
                  <a:pt x="5383" y="7491"/>
                </a:cubicBezTo>
                <a:cubicBezTo>
                  <a:pt x="5331" y="7444"/>
                  <a:pt x="5311" y="7481"/>
                  <a:pt x="5259" y="7491"/>
                </a:cubicBezTo>
                <a:cubicBezTo>
                  <a:pt x="5207" y="7502"/>
                  <a:pt x="5174" y="7497"/>
                  <a:pt x="5159" y="7541"/>
                </a:cubicBezTo>
              </a:path>
              <a:path w="2283" h="869">
                <a:moveTo>
                  <a:pt x="5457" y="7466"/>
                </a:moveTo>
                <a:cubicBezTo>
                  <a:pt x="5496" y="7505"/>
                  <a:pt x="5497" y="7522"/>
                  <a:pt x="5531" y="7516"/>
                </a:cubicBezTo>
                <a:cubicBezTo>
                  <a:pt x="5562" y="7501"/>
                  <a:pt x="5518" y="7457"/>
                  <a:pt x="5482" y="7417"/>
                </a:cubicBezTo>
                <a:cubicBezTo>
                  <a:pt x="5448" y="7380"/>
                  <a:pt x="5454" y="7341"/>
                  <a:pt x="5507" y="7317"/>
                </a:cubicBezTo>
                <a:cubicBezTo>
                  <a:pt x="5570" y="7288"/>
                  <a:pt x="5685" y="7315"/>
                  <a:pt x="5730" y="7293"/>
                </a:cubicBezTo>
                <a:cubicBezTo>
                  <a:pt x="5775" y="7271"/>
                  <a:pt x="5779" y="7312"/>
                  <a:pt x="5779" y="7243"/>
                </a:cubicBezTo>
                <a:cubicBezTo>
                  <a:pt x="5756" y="7283"/>
                  <a:pt x="5735" y="7365"/>
                  <a:pt x="5755" y="7417"/>
                </a:cubicBezTo>
                <a:cubicBezTo>
                  <a:pt x="5767" y="7449"/>
                  <a:pt x="5803" y="7460"/>
                  <a:pt x="5829" y="7466"/>
                </a:cubicBezTo>
                <a:cubicBezTo>
                  <a:pt x="5840" y="7411"/>
                  <a:pt x="5862" y="7300"/>
                  <a:pt x="5928" y="7317"/>
                </a:cubicBezTo>
                <a:cubicBezTo>
                  <a:pt x="5998" y="7335"/>
                  <a:pt x="6051" y="7396"/>
                  <a:pt x="6102" y="74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42000" y="6367320"/>
            <a:ext cx="561960" cy="169920"/>
          </a:xfrm>
          <a:custGeom>
            <a:avLst/>
            <a:gdLst/>
            <a:ahLst/>
            <a:rect l="l" t="t" r="r" b="b"/>
            <a:pathLst>
              <a:path w="1564" h="472">
                <a:moveTo>
                  <a:pt x="15999" y="17835"/>
                </a:moveTo>
                <a:cubicBezTo>
                  <a:pt x="15999" y="17707"/>
                  <a:pt x="16020" y="17738"/>
                  <a:pt x="15999" y="17810"/>
                </a:cubicBezTo>
                <a:cubicBezTo>
                  <a:pt x="15978" y="17882"/>
                  <a:pt x="15955" y="17979"/>
                  <a:pt x="15974" y="18058"/>
                </a:cubicBezTo>
                <a:cubicBezTo>
                  <a:pt x="15988" y="18117"/>
                  <a:pt x="16027" y="18130"/>
                  <a:pt x="16073" y="18157"/>
                </a:cubicBezTo>
              </a:path>
              <a:path w="1564" h="472">
                <a:moveTo>
                  <a:pt x="16148" y="17934"/>
                </a:moveTo>
                <a:cubicBezTo>
                  <a:pt x="16114" y="17920"/>
                  <a:pt x="15986" y="17834"/>
                  <a:pt x="15949" y="17909"/>
                </a:cubicBezTo>
                <a:cubicBezTo>
                  <a:pt x="15949" y="17917"/>
                  <a:pt x="15949" y="17926"/>
                  <a:pt x="15949" y="17934"/>
                </a:cubicBezTo>
              </a:path>
              <a:path w="1564" h="472">
                <a:moveTo>
                  <a:pt x="16173" y="17934"/>
                </a:moveTo>
                <a:cubicBezTo>
                  <a:pt x="16243" y="17944"/>
                  <a:pt x="16259" y="17969"/>
                  <a:pt x="16297" y="18033"/>
                </a:cubicBezTo>
                <a:cubicBezTo>
                  <a:pt x="16316" y="18074"/>
                  <a:pt x="16324" y="18080"/>
                  <a:pt x="16321" y="18107"/>
                </a:cubicBezTo>
              </a:path>
              <a:path w="1564" h="472">
                <a:moveTo>
                  <a:pt x="16272" y="17810"/>
                </a:moveTo>
                <a:cubicBezTo>
                  <a:pt x="16253" y="17736"/>
                  <a:pt x="16245" y="17729"/>
                  <a:pt x="16247" y="17686"/>
                </a:cubicBezTo>
              </a:path>
              <a:path w="1564" h="472">
                <a:moveTo>
                  <a:pt x="16371" y="17909"/>
                </a:moveTo>
                <a:cubicBezTo>
                  <a:pt x="16387" y="17945"/>
                  <a:pt x="16437" y="18002"/>
                  <a:pt x="16446" y="18033"/>
                </a:cubicBezTo>
                <a:cubicBezTo>
                  <a:pt x="16446" y="18078"/>
                  <a:pt x="16442" y="18091"/>
                  <a:pt x="16470" y="18107"/>
                </a:cubicBezTo>
                <a:cubicBezTo>
                  <a:pt x="16479" y="18045"/>
                  <a:pt x="16493" y="17995"/>
                  <a:pt x="16520" y="17934"/>
                </a:cubicBezTo>
                <a:cubicBezTo>
                  <a:pt x="16540" y="17893"/>
                  <a:pt x="16549" y="17887"/>
                  <a:pt x="16545" y="17859"/>
                </a:cubicBezTo>
                <a:cubicBezTo>
                  <a:pt x="16602" y="17859"/>
                  <a:pt x="16614" y="17885"/>
                  <a:pt x="16644" y="17934"/>
                </a:cubicBezTo>
                <a:cubicBezTo>
                  <a:pt x="16672" y="17980"/>
                  <a:pt x="16665" y="17994"/>
                  <a:pt x="16694" y="18033"/>
                </a:cubicBezTo>
                <a:cubicBezTo>
                  <a:pt x="16766" y="18014"/>
                  <a:pt x="16725" y="17994"/>
                  <a:pt x="16743" y="17934"/>
                </a:cubicBezTo>
                <a:cubicBezTo>
                  <a:pt x="16758" y="17885"/>
                  <a:pt x="16767" y="17789"/>
                  <a:pt x="16818" y="17760"/>
                </a:cubicBezTo>
                <a:cubicBezTo>
                  <a:pt x="16854" y="17739"/>
                  <a:pt x="16900" y="17784"/>
                  <a:pt x="16917" y="17810"/>
                </a:cubicBezTo>
                <a:cubicBezTo>
                  <a:pt x="16952" y="17864"/>
                  <a:pt x="16994" y="17887"/>
                  <a:pt x="17041" y="17934"/>
                </a:cubicBezTo>
                <a:cubicBezTo>
                  <a:pt x="17082" y="17975"/>
                  <a:pt x="17126" y="17969"/>
                  <a:pt x="17165" y="17934"/>
                </a:cubicBezTo>
                <a:cubicBezTo>
                  <a:pt x="17205" y="17898"/>
                  <a:pt x="17234" y="17837"/>
                  <a:pt x="17239" y="17785"/>
                </a:cubicBezTo>
                <a:cubicBezTo>
                  <a:pt x="17239" y="17777"/>
                  <a:pt x="17239" y="17768"/>
                  <a:pt x="17239" y="17760"/>
                </a:cubicBezTo>
                <a:cubicBezTo>
                  <a:pt x="17153" y="17760"/>
                  <a:pt x="17130" y="17789"/>
                  <a:pt x="17115" y="17884"/>
                </a:cubicBezTo>
                <a:cubicBezTo>
                  <a:pt x="17101" y="17976"/>
                  <a:pt x="17149" y="18038"/>
                  <a:pt x="17239" y="18058"/>
                </a:cubicBezTo>
                <a:cubicBezTo>
                  <a:pt x="17324" y="18077"/>
                  <a:pt x="17446" y="17953"/>
                  <a:pt x="17512" y="179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05160" y="5769000"/>
            <a:ext cx="812880" cy="322200"/>
          </a:xfrm>
          <a:custGeom>
            <a:avLst/>
            <a:gdLst/>
            <a:ahLst/>
            <a:rect l="l" t="t" r="r" b="b"/>
            <a:pathLst>
              <a:path w="2258" h="894">
                <a:moveTo>
                  <a:pt x="11782" y="16520"/>
                </a:moveTo>
                <a:cubicBezTo>
                  <a:pt x="11820" y="16482"/>
                  <a:pt x="11832" y="16474"/>
                  <a:pt x="11832" y="16421"/>
                </a:cubicBezTo>
                <a:cubicBezTo>
                  <a:pt x="11755" y="16402"/>
                  <a:pt x="11785" y="16376"/>
                  <a:pt x="11708" y="16446"/>
                </a:cubicBezTo>
                <a:cubicBezTo>
                  <a:pt x="11661" y="16489"/>
                  <a:pt x="11672" y="16593"/>
                  <a:pt x="11708" y="16644"/>
                </a:cubicBezTo>
                <a:cubicBezTo>
                  <a:pt x="11724" y="16661"/>
                  <a:pt x="11741" y="16677"/>
                  <a:pt x="11757" y="16694"/>
                </a:cubicBezTo>
                <a:cubicBezTo>
                  <a:pt x="11865" y="16679"/>
                  <a:pt x="11855" y="16598"/>
                  <a:pt x="11881" y="16495"/>
                </a:cubicBezTo>
                <a:cubicBezTo>
                  <a:pt x="11915" y="16363"/>
                  <a:pt x="11906" y="16233"/>
                  <a:pt x="11906" y="16098"/>
                </a:cubicBezTo>
                <a:cubicBezTo>
                  <a:pt x="11906" y="16082"/>
                  <a:pt x="11906" y="16065"/>
                  <a:pt x="11906" y="16049"/>
                </a:cubicBezTo>
                <a:cubicBezTo>
                  <a:pt x="11906" y="15975"/>
                  <a:pt x="11906" y="16173"/>
                  <a:pt x="11906" y="16173"/>
                </a:cubicBezTo>
                <a:cubicBezTo>
                  <a:pt x="11906" y="16302"/>
                  <a:pt x="11918" y="16421"/>
                  <a:pt x="11931" y="16545"/>
                </a:cubicBezTo>
                <a:cubicBezTo>
                  <a:pt x="11938" y="16609"/>
                  <a:pt x="11948" y="16656"/>
                  <a:pt x="11956" y="16718"/>
                </a:cubicBezTo>
              </a:path>
              <a:path w="2258" h="894">
                <a:moveTo>
                  <a:pt x="12055" y="16570"/>
                </a:moveTo>
                <a:cubicBezTo>
                  <a:pt x="12080" y="16570"/>
                  <a:pt x="12088" y="16570"/>
                  <a:pt x="12105" y="16570"/>
                </a:cubicBezTo>
                <a:cubicBezTo>
                  <a:pt x="12105" y="16603"/>
                  <a:pt x="12105" y="16636"/>
                  <a:pt x="12105" y="16669"/>
                </a:cubicBezTo>
              </a:path>
              <a:path w="2258" h="894">
                <a:moveTo>
                  <a:pt x="12080" y="16446"/>
                </a:moveTo>
                <a:cubicBezTo>
                  <a:pt x="12080" y="16429"/>
                  <a:pt x="12080" y="16413"/>
                  <a:pt x="12080" y="16396"/>
                </a:cubicBezTo>
              </a:path>
              <a:path w="2258" h="894">
                <a:moveTo>
                  <a:pt x="12303" y="16495"/>
                </a:moveTo>
                <a:cubicBezTo>
                  <a:pt x="12311" y="16487"/>
                  <a:pt x="12320" y="16478"/>
                  <a:pt x="12328" y="16470"/>
                </a:cubicBezTo>
                <a:cubicBezTo>
                  <a:pt x="12275" y="16483"/>
                  <a:pt x="12264" y="16501"/>
                  <a:pt x="12303" y="16545"/>
                </a:cubicBezTo>
                <a:cubicBezTo>
                  <a:pt x="12323" y="16568"/>
                  <a:pt x="12365" y="16616"/>
                  <a:pt x="12378" y="16644"/>
                </a:cubicBezTo>
                <a:cubicBezTo>
                  <a:pt x="12378" y="16669"/>
                  <a:pt x="12378" y="16677"/>
                  <a:pt x="12378" y="16694"/>
                </a:cubicBezTo>
                <a:cubicBezTo>
                  <a:pt x="12337" y="16694"/>
                  <a:pt x="12295" y="16694"/>
                  <a:pt x="12254" y="16694"/>
                </a:cubicBezTo>
              </a:path>
              <a:path w="2258" h="894">
                <a:moveTo>
                  <a:pt x="12526" y="16396"/>
                </a:moveTo>
                <a:cubicBezTo>
                  <a:pt x="12549" y="16373"/>
                  <a:pt x="12553" y="16365"/>
                  <a:pt x="12576" y="16371"/>
                </a:cubicBezTo>
                <a:cubicBezTo>
                  <a:pt x="12576" y="16424"/>
                  <a:pt x="12560" y="16445"/>
                  <a:pt x="12551" y="16495"/>
                </a:cubicBezTo>
                <a:cubicBezTo>
                  <a:pt x="12543" y="16538"/>
                  <a:pt x="12525" y="16693"/>
                  <a:pt x="12576" y="16718"/>
                </a:cubicBezTo>
                <a:cubicBezTo>
                  <a:pt x="12584" y="16718"/>
                  <a:pt x="12593" y="16718"/>
                  <a:pt x="12601" y="16718"/>
                </a:cubicBezTo>
              </a:path>
              <a:path w="2258" h="894">
                <a:moveTo>
                  <a:pt x="12725" y="16594"/>
                </a:moveTo>
                <a:cubicBezTo>
                  <a:pt x="12702" y="16572"/>
                  <a:pt x="12694" y="16567"/>
                  <a:pt x="12700" y="16545"/>
                </a:cubicBezTo>
                <a:cubicBezTo>
                  <a:pt x="12655" y="16545"/>
                  <a:pt x="12640" y="16560"/>
                  <a:pt x="12601" y="16570"/>
                </a:cubicBezTo>
              </a:path>
              <a:path w="2258" h="894">
                <a:moveTo>
                  <a:pt x="12923" y="16644"/>
                </a:moveTo>
                <a:cubicBezTo>
                  <a:pt x="12959" y="16617"/>
                  <a:pt x="12962" y="16627"/>
                  <a:pt x="12973" y="16594"/>
                </a:cubicBezTo>
                <a:cubicBezTo>
                  <a:pt x="12950" y="16602"/>
                  <a:pt x="12919" y="16636"/>
                  <a:pt x="12898" y="16669"/>
                </a:cubicBezTo>
                <a:cubicBezTo>
                  <a:pt x="12872" y="16710"/>
                  <a:pt x="12874" y="16725"/>
                  <a:pt x="12874" y="16768"/>
                </a:cubicBezTo>
                <a:cubicBezTo>
                  <a:pt x="12920" y="16768"/>
                  <a:pt x="12938" y="16774"/>
                  <a:pt x="12973" y="16743"/>
                </a:cubicBezTo>
                <a:cubicBezTo>
                  <a:pt x="13008" y="16712"/>
                  <a:pt x="13026" y="16718"/>
                  <a:pt x="13072" y="16718"/>
                </a:cubicBezTo>
                <a:cubicBezTo>
                  <a:pt x="13100" y="16718"/>
                  <a:pt x="13111" y="16720"/>
                  <a:pt x="13122" y="16743"/>
                </a:cubicBezTo>
              </a:path>
              <a:path w="2258" h="894">
                <a:moveTo>
                  <a:pt x="13171" y="16669"/>
                </a:moveTo>
                <a:cubicBezTo>
                  <a:pt x="13197" y="16678"/>
                  <a:pt x="13217" y="16687"/>
                  <a:pt x="13221" y="16718"/>
                </a:cubicBezTo>
                <a:cubicBezTo>
                  <a:pt x="13221" y="16726"/>
                  <a:pt x="13221" y="16735"/>
                  <a:pt x="13221" y="16743"/>
                </a:cubicBezTo>
                <a:cubicBezTo>
                  <a:pt x="13247" y="16717"/>
                  <a:pt x="13305" y="16678"/>
                  <a:pt x="13320" y="16644"/>
                </a:cubicBezTo>
                <a:cubicBezTo>
                  <a:pt x="13320" y="16619"/>
                  <a:pt x="13320" y="16611"/>
                  <a:pt x="13345" y="16619"/>
                </a:cubicBezTo>
                <a:cubicBezTo>
                  <a:pt x="13374" y="16648"/>
                  <a:pt x="13407" y="16682"/>
                  <a:pt x="13419" y="16718"/>
                </a:cubicBezTo>
                <a:cubicBezTo>
                  <a:pt x="13425" y="16737"/>
                  <a:pt x="13419" y="16773"/>
                  <a:pt x="13419" y="16793"/>
                </a:cubicBezTo>
              </a:path>
              <a:path w="2258" h="894">
                <a:moveTo>
                  <a:pt x="13469" y="16694"/>
                </a:moveTo>
                <a:cubicBezTo>
                  <a:pt x="13532" y="16667"/>
                  <a:pt x="13543" y="16649"/>
                  <a:pt x="13543" y="16718"/>
                </a:cubicBezTo>
                <a:cubicBezTo>
                  <a:pt x="13543" y="16743"/>
                  <a:pt x="13543" y="16751"/>
                  <a:pt x="13543" y="16768"/>
                </a:cubicBezTo>
                <a:cubicBezTo>
                  <a:pt x="13581" y="16730"/>
                  <a:pt x="13590" y="16718"/>
                  <a:pt x="13643" y="16718"/>
                </a:cubicBezTo>
                <a:cubicBezTo>
                  <a:pt x="13688" y="16718"/>
                  <a:pt x="13702" y="16698"/>
                  <a:pt x="13742" y="16694"/>
                </a:cubicBezTo>
                <a:cubicBezTo>
                  <a:pt x="13767" y="16694"/>
                  <a:pt x="13775" y="16694"/>
                  <a:pt x="13767" y="16669"/>
                </a:cubicBezTo>
                <a:cubicBezTo>
                  <a:pt x="13721" y="16681"/>
                  <a:pt x="13678" y="16708"/>
                  <a:pt x="13692" y="16768"/>
                </a:cubicBezTo>
                <a:cubicBezTo>
                  <a:pt x="13709" y="16840"/>
                  <a:pt x="13768" y="16901"/>
                  <a:pt x="13841" y="16917"/>
                </a:cubicBezTo>
                <a:cubicBezTo>
                  <a:pt x="13893" y="16917"/>
                  <a:pt x="13911" y="16916"/>
                  <a:pt x="13940" y="168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7960" y="6392880"/>
            <a:ext cx="1224000" cy="171360"/>
          </a:xfrm>
          <a:custGeom>
            <a:avLst/>
            <a:gdLst/>
            <a:ahLst/>
            <a:rect l="l" t="t" r="r" b="b"/>
            <a:pathLst>
              <a:path w="3399" h="472">
                <a:moveTo>
                  <a:pt x="7913" y="18008"/>
                </a:moveTo>
                <a:cubicBezTo>
                  <a:pt x="7936" y="17977"/>
                  <a:pt x="7958" y="17948"/>
                  <a:pt x="7962" y="17909"/>
                </a:cubicBezTo>
                <a:cubicBezTo>
                  <a:pt x="7962" y="17901"/>
                  <a:pt x="7962" y="17892"/>
                  <a:pt x="7962" y="17884"/>
                </a:cubicBezTo>
                <a:cubicBezTo>
                  <a:pt x="7930" y="17895"/>
                  <a:pt x="7916" y="17936"/>
                  <a:pt x="7913" y="17983"/>
                </a:cubicBezTo>
                <a:cubicBezTo>
                  <a:pt x="7907" y="18073"/>
                  <a:pt x="7905" y="18114"/>
                  <a:pt x="7962" y="18182"/>
                </a:cubicBezTo>
                <a:cubicBezTo>
                  <a:pt x="7992" y="18212"/>
                  <a:pt x="8006" y="18223"/>
                  <a:pt x="8037" y="18231"/>
                </a:cubicBezTo>
              </a:path>
              <a:path w="3399" h="472">
                <a:moveTo>
                  <a:pt x="8161" y="18107"/>
                </a:moveTo>
                <a:cubicBezTo>
                  <a:pt x="8112" y="18080"/>
                  <a:pt x="8073" y="18040"/>
                  <a:pt x="8012" y="18058"/>
                </a:cubicBezTo>
                <a:cubicBezTo>
                  <a:pt x="7972" y="18078"/>
                  <a:pt x="7965" y="18087"/>
                  <a:pt x="7938" y="18083"/>
                </a:cubicBezTo>
              </a:path>
              <a:path w="3399" h="472">
                <a:moveTo>
                  <a:pt x="8161" y="18107"/>
                </a:moveTo>
                <a:cubicBezTo>
                  <a:pt x="8250" y="18116"/>
                  <a:pt x="8250" y="18121"/>
                  <a:pt x="8310" y="18182"/>
                </a:cubicBezTo>
                <a:cubicBezTo>
                  <a:pt x="8318" y="18190"/>
                  <a:pt x="8326" y="18199"/>
                  <a:pt x="8334" y="18207"/>
                </a:cubicBezTo>
              </a:path>
              <a:path w="3399" h="472">
                <a:moveTo>
                  <a:pt x="8409" y="18033"/>
                </a:moveTo>
                <a:cubicBezTo>
                  <a:pt x="8448" y="18072"/>
                  <a:pt x="8477" y="18100"/>
                  <a:pt x="8483" y="18157"/>
                </a:cubicBezTo>
                <a:cubicBezTo>
                  <a:pt x="8483" y="18165"/>
                  <a:pt x="8483" y="18174"/>
                  <a:pt x="8483" y="18182"/>
                </a:cubicBezTo>
                <a:cubicBezTo>
                  <a:pt x="8534" y="18165"/>
                  <a:pt x="8509" y="18131"/>
                  <a:pt x="8533" y="18083"/>
                </a:cubicBezTo>
                <a:cubicBezTo>
                  <a:pt x="8546" y="18057"/>
                  <a:pt x="8568" y="18011"/>
                  <a:pt x="8607" y="18033"/>
                </a:cubicBezTo>
                <a:cubicBezTo>
                  <a:pt x="8640" y="18052"/>
                  <a:pt x="8635" y="18102"/>
                  <a:pt x="8657" y="18132"/>
                </a:cubicBezTo>
                <a:cubicBezTo>
                  <a:pt x="8708" y="18115"/>
                  <a:pt x="8682" y="18082"/>
                  <a:pt x="8706" y="18033"/>
                </a:cubicBezTo>
                <a:cubicBezTo>
                  <a:pt x="8714" y="18025"/>
                  <a:pt x="8723" y="18016"/>
                  <a:pt x="8731" y="18008"/>
                </a:cubicBezTo>
                <a:cubicBezTo>
                  <a:pt x="8747" y="18013"/>
                  <a:pt x="8793" y="18031"/>
                  <a:pt x="8806" y="18058"/>
                </a:cubicBezTo>
                <a:cubicBezTo>
                  <a:pt x="8820" y="18085"/>
                  <a:pt x="8836" y="18102"/>
                  <a:pt x="8880" y="18107"/>
                </a:cubicBezTo>
                <a:cubicBezTo>
                  <a:pt x="8908" y="18110"/>
                  <a:pt x="8971" y="18061"/>
                  <a:pt x="8979" y="18033"/>
                </a:cubicBezTo>
                <a:cubicBezTo>
                  <a:pt x="8990" y="17994"/>
                  <a:pt x="8995" y="17970"/>
                  <a:pt x="9004" y="17934"/>
                </a:cubicBezTo>
                <a:cubicBezTo>
                  <a:pt x="8932" y="17934"/>
                  <a:pt x="8954" y="17966"/>
                  <a:pt x="8954" y="18033"/>
                </a:cubicBezTo>
                <a:cubicBezTo>
                  <a:pt x="8954" y="18101"/>
                  <a:pt x="8980" y="18164"/>
                  <a:pt x="9054" y="18182"/>
                </a:cubicBezTo>
                <a:cubicBezTo>
                  <a:pt x="9102" y="18194"/>
                  <a:pt x="9138" y="18155"/>
                  <a:pt x="9178" y="18132"/>
                </a:cubicBezTo>
              </a:path>
              <a:path w="3399" h="472">
                <a:moveTo>
                  <a:pt x="8359" y="17934"/>
                </a:moveTo>
                <a:lnTo>
                  <a:pt x="8359" y="17934"/>
                </a:lnTo>
                <a:lnTo>
                  <a:pt x="8359" y="17934"/>
                </a:lnTo>
              </a:path>
              <a:path w="3399" h="472">
                <a:moveTo>
                  <a:pt x="9773" y="17983"/>
                </a:moveTo>
                <a:cubicBezTo>
                  <a:pt x="9773" y="17938"/>
                  <a:pt x="9752" y="17924"/>
                  <a:pt x="9748" y="17884"/>
                </a:cubicBezTo>
                <a:cubicBezTo>
                  <a:pt x="9744" y="17849"/>
                  <a:pt x="9795" y="17803"/>
                  <a:pt x="9823" y="17785"/>
                </a:cubicBezTo>
                <a:cubicBezTo>
                  <a:pt x="9885" y="17744"/>
                  <a:pt x="9948" y="17756"/>
                  <a:pt x="9971" y="17835"/>
                </a:cubicBezTo>
                <a:cubicBezTo>
                  <a:pt x="9995" y="17917"/>
                  <a:pt x="9937" y="17982"/>
                  <a:pt x="9922" y="18058"/>
                </a:cubicBezTo>
                <a:cubicBezTo>
                  <a:pt x="9918" y="18080"/>
                  <a:pt x="9861" y="18193"/>
                  <a:pt x="9872" y="18207"/>
                </a:cubicBezTo>
                <a:cubicBezTo>
                  <a:pt x="9881" y="18218"/>
                  <a:pt x="9917" y="18241"/>
                  <a:pt x="9947" y="18231"/>
                </a:cubicBezTo>
                <a:cubicBezTo>
                  <a:pt x="9992" y="18215"/>
                  <a:pt x="10028" y="18187"/>
                  <a:pt x="10071" y="18182"/>
                </a:cubicBezTo>
                <a:cubicBezTo>
                  <a:pt x="10079" y="18182"/>
                  <a:pt x="10088" y="18182"/>
                  <a:pt x="10096" y="18182"/>
                </a:cubicBezTo>
              </a:path>
              <a:path w="3399" h="472">
                <a:moveTo>
                  <a:pt x="10244" y="18132"/>
                </a:moveTo>
                <a:cubicBezTo>
                  <a:pt x="10261" y="18132"/>
                  <a:pt x="10277" y="18132"/>
                  <a:pt x="10294" y="18132"/>
                </a:cubicBezTo>
              </a:path>
              <a:path w="3399" h="472">
                <a:moveTo>
                  <a:pt x="10468" y="17909"/>
                </a:moveTo>
                <a:cubicBezTo>
                  <a:pt x="10468" y="17884"/>
                  <a:pt x="10468" y="17876"/>
                  <a:pt x="10492" y="17884"/>
                </a:cubicBezTo>
                <a:cubicBezTo>
                  <a:pt x="10482" y="17925"/>
                  <a:pt x="10448" y="17941"/>
                  <a:pt x="10443" y="17983"/>
                </a:cubicBezTo>
                <a:cubicBezTo>
                  <a:pt x="10439" y="18018"/>
                  <a:pt x="10451" y="18071"/>
                  <a:pt x="10492" y="18083"/>
                </a:cubicBezTo>
                <a:cubicBezTo>
                  <a:pt x="10528" y="18093"/>
                  <a:pt x="10615" y="18075"/>
                  <a:pt x="10641" y="18107"/>
                </a:cubicBezTo>
                <a:cubicBezTo>
                  <a:pt x="10651" y="18119"/>
                  <a:pt x="10641" y="18190"/>
                  <a:pt x="10641" y="18207"/>
                </a:cubicBezTo>
                <a:cubicBezTo>
                  <a:pt x="10608" y="18207"/>
                  <a:pt x="10564" y="18240"/>
                  <a:pt x="10542" y="18231"/>
                </a:cubicBezTo>
                <a:cubicBezTo>
                  <a:pt x="10519" y="18209"/>
                  <a:pt x="10514" y="18201"/>
                  <a:pt x="10492" y="18207"/>
                </a:cubicBezTo>
              </a:path>
              <a:path w="3399" h="472">
                <a:moveTo>
                  <a:pt x="10740" y="17909"/>
                </a:moveTo>
                <a:cubicBezTo>
                  <a:pt x="10746" y="17873"/>
                  <a:pt x="10773" y="17827"/>
                  <a:pt x="10716" y="17859"/>
                </a:cubicBezTo>
                <a:cubicBezTo>
                  <a:pt x="10665" y="17888"/>
                  <a:pt x="10622" y="17910"/>
                  <a:pt x="10567" y="17934"/>
                </a:cubicBezTo>
              </a:path>
              <a:path w="3399" h="472">
                <a:moveTo>
                  <a:pt x="10864" y="18132"/>
                </a:moveTo>
                <a:cubicBezTo>
                  <a:pt x="10872" y="18124"/>
                  <a:pt x="10881" y="18115"/>
                  <a:pt x="10889" y="18107"/>
                </a:cubicBezTo>
                <a:cubicBezTo>
                  <a:pt x="10918" y="18145"/>
                  <a:pt x="10914" y="18158"/>
                  <a:pt x="10914" y="18207"/>
                </a:cubicBezTo>
                <a:cubicBezTo>
                  <a:pt x="10914" y="18215"/>
                  <a:pt x="10914" y="18223"/>
                  <a:pt x="10914" y="18231"/>
                </a:cubicBezTo>
                <a:cubicBezTo>
                  <a:pt x="10974" y="18231"/>
                  <a:pt x="10961" y="18222"/>
                  <a:pt x="10988" y="18182"/>
                </a:cubicBezTo>
                <a:cubicBezTo>
                  <a:pt x="11017" y="18138"/>
                  <a:pt x="11009" y="18132"/>
                  <a:pt x="11063" y="18132"/>
                </a:cubicBezTo>
                <a:cubicBezTo>
                  <a:pt x="11082" y="18132"/>
                  <a:pt x="11142" y="18182"/>
                  <a:pt x="11162" y="18157"/>
                </a:cubicBezTo>
                <a:cubicBezTo>
                  <a:pt x="11178" y="18137"/>
                  <a:pt x="11174" y="18073"/>
                  <a:pt x="11212" y="18058"/>
                </a:cubicBezTo>
                <a:cubicBezTo>
                  <a:pt x="11274" y="18034"/>
                  <a:pt x="11288" y="18093"/>
                  <a:pt x="11311" y="181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48080" y="6099120"/>
            <a:ext cx="947880" cy="277920"/>
          </a:xfrm>
          <a:custGeom>
            <a:avLst/>
            <a:gdLst/>
            <a:ahLst/>
            <a:rect l="l" t="t" r="r" b="b"/>
            <a:pathLst>
              <a:path w="2630" h="770">
                <a:moveTo>
                  <a:pt x="14709" y="16942"/>
                </a:moveTo>
                <a:cubicBezTo>
                  <a:pt x="14455" y="17014"/>
                  <a:pt x="14206" y="17098"/>
                  <a:pt x="13940" y="17115"/>
                </a:cubicBezTo>
                <a:cubicBezTo>
                  <a:pt x="13715" y="17129"/>
                  <a:pt x="13509" y="17075"/>
                  <a:pt x="13295" y="17016"/>
                </a:cubicBezTo>
                <a:cubicBezTo>
                  <a:pt x="13262" y="17008"/>
                  <a:pt x="13229" y="16999"/>
                  <a:pt x="13196" y="16991"/>
                </a:cubicBezTo>
              </a:path>
              <a:path w="2630" h="770">
                <a:moveTo>
                  <a:pt x="12254" y="17090"/>
                </a:moveTo>
                <a:cubicBezTo>
                  <a:pt x="12240" y="17063"/>
                  <a:pt x="12178" y="17121"/>
                  <a:pt x="12154" y="17165"/>
                </a:cubicBezTo>
                <a:cubicBezTo>
                  <a:pt x="12105" y="17255"/>
                  <a:pt x="12084" y="17362"/>
                  <a:pt x="12080" y="17462"/>
                </a:cubicBezTo>
                <a:cubicBezTo>
                  <a:pt x="12078" y="17516"/>
                  <a:pt x="12096" y="17678"/>
                  <a:pt x="12154" y="17711"/>
                </a:cubicBezTo>
                <a:cubicBezTo>
                  <a:pt x="12190" y="17732"/>
                  <a:pt x="12289" y="17700"/>
                  <a:pt x="12303" y="17661"/>
                </a:cubicBezTo>
                <a:cubicBezTo>
                  <a:pt x="12328" y="17591"/>
                  <a:pt x="12295" y="17534"/>
                  <a:pt x="12229" y="17512"/>
                </a:cubicBezTo>
                <a:cubicBezTo>
                  <a:pt x="12182" y="17496"/>
                  <a:pt x="12138" y="17511"/>
                  <a:pt x="12105" y="17537"/>
                </a:cubicBezTo>
              </a:path>
              <a:path w="2630" h="770">
                <a:moveTo>
                  <a:pt x="12502" y="17487"/>
                </a:moveTo>
                <a:cubicBezTo>
                  <a:pt x="12524" y="17464"/>
                  <a:pt x="12529" y="17456"/>
                  <a:pt x="12551" y="17462"/>
                </a:cubicBezTo>
                <a:cubicBezTo>
                  <a:pt x="12551" y="17525"/>
                  <a:pt x="12573" y="17552"/>
                  <a:pt x="12576" y="17611"/>
                </a:cubicBezTo>
                <a:cubicBezTo>
                  <a:pt x="12580" y="17673"/>
                  <a:pt x="12567" y="17666"/>
                  <a:pt x="12601" y="17711"/>
                </a:cubicBezTo>
                <a:cubicBezTo>
                  <a:pt x="12612" y="17654"/>
                  <a:pt x="12641" y="17562"/>
                  <a:pt x="12675" y="17512"/>
                </a:cubicBezTo>
                <a:cubicBezTo>
                  <a:pt x="12698" y="17489"/>
                  <a:pt x="12702" y="17481"/>
                  <a:pt x="12725" y="17487"/>
                </a:cubicBezTo>
                <a:cubicBezTo>
                  <a:pt x="12771" y="17546"/>
                  <a:pt x="12772" y="17602"/>
                  <a:pt x="12799" y="17661"/>
                </a:cubicBezTo>
                <a:cubicBezTo>
                  <a:pt x="12807" y="17669"/>
                  <a:pt x="12816" y="17678"/>
                  <a:pt x="12824" y="17686"/>
                </a:cubicBezTo>
                <a:cubicBezTo>
                  <a:pt x="12850" y="17677"/>
                  <a:pt x="12888" y="17630"/>
                  <a:pt x="12898" y="17587"/>
                </a:cubicBezTo>
                <a:cubicBezTo>
                  <a:pt x="12898" y="17542"/>
                  <a:pt x="12895" y="17529"/>
                  <a:pt x="12923" y="17512"/>
                </a:cubicBezTo>
                <a:cubicBezTo>
                  <a:pt x="12993" y="17530"/>
                  <a:pt x="12998" y="17595"/>
                  <a:pt x="13022" y="176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0040" y="4956120"/>
            <a:ext cx="123840" cy="160560"/>
          </a:xfrm>
          <a:custGeom>
            <a:avLst/>
            <a:gdLst/>
            <a:ahLst/>
            <a:rect l="l" t="t" r="r" b="b"/>
            <a:pathLst>
              <a:path w="348" h="447">
                <a:moveTo>
                  <a:pt x="14660" y="13891"/>
                </a:moveTo>
                <a:cubicBezTo>
                  <a:pt x="14710" y="13862"/>
                  <a:pt x="14721" y="13867"/>
                  <a:pt x="14734" y="13816"/>
                </a:cubicBezTo>
                <a:cubicBezTo>
                  <a:pt x="14718" y="13751"/>
                  <a:pt x="14651" y="13755"/>
                  <a:pt x="14585" y="13767"/>
                </a:cubicBezTo>
                <a:cubicBezTo>
                  <a:pt x="14517" y="13780"/>
                  <a:pt x="14408" y="13818"/>
                  <a:pt x="14387" y="13891"/>
                </a:cubicBezTo>
                <a:cubicBezTo>
                  <a:pt x="14360" y="13981"/>
                  <a:pt x="14463" y="14050"/>
                  <a:pt x="14536" y="14064"/>
                </a:cubicBezTo>
                <a:cubicBezTo>
                  <a:pt x="14602" y="14077"/>
                  <a:pt x="14679" y="14069"/>
                  <a:pt x="14709" y="14114"/>
                </a:cubicBezTo>
                <a:cubicBezTo>
                  <a:pt x="14694" y="14175"/>
                  <a:pt x="14625" y="14203"/>
                  <a:pt x="14560" y="14213"/>
                </a:cubicBezTo>
                <a:cubicBezTo>
                  <a:pt x="14494" y="14213"/>
                  <a:pt x="14477" y="14213"/>
                  <a:pt x="14436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91080" y="4776840"/>
            <a:ext cx="644760" cy="581040"/>
          </a:xfrm>
          <a:custGeom>
            <a:avLst/>
            <a:gdLst/>
            <a:ahLst/>
            <a:rect l="l" t="t" r="r" b="b"/>
            <a:pathLst>
              <a:path w="1787" h="1613">
                <a:moveTo>
                  <a:pt x="15404" y="13965"/>
                </a:moveTo>
                <a:cubicBezTo>
                  <a:pt x="15429" y="13965"/>
                  <a:pt x="15437" y="13965"/>
                  <a:pt x="15453" y="13965"/>
                </a:cubicBezTo>
                <a:cubicBezTo>
                  <a:pt x="15387" y="13965"/>
                  <a:pt x="15321" y="13965"/>
                  <a:pt x="15255" y="13965"/>
                </a:cubicBezTo>
              </a:path>
              <a:path w="1787" h="1613">
                <a:moveTo>
                  <a:pt x="15379" y="14064"/>
                </a:moveTo>
                <a:cubicBezTo>
                  <a:pt x="15407" y="14064"/>
                  <a:pt x="15418" y="14066"/>
                  <a:pt x="15429" y="14089"/>
                </a:cubicBezTo>
                <a:cubicBezTo>
                  <a:pt x="15392" y="14126"/>
                  <a:pt x="15358" y="14154"/>
                  <a:pt x="15304" y="14163"/>
                </a:cubicBezTo>
                <a:cubicBezTo>
                  <a:pt x="15288" y="14163"/>
                  <a:pt x="15271" y="14163"/>
                  <a:pt x="15255" y="14163"/>
                </a:cubicBezTo>
              </a:path>
              <a:path w="1787" h="1613">
                <a:moveTo>
                  <a:pt x="16421" y="13370"/>
                </a:moveTo>
                <a:cubicBezTo>
                  <a:pt x="16461" y="13343"/>
                  <a:pt x="16490" y="13332"/>
                  <a:pt x="16495" y="13295"/>
                </a:cubicBezTo>
                <a:cubicBezTo>
                  <a:pt x="16495" y="13287"/>
                  <a:pt x="16495" y="13279"/>
                  <a:pt x="16495" y="13271"/>
                </a:cubicBezTo>
                <a:cubicBezTo>
                  <a:pt x="16417" y="13290"/>
                  <a:pt x="16400" y="13374"/>
                  <a:pt x="16371" y="13444"/>
                </a:cubicBezTo>
                <a:cubicBezTo>
                  <a:pt x="16316" y="13578"/>
                  <a:pt x="16297" y="13701"/>
                  <a:pt x="16346" y="13841"/>
                </a:cubicBezTo>
                <a:cubicBezTo>
                  <a:pt x="16367" y="13900"/>
                  <a:pt x="16440" y="13951"/>
                  <a:pt x="16495" y="13891"/>
                </a:cubicBezTo>
                <a:cubicBezTo>
                  <a:pt x="16539" y="13843"/>
                  <a:pt x="16529" y="13760"/>
                  <a:pt x="16495" y="13717"/>
                </a:cubicBezTo>
                <a:cubicBezTo>
                  <a:pt x="16453" y="13665"/>
                  <a:pt x="16395" y="13696"/>
                  <a:pt x="16346" y="13717"/>
                </a:cubicBezTo>
              </a:path>
              <a:path w="1787" h="1613">
                <a:moveTo>
                  <a:pt x="16966" y="14015"/>
                </a:moveTo>
                <a:cubicBezTo>
                  <a:pt x="16991" y="14031"/>
                  <a:pt x="17016" y="14048"/>
                  <a:pt x="17041" y="14064"/>
                </a:cubicBezTo>
                <a:cubicBezTo>
                  <a:pt x="16938" y="14098"/>
                  <a:pt x="16829" y="14111"/>
                  <a:pt x="16718" y="14114"/>
                </a:cubicBezTo>
                <a:cubicBezTo>
                  <a:pt x="16574" y="14118"/>
                  <a:pt x="16438" y="14125"/>
                  <a:pt x="16297" y="14139"/>
                </a:cubicBezTo>
                <a:cubicBezTo>
                  <a:pt x="16220" y="14146"/>
                  <a:pt x="16150" y="14163"/>
                  <a:pt x="16073" y="14163"/>
                </a:cubicBezTo>
              </a:path>
              <a:path w="1787" h="1613">
                <a:moveTo>
                  <a:pt x="15825" y="14560"/>
                </a:moveTo>
                <a:cubicBezTo>
                  <a:pt x="15768" y="14579"/>
                  <a:pt x="15761" y="14588"/>
                  <a:pt x="15726" y="14585"/>
                </a:cubicBezTo>
                <a:cubicBezTo>
                  <a:pt x="15805" y="14574"/>
                  <a:pt x="15845" y="14507"/>
                  <a:pt x="15925" y="14486"/>
                </a:cubicBezTo>
                <a:cubicBezTo>
                  <a:pt x="15976" y="14473"/>
                  <a:pt x="16049" y="14482"/>
                  <a:pt x="16073" y="14536"/>
                </a:cubicBezTo>
                <a:cubicBezTo>
                  <a:pt x="16093" y="14582"/>
                  <a:pt x="15998" y="14678"/>
                  <a:pt x="15974" y="14709"/>
                </a:cubicBezTo>
                <a:cubicBezTo>
                  <a:pt x="15943" y="14749"/>
                  <a:pt x="15911" y="14788"/>
                  <a:pt x="15900" y="14833"/>
                </a:cubicBezTo>
                <a:cubicBezTo>
                  <a:pt x="15996" y="14833"/>
                  <a:pt x="16084" y="14841"/>
                  <a:pt x="16173" y="14808"/>
                </a:cubicBezTo>
              </a:path>
              <a:path w="1787" h="1613">
                <a:moveTo>
                  <a:pt x="16396" y="14709"/>
                </a:moveTo>
                <a:cubicBezTo>
                  <a:pt x="16421" y="14709"/>
                  <a:pt x="16429" y="14709"/>
                  <a:pt x="16421" y="14734"/>
                </a:cubicBezTo>
              </a:path>
              <a:path w="1787" h="1613">
                <a:moveTo>
                  <a:pt x="16669" y="14436"/>
                </a:moveTo>
                <a:cubicBezTo>
                  <a:pt x="16677" y="14420"/>
                  <a:pt x="16686" y="14403"/>
                  <a:pt x="16694" y="14387"/>
                </a:cubicBezTo>
                <a:cubicBezTo>
                  <a:pt x="16653" y="14438"/>
                  <a:pt x="16623" y="14472"/>
                  <a:pt x="16619" y="14536"/>
                </a:cubicBezTo>
                <a:cubicBezTo>
                  <a:pt x="16616" y="14587"/>
                  <a:pt x="16600" y="14675"/>
                  <a:pt x="16644" y="14709"/>
                </a:cubicBezTo>
                <a:cubicBezTo>
                  <a:pt x="16691" y="14745"/>
                  <a:pt x="16750" y="14731"/>
                  <a:pt x="16793" y="14759"/>
                </a:cubicBezTo>
                <a:cubicBezTo>
                  <a:pt x="16854" y="14799"/>
                  <a:pt x="16808" y="14836"/>
                  <a:pt x="16768" y="14858"/>
                </a:cubicBezTo>
                <a:cubicBezTo>
                  <a:pt x="16693" y="14900"/>
                  <a:pt x="16604" y="14883"/>
                  <a:pt x="16520" y="14883"/>
                </a:cubicBezTo>
                <a:cubicBezTo>
                  <a:pt x="16503" y="14883"/>
                  <a:pt x="16487" y="14883"/>
                  <a:pt x="16470" y="14883"/>
                </a:cubicBezTo>
              </a:path>
              <a:path w="1787" h="1613">
                <a:moveTo>
                  <a:pt x="16842" y="14436"/>
                </a:moveTo>
                <a:cubicBezTo>
                  <a:pt x="16957" y="14349"/>
                  <a:pt x="17012" y="14338"/>
                  <a:pt x="16892" y="14387"/>
                </a:cubicBezTo>
                <a:cubicBezTo>
                  <a:pt x="16867" y="14395"/>
                  <a:pt x="16843" y="14404"/>
                  <a:pt x="16818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02240" y="5072040"/>
            <a:ext cx="63720" cy="81000"/>
          </a:xfrm>
          <a:custGeom>
            <a:avLst/>
            <a:gdLst/>
            <a:ahLst/>
            <a:rect l="l" t="t" r="r" b="b"/>
            <a:pathLst>
              <a:path w="175" h="224">
                <a:moveTo>
                  <a:pt x="17909" y="14114"/>
                </a:moveTo>
                <a:cubicBezTo>
                  <a:pt x="17932" y="14091"/>
                  <a:pt x="17936" y="14083"/>
                  <a:pt x="17959" y="14089"/>
                </a:cubicBezTo>
                <a:cubicBezTo>
                  <a:pt x="17905" y="14102"/>
                  <a:pt x="17897" y="14134"/>
                  <a:pt x="17835" y="14139"/>
                </a:cubicBezTo>
                <a:cubicBezTo>
                  <a:pt x="17807" y="14139"/>
                  <a:pt x="17796" y="14141"/>
                  <a:pt x="17785" y="14163"/>
                </a:cubicBezTo>
              </a:path>
              <a:path w="175" h="224">
                <a:moveTo>
                  <a:pt x="17859" y="14238"/>
                </a:moveTo>
                <a:cubicBezTo>
                  <a:pt x="17903" y="14260"/>
                  <a:pt x="17915" y="14263"/>
                  <a:pt x="17934" y="14288"/>
                </a:cubicBezTo>
                <a:cubicBezTo>
                  <a:pt x="17899" y="14313"/>
                  <a:pt x="17902" y="14312"/>
                  <a:pt x="17859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8640" y="4938840"/>
            <a:ext cx="1492200" cy="276120"/>
          </a:xfrm>
          <a:custGeom>
            <a:avLst/>
            <a:gdLst/>
            <a:ahLst/>
            <a:rect l="l" t="t" r="r" b="b"/>
            <a:pathLst>
              <a:path w="4144" h="770">
                <a:moveTo>
                  <a:pt x="19050" y="13891"/>
                </a:moveTo>
                <a:cubicBezTo>
                  <a:pt x="19008" y="13877"/>
                  <a:pt x="19019" y="13851"/>
                  <a:pt x="19050" y="13816"/>
                </a:cubicBezTo>
                <a:cubicBezTo>
                  <a:pt x="19079" y="13783"/>
                  <a:pt x="19153" y="13757"/>
                  <a:pt x="19199" y="13767"/>
                </a:cubicBezTo>
                <a:cubicBezTo>
                  <a:pt x="19275" y="13783"/>
                  <a:pt x="19294" y="13876"/>
                  <a:pt x="19298" y="13940"/>
                </a:cubicBezTo>
                <a:cubicBezTo>
                  <a:pt x="19303" y="14026"/>
                  <a:pt x="19240" y="14070"/>
                  <a:pt x="19174" y="14114"/>
                </a:cubicBezTo>
                <a:cubicBezTo>
                  <a:pt x="19124" y="14148"/>
                  <a:pt x="19090" y="14154"/>
                  <a:pt x="19075" y="14213"/>
                </a:cubicBezTo>
                <a:cubicBezTo>
                  <a:pt x="19133" y="14238"/>
                  <a:pt x="19160" y="14238"/>
                  <a:pt x="19224" y="14238"/>
                </a:cubicBezTo>
                <a:cubicBezTo>
                  <a:pt x="19290" y="14238"/>
                  <a:pt x="19356" y="14238"/>
                  <a:pt x="19422" y="14238"/>
                </a:cubicBezTo>
              </a:path>
              <a:path w="4144" h="770">
                <a:moveTo>
                  <a:pt x="19645" y="14213"/>
                </a:moveTo>
                <a:cubicBezTo>
                  <a:pt x="19679" y="14179"/>
                  <a:pt x="19722" y="14217"/>
                  <a:pt x="19769" y="14238"/>
                </a:cubicBezTo>
              </a:path>
              <a:path w="4144" h="770">
                <a:moveTo>
                  <a:pt x="20017" y="13891"/>
                </a:moveTo>
                <a:cubicBezTo>
                  <a:pt x="20058" y="13871"/>
                  <a:pt x="20064" y="13862"/>
                  <a:pt x="20092" y="13866"/>
                </a:cubicBezTo>
                <a:cubicBezTo>
                  <a:pt x="20092" y="13919"/>
                  <a:pt x="20091" y="13939"/>
                  <a:pt x="20067" y="13990"/>
                </a:cubicBezTo>
                <a:cubicBezTo>
                  <a:pt x="20038" y="14051"/>
                  <a:pt x="20042" y="14096"/>
                  <a:pt x="20042" y="14163"/>
                </a:cubicBezTo>
                <a:cubicBezTo>
                  <a:pt x="20042" y="14225"/>
                  <a:pt x="20117" y="14227"/>
                  <a:pt x="20166" y="14213"/>
                </a:cubicBezTo>
                <a:cubicBezTo>
                  <a:pt x="20244" y="14191"/>
                  <a:pt x="20304" y="14188"/>
                  <a:pt x="20389" y="14188"/>
                </a:cubicBezTo>
                <a:cubicBezTo>
                  <a:pt x="20443" y="14188"/>
                  <a:pt x="20523" y="14168"/>
                  <a:pt x="20538" y="14213"/>
                </a:cubicBezTo>
              </a:path>
              <a:path w="4144" h="770">
                <a:moveTo>
                  <a:pt x="20315" y="14039"/>
                </a:moveTo>
                <a:cubicBezTo>
                  <a:pt x="20298" y="14031"/>
                  <a:pt x="20282" y="14023"/>
                  <a:pt x="20265" y="14015"/>
                </a:cubicBezTo>
                <a:cubicBezTo>
                  <a:pt x="20251" y="14086"/>
                  <a:pt x="20241" y="14136"/>
                  <a:pt x="20241" y="14213"/>
                </a:cubicBezTo>
                <a:cubicBezTo>
                  <a:pt x="20241" y="14287"/>
                  <a:pt x="20241" y="14362"/>
                  <a:pt x="20241" y="14436"/>
                </a:cubicBezTo>
              </a:path>
              <a:path w="4144" h="770">
                <a:moveTo>
                  <a:pt x="20935" y="14139"/>
                </a:moveTo>
                <a:cubicBezTo>
                  <a:pt x="20935" y="14070"/>
                  <a:pt x="20938" y="14180"/>
                  <a:pt x="20935" y="14188"/>
                </a:cubicBezTo>
                <a:cubicBezTo>
                  <a:pt x="20915" y="14244"/>
                  <a:pt x="20910" y="14278"/>
                  <a:pt x="20910" y="14337"/>
                </a:cubicBezTo>
                <a:cubicBezTo>
                  <a:pt x="20916" y="14313"/>
                  <a:pt x="20949" y="14201"/>
                  <a:pt x="20960" y="14188"/>
                </a:cubicBezTo>
                <a:cubicBezTo>
                  <a:pt x="20988" y="14154"/>
                  <a:pt x="21028" y="14128"/>
                  <a:pt x="21059" y="14089"/>
                </a:cubicBezTo>
                <a:cubicBezTo>
                  <a:pt x="21131" y="14107"/>
                  <a:pt x="21108" y="14134"/>
                  <a:pt x="21134" y="14188"/>
                </a:cubicBezTo>
                <a:cubicBezTo>
                  <a:pt x="21150" y="14221"/>
                  <a:pt x="21179" y="14231"/>
                  <a:pt x="21208" y="14238"/>
                </a:cubicBezTo>
                <a:cubicBezTo>
                  <a:pt x="21236" y="14203"/>
                  <a:pt x="21263" y="14134"/>
                  <a:pt x="21307" y="14114"/>
                </a:cubicBezTo>
                <a:cubicBezTo>
                  <a:pt x="21375" y="14084"/>
                  <a:pt x="21370" y="14154"/>
                  <a:pt x="21382" y="14188"/>
                </a:cubicBezTo>
                <a:cubicBezTo>
                  <a:pt x="21404" y="14251"/>
                  <a:pt x="21406" y="14294"/>
                  <a:pt x="21406" y="14362"/>
                </a:cubicBezTo>
              </a:path>
              <a:path w="4144" h="770">
                <a:moveTo>
                  <a:pt x="22051" y="13767"/>
                </a:moveTo>
                <a:cubicBezTo>
                  <a:pt x="22059" y="13750"/>
                  <a:pt x="22068" y="13734"/>
                  <a:pt x="22076" y="13717"/>
                </a:cubicBezTo>
                <a:cubicBezTo>
                  <a:pt x="22056" y="13816"/>
                  <a:pt x="21987" y="13862"/>
                  <a:pt x="21927" y="13940"/>
                </a:cubicBezTo>
                <a:cubicBezTo>
                  <a:pt x="21839" y="14054"/>
                  <a:pt x="21760" y="14178"/>
                  <a:pt x="21704" y="14312"/>
                </a:cubicBezTo>
                <a:cubicBezTo>
                  <a:pt x="21678" y="14373"/>
                  <a:pt x="21677" y="14426"/>
                  <a:pt x="21654" y="14486"/>
                </a:cubicBezTo>
              </a:path>
              <a:path w="4144" h="770">
                <a:moveTo>
                  <a:pt x="21977" y="14188"/>
                </a:moveTo>
                <a:cubicBezTo>
                  <a:pt x="22017" y="14201"/>
                  <a:pt x="22002" y="14237"/>
                  <a:pt x="22002" y="14288"/>
                </a:cubicBezTo>
                <a:cubicBezTo>
                  <a:pt x="22002" y="14321"/>
                  <a:pt x="22002" y="14354"/>
                  <a:pt x="22002" y="14387"/>
                </a:cubicBezTo>
                <a:cubicBezTo>
                  <a:pt x="22002" y="14331"/>
                  <a:pt x="22024" y="14314"/>
                  <a:pt x="22051" y="14263"/>
                </a:cubicBezTo>
                <a:cubicBezTo>
                  <a:pt x="22070" y="14227"/>
                  <a:pt x="22120" y="14157"/>
                  <a:pt x="22175" y="14188"/>
                </a:cubicBezTo>
                <a:cubicBezTo>
                  <a:pt x="22208" y="14207"/>
                  <a:pt x="22204" y="14274"/>
                  <a:pt x="22225" y="14288"/>
                </a:cubicBezTo>
                <a:cubicBezTo>
                  <a:pt x="22233" y="14288"/>
                  <a:pt x="22242" y="14288"/>
                  <a:pt x="22250" y="14288"/>
                </a:cubicBezTo>
                <a:cubicBezTo>
                  <a:pt x="22278" y="14251"/>
                  <a:pt x="22288" y="14224"/>
                  <a:pt x="22324" y="14188"/>
                </a:cubicBezTo>
                <a:cubicBezTo>
                  <a:pt x="22376" y="14136"/>
                  <a:pt x="22375" y="14176"/>
                  <a:pt x="22399" y="14213"/>
                </a:cubicBezTo>
                <a:cubicBezTo>
                  <a:pt x="22414" y="14237"/>
                  <a:pt x="22458" y="14327"/>
                  <a:pt x="22473" y="14337"/>
                </a:cubicBezTo>
                <a:cubicBezTo>
                  <a:pt x="22481" y="14337"/>
                  <a:pt x="22490" y="14337"/>
                  <a:pt x="22498" y="14337"/>
                </a:cubicBezTo>
              </a:path>
              <a:path w="4144" h="770">
                <a:moveTo>
                  <a:pt x="22597" y="14238"/>
                </a:moveTo>
                <a:cubicBezTo>
                  <a:pt x="22636" y="14209"/>
                  <a:pt x="22667" y="14200"/>
                  <a:pt x="22671" y="14263"/>
                </a:cubicBezTo>
                <a:cubicBezTo>
                  <a:pt x="22671" y="14304"/>
                  <a:pt x="22671" y="14312"/>
                  <a:pt x="22671" y="14337"/>
                </a:cubicBezTo>
              </a:path>
              <a:path w="4144" h="770">
                <a:moveTo>
                  <a:pt x="22721" y="14139"/>
                </a:moveTo>
                <a:cubicBezTo>
                  <a:pt x="22738" y="14064"/>
                  <a:pt x="22727" y="14007"/>
                  <a:pt x="22796" y="13990"/>
                </a:cubicBezTo>
              </a:path>
              <a:path w="4144" h="770">
                <a:moveTo>
                  <a:pt x="22820" y="14139"/>
                </a:moveTo>
                <a:cubicBezTo>
                  <a:pt x="22820" y="14207"/>
                  <a:pt x="22806" y="14261"/>
                  <a:pt x="22845" y="14312"/>
                </a:cubicBezTo>
                <a:cubicBezTo>
                  <a:pt x="22924" y="14281"/>
                  <a:pt x="22924" y="14210"/>
                  <a:pt x="22994" y="14163"/>
                </a:cubicBezTo>
                <a:cubicBezTo>
                  <a:pt x="23055" y="14122"/>
                  <a:pt x="23149" y="14286"/>
                  <a:pt x="23168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57280" y="6153120"/>
            <a:ext cx="36720" cy="3492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573" y="17115"/>
                </a:moveTo>
                <a:cubicBezTo>
                  <a:pt x="6585" y="17080"/>
                  <a:pt x="6580" y="17090"/>
                  <a:pt x="6623" y="17090"/>
                </a:cubicBezTo>
                <a:cubicBezTo>
                  <a:pt x="6623" y="17129"/>
                  <a:pt x="6639" y="17160"/>
                  <a:pt x="6598" y="17165"/>
                </a:cubicBezTo>
                <a:cubicBezTo>
                  <a:pt x="6557" y="17170"/>
                  <a:pt x="6558" y="17171"/>
                  <a:pt x="6548" y="17140"/>
                </a:cubicBezTo>
                <a:cubicBezTo>
                  <a:pt x="6586" y="17127"/>
                  <a:pt x="6569" y="17115"/>
                  <a:pt x="6623" y="17115"/>
                </a:cubicBezTo>
                <a:cubicBezTo>
                  <a:pt x="6631" y="17115"/>
                  <a:pt x="6640" y="17115"/>
                  <a:pt x="6648" y="17115"/>
                </a:cubicBezTo>
                <a:cubicBezTo>
                  <a:pt x="6648" y="17161"/>
                  <a:pt x="6650" y="17184"/>
                  <a:pt x="6598" y="17190"/>
                </a:cubicBezTo>
                <a:cubicBezTo>
                  <a:pt x="6545" y="17196"/>
                  <a:pt x="6548" y="17188"/>
                  <a:pt x="6548" y="17140"/>
                </a:cubicBezTo>
                <a:cubicBezTo>
                  <a:pt x="6548" y="17098"/>
                  <a:pt x="6588" y="17115"/>
                  <a:pt x="6623" y="17115"/>
                </a:cubicBezTo>
                <a:cubicBezTo>
                  <a:pt x="6623" y="17158"/>
                  <a:pt x="6633" y="17153"/>
                  <a:pt x="6598" y="171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5924" t="25362" r="10746" b="19796"/>
          <a:stretch/>
        </p:blipFill>
        <p:spPr>
          <a:xfrm>
            <a:off x="0" y="0"/>
            <a:ext cx="6477120" cy="5867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106960" y="1177920"/>
            <a:ext cx="108000" cy="135000"/>
          </a:xfrm>
          <a:custGeom>
            <a:avLst/>
            <a:gdLst/>
            <a:ahLst/>
            <a:rect l="l" t="t" r="r" b="b"/>
            <a:pathLst>
              <a:path w="299" h="373">
                <a:moveTo>
                  <a:pt x="14188" y="3497"/>
                </a:moveTo>
                <a:cubicBezTo>
                  <a:pt x="14188" y="3466"/>
                  <a:pt x="14196" y="3431"/>
                  <a:pt x="14213" y="3423"/>
                </a:cubicBezTo>
                <a:cubicBezTo>
                  <a:pt x="14250" y="3404"/>
                  <a:pt x="14274" y="3373"/>
                  <a:pt x="14312" y="3349"/>
                </a:cubicBezTo>
                <a:cubicBezTo>
                  <a:pt x="14344" y="3329"/>
                  <a:pt x="14404" y="3289"/>
                  <a:pt x="14436" y="3274"/>
                </a:cubicBezTo>
                <a:cubicBezTo>
                  <a:pt x="14516" y="3238"/>
                  <a:pt x="14436" y="3274"/>
                  <a:pt x="14436" y="3274"/>
                </a:cubicBezTo>
                <a:cubicBezTo>
                  <a:pt x="14416" y="3300"/>
                  <a:pt x="14396" y="3301"/>
                  <a:pt x="14362" y="3324"/>
                </a:cubicBezTo>
                <a:cubicBezTo>
                  <a:pt x="14327" y="3347"/>
                  <a:pt x="14292" y="3372"/>
                  <a:pt x="14263" y="3398"/>
                </a:cubicBezTo>
                <a:cubicBezTo>
                  <a:pt x="14221" y="3435"/>
                  <a:pt x="14213" y="3413"/>
                  <a:pt x="14213" y="3473"/>
                </a:cubicBezTo>
                <a:cubicBezTo>
                  <a:pt x="14213" y="3527"/>
                  <a:pt x="14258" y="3526"/>
                  <a:pt x="14288" y="3547"/>
                </a:cubicBezTo>
                <a:cubicBezTo>
                  <a:pt x="14326" y="3573"/>
                  <a:pt x="14379" y="3598"/>
                  <a:pt x="14412" y="3621"/>
                </a:cubicBezTo>
                <a:cubicBezTo>
                  <a:pt x="14420" y="3629"/>
                  <a:pt x="14428" y="3638"/>
                  <a:pt x="14436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97760" y="1330200"/>
            <a:ext cx="214200" cy="152640"/>
          </a:xfrm>
          <a:custGeom>
            <a:avLst/>
            <a:gdLst/>
            <a:ahLst/>
            <a:rect l="l" t="t" r="r" b="b"/>
            <a:pathLst>
              <a:path w="597" h="423">
                <a:moveTo>
                  <a:pt x="17214" y="3696"/>
                </a:moveTo>
                <a:cubicBezTo>
                  <a:pt x="17214" y="3820"/>
                  <a:pt x="17214" y="3944"/>
                  <a:pt x="17214" y="4068"/>
                </a:cubicBezTo>
              </a:path>
              <a:path w="597" h="423">
                <a:moveTo>
                  <a:pt x="17388" y="3820"/>
                </a:moveTo>
                <a:cubicBezTo>
                  <a:pt x="17388" y="3768"/>
                  <a:pt x="17393" y="3771"/>
                  <a:pt x="17438" y="3746"/>
                </a:cubicBezTo>
                <a:cubicBezTo>
                  <a:pt x="17496" y="3713"/>
                  <a:pt x="17545" y="3721"/>
                  <a:pt x="17611" y="3721"/>
                </a:cubicBezTo>
                <a:cubicBezTo>
                  <a:pt x="17660" y="3721"/>
                  <a:pt x="17698" y="3770"/>
                  <a:pt x="17686" y="3820"/>
                </a:cubicBezTo>
                <a:cubicBezTo>
                  <a:pt x="17670" y="3887"/>
                  <a:pt x="17598" y="3916"/>
                  <a:pt x="17562" y="3969"/>
                </a:cubicBezTo>
                <a:cubicBezTo>
                  <a:pt x="17527" y="4021"/>
                  <a:pt x="17494" y="4045"/>
                  <a:pt x="17537" y="4093"/>
                </a:cubicBezTo>
                <a:cubicBezTo>
                  <a:pt x="17563" y="4123"/>
                  <a:pt x="17621" y="4130"/>
                  <a:pt x="17661" y="4118"/>
                </a:cubicBezTo>
                <a:cubicBezTo>
                  <a:pt x="17715" y="4102"/>
                  <a:pt x="17729" y="4093"/>
                  <a:pt x="17785" y="4093"/>
                </a:cubicBezTo>
                <a:cubicBezTo>
                  <a:pt x="17793" y="4093"/>
                  <a:pt x="17802" y="4093"/>
                  <a:pt x="17810" y="40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10120" y="561960"/>
            <a:ext cx="2133720" cy="581040"/>
          </a:xfrm>
          <a:custGeom>
            <a:avLst/>
            <a:gdLst/>
            <a:ahLst/>
            <a:rect l="l" t="t" r="r" b="b"/>
            <a:pathLst>
              <a:path w="5930" h="1613">
                <a:moveTo>
                  <a:pt x="19372" y="2952"/>
                </a:moveTo>
                <a:cubicBezTo>
                  <a:pt x="19388" y="2983"/>
                  <a:pt x="19381" y="2971"/>
                  <a:pt x="19397" y="3001"/>
                </a:cubicBezTo>
                <a:cubicBezTo>
                  <a:pt x="19363" y="2967"/>
                  <a:pt x="19324" y="2900"/>
                  <a:pt x="19298" y="2877"/>
                </a:cubicBezTo>
                <a:cubicBezTo>
                  <a:pt x="19242" y="2826"/>
                  <a:pt x="19204" y="2784"/>
                  <a:pt x="19149" y="2729"/>
                </a:cubicBezTo>
                <a:cubicBezTo>
                  <a:pt x="19093" y="2673"/>
                  <a:pt x="19054" y="2612"/>
                  <a:pt x="19000" y="2555"/>
                </a:cubicBezTo>
                <a:cubicBezTo>
                  <a:pt x="18930" y="2482"/>
                  <a:pt x="18866" y="2405"/>
                  <a:pt x="18802" y="2332"/>
                </a:cubicBezTo>
                <a:cubicBezTo>
                  <a:pt x="18750" y="2273"/>
                  <a:pt x="18697" y="2222"/>
                  <a:pt x="18653" y="2158"/>
                </a:cubicBezTo>
                <a:cubicBezTo>
                  <a:pt x="18611" y="2098"/>
                  <a:pt x="18573" y="2043"/>
                  <a:pt x="18529" y="1984"/>
                </a:cubicBezTo>
                <a:cubicBezTo>
                  <a:pt x="18487" y="1929"/>
                  <a:pt x="18450" y="1863"/>
                  <a:pt x="18405" y="1811"/>
                </a:cubicBezTo>
                <a:cubicBezTo>
                  <a:pt x="18364" y="1764"/>
                  <a:pt x="18306" y="1730"/>
                  <a:pt x="18256" y="1687"/>
                </a:cubicBezTo>
                <a:cubicBezTo>
                  <a:pt x="18205" y="1643"/>
                  <a:pt x="18169" y="1582"/>
                  <a:pt x="18107" y="1563"/>
                </a:cubicBezTo>
                <a:cubicBezTo>
                  <a:pt x="18060" y="1549"/>
                  <a:pt x="18018" y="1568"/>
                  <a:pt x="17983" y="1588"/>
                </a:cubicBezTo>
                <a:cubicBezTo>
                  <a:pt x="17938" y="1614"/>
                  <a:pt x="17906" y="1635"/>
                  <a:pt x="17859" y="1662"/>
                </a:cubicBezTo>
                <a:cubicBezTo>
                  <a:pt x="17803" y="1694"/>
                  <a:pt x="17735" y="1744"/>
                  <a:pt x="17686" y="1786"/>
                </a:cubicBezTo>
                <a:cubicBezTo>
                  <a:pt x="17627" y="1837"/>
                  <a:pt x="17573" y="1888"/>
                  <a:pt x="17512" y="1935"/>
                </a:cubicBezTo>
                <a:cubicBezTo>
                  <a:pt x="17450" y="1982"/>
                  <a:pt x="17375" y="2011"/>
                  <a:pt x="17314" y="2059"/>
                </a:cubicBezTo>
                <a:cubicBezTo>
                  <a:pt x="17272" y="2092"/>
                  <a:pt x="17229" y="2123"/>
                  <a:pt x="17190" y="2158"/>
                </a:cubicBezTo>
                <a:cubicBezTo>
                  <a:pt x="17123" y="2217"/>
                  <a:pt x="17056" y="2276"/>
                  <a:pt x="16991" y="2332"/>
                </a:cubicBezTo>
                <a:cubicBezTo>
                  <a:pt x="16945" y="2372"/>
                  <a:pt x="16915" y="2371"/>
                  <a:pt x="16867" y="2406"/>
                </a:cubicBezTo>
                <a:cubicBezTo>
                  <a:pt x="16815" y="2444"/>
                  <a:pt x="16771" y="2493"/>
                  <a:pt x="16718" y="2530"/>
                </a:cubicBezTo>
                <a:cubicBezTo>
                  <a:pt x="16687" y="2552"/>
                  <a:pt x="16634" y="2585"/>
                  <a:pt x="16594" y="2604"/>
                </a:cubicBezTo>
                <a:cubicBezTo>
                  <a:pt x="16533" y="2633"/>
                  <a:pt x="16480" y="2664"/>
                  <a:pt x="16421" y="2704"/>
                </a:cubicBezTo>
              </a:path>
              <a:path w="5930" h="1613">
                <a:moveTo>
                  <a:pt x="15974" y="3076"/>
                </a:moveTo>
                <a:cubicBezTo>
                  <a:pt x="15949" y="3109"/>
                  <a:pt x="15935" y="3135"/>
                  <a:pt x="15925" y="3175"/>
                </a:cubicBezTo>
              </a:path>
              <a:path w="5930" h="1613">
                <a:moveTo>
                  <a:pt x="16520" y="2604"/>
                </a:moveTo>
                <a:cubicBezTo>
                  <a:pt x="16528" y="2604"/>
                  <a:pt x="16537" y="2604"/>
                  <a:pt x="16545" y="2604"/>
                </a:cubicBezTo>
                <a:cubicBezTo>
                  <a:pt x="16532" y="2643"/>
                  <a:pt x="16505" y="2630"/>
                  <a:pt x="16470" y="2654"/>
                </a:cubicBezTo>
                <a:cubicBezTo>
                  <a:pt x="16431" y="2680"/>
                  <a:pt x="16432" y="2736"/>
                  <a:pt x="16396" y="2753"/>
                </a:cubicBezTo>
                <a:cubicBezTo>
                  <a:pt x="16357" y="2772"/>
                  <a:pt x="16332" y="2792"/>
                  <a:pt x="16297" y="2828"/>
                </a:cubicBezTo>
                <a:cubicBezTo>
                  <a:pt x="16241" y="2885"/>
                  <a:pt x="16186" y="2931"/>
                  <a:pt x="16123" y="2977"/>
                </a:cubicBezTo>
                <a:cubicBezTo>
                  <a:pt x="16081" y="3008"/>
                  <a:pt x="16079" y="3041"/>
                  <a:pt x="16049" y="3076"/>
                </a:cubicBezTo>
                <a:cubicBezTo>
                  <a:pt x="16041" y="3084"/>
                  <a:pt x="16032" y="3093"/>
                  <a:pt x="16024" y="3101"/>
                </a:cubicBezTo>
              </a:path>
              <a:path w="5930" h="1613">
                <a:moveTo>
                  <a:pt x="18331" y="1836"/>
                </a:moveTo>
                <a:cubicBezTo>
                  <a:pt x="18306" y="1836"/>
                  <a:pt x="18298" y="1836"/>
                  <a:pt x="18281" y="1836"/>
                </a:cubicBezTo>
                <a:cubicBezTo>
                  <a:pt x="18276" y="1852"/>
                  <a:pt x="18257" y="1896"/>
                  <a:pt x="18231" y="1910"/>
                </a:cubicBezTo>
                <a:cubicBezTo>
                  <a:pt x="18223" y="1910"/>
                  <a:pt x="18215" y="1910"/>
                  <a:pt x="18207" y="1910"/>
                </a:cubicBezTo>
                <a:cubicBezTo>
                  <a:pt x="18196" y="1955"/>
                  <a:pt x="18178" y="1973"/>
                  <a:pt x="18132" y="1984"/>
                </a:cubicBezTo>
                <a:cubicBezTo>
                  <a:pt x="18121" y="2029"/>
                  <a:pt x="18103" y="2048"/>
                  <a:pt x="18058" y="2059"/>
                </a:cubicBezTo>
                <a:cubicBezTo>
                  <a:pt x="18046" y="2094"/>
                  <a:pt x="18051" y="2084"/>
                  <a:pt x="18008" y="2084"/>
                </a:cubicBezTo>
                <a:cubicBezTo>
                  <a:pt x="17999" y="2111"/>
                  <a:pt x="17957" y="2130"/>
                  <a:pt x="17934" y="2084"/>
                </a:cubicBezTo>
                <a:cubicBezTo>
                  <a:pt x="17934" y="2076"/>
                  <a:pt x="17934" y="2067"/>
                  <a:pt x="17934" y="2059"/>
                </a:cubicBezTo>
                <a:cubicBezTo>
                  <a:pt x="17881" y="2046"/>
                  <a:pt x="17876" y="2004"/>
                  <a:pt x="17835" y="1960"/>
                </a:cubicBezTo>
                <a:cubicBezTo>
                  <a:pt x="17790" y="1911"/>
                  <a:pt x="17740" y="1897"/>
                  <a:pt x="17686" y="1860"/>
                </a:cubicBezTo>
                <a:cubicBezTo>
                  <a:pt x="17647" y="1833"/>
                  <a:pt x="17596" y="1808"/>
                  <a:pt x="17562" y="1786"/>
                </a:cubicBezTo>
                <a:cubicBezTo>
                  <a:pt x="17554" y="1778"/>
                  <a:pt x="17545" y="1769"/>
                  <a:pt x="17537" y="1761"/>
                </a:cubicBezTo>
              </a:path>
              <a:path w="5930" h="1613">
                <a:moveTo>
                  <a:pt x="19298" y="3026"/>
                </a:moveTo>
                <a:cubicBezTo>
                  <a:pt x="19280" y="2990"/>
                  <a:pt x="19287" y="2984"/>
                  <a:pt x="19248" y="2977"/>
                </a:cubicBezTo>
                <a:cubicBezTo>
                  <a:pt x="19133" y="2956"/>
                  <a:pt x="19008" y="2991"/>
                  <a:pt x="18901" y="3001"/>
                </a:cubicBezTo>
                <a:cubicBezTo>
                  <a:pt x="18827" y="3008"/>
                  <a:pt x="18773" y="2982"/>
                  <a:pt x="18703" y="2977"/>
                </a:cubicBezTo>
                <a:cubicBezTo>
                  <a:pt x="18586" y="2969"/>
                  <a:pt x="18469" y="2962"/>
                  <a:pt x="18355" y="2952"/>
                </a:cubicBezTo>
                <a:cubicBezTo>
                  <a:pt x="18291" y="2946"/>
                  <a:pt x="18208" y="2932"/>
                  <a:pt x="18157" y="2927"/>
                </a:cubicBezTo>
                <a:cubicBezTo>
                  <a:pt x="18085" y="2920"/>
                  <a:pt x="18050" y="2925"/>
                  <a:pt x="17983" y="2902"/>
                </a:cubicBezTo>
                <a:cubicBezTo>
                  <a:pt x="17932" y="2885"/>
                  <a:pt x="17889" y="2889"/>
                  <a:pt x="17835" y="2877"/>
                </a:cubicBezTo>
                <a:cubicBezTo>
                  <a:pt x="17792" y="2868"/>
                  <a:pt x="17756" y="2857"/>
                  <a:pt x="17711" y="2853"/>
                </a:cubicBezTo>
                <a:cubicBezTo>
                  <a:pt x="17622" y="2845"/>
                  <a:pt x="17536" y="2868"/>
                  <a:pt x="17462" y="2877"/>
                </a:cubicBezTo>
                <a:cubicBezTo>
                  <a:pt x="17336" y="2892"/>
                  <a:pt x="17201" y="2865"/>
                  <a:pt x="17090" y="2853"/>
                </a:cubicBezTo>
                <a:cubicBezTo>
                  <a:pt x="17007" y="2844"/>
                  <a:pt x="16939" y="2850"/>
                  <a:pt x="16867" y="2828"/>
                </a:cubicBezTo>
                <a:cubicBezTo>
                  <a:pt x="16813" y="2812"/>
                  <a:pt x="16778" y="2805"/>
                  <a:pt x="16718" y="2803"/>
                </a:cubicBezTo>
                <a:cubicBezTo>
                  <a:pt x="16527" y="2797"/>
                  <a:pt x="16269" y="2771"/>
                  <a:pt x="16098" y="2828"/>
                </a:cubicBezTo>
              </a:path>
              <a:path w="5930" h="1613">
                <a:moveTo>
                  <a:pt x="16073" y="1935"/>
                </a:moveTo>
                <a:cubicBezTo>
                  <a:pt x="16062" y="1901"/>
                  <a:pt x="16034" y="1905"/>
                  <a:pt x="16024" y="1885"/>
                </a:cubicBezTo>
                <a:cubicBezTo>
                  <a:pt x="15999" y="1835"/>
                  <a:pt x="16051" y="1826"/>
                  <a:pt x="16073" y="1811"/>
                </a:cubicBezTo>
                <a:cubicBezTo>
                  <a:pt x="16127" y="1774"/>
                  <a:pt x="16145" y="1790"/>
                  <a:pt x="16197" y="1836"/>
                </a:cubicBezTo>
                <a:cubicBezTo>
                  <a:pt x="16236" y="1871"/>
                  <a:pt x="16243" y="1957"/>
                  <a:pt x="16247" y="2009"/>
                </a:cubicBezTo>
                <a:cubicBezTo>
                  <a:pt x="16250" y="2051"/>
                  <a:pt x="16209" y="2080"/>
                  <a:pt x="16173" y="2084"/>
                </a:cubicBezTo>
                <a:cubicBezTo>
                  <a:pt x="16149" y="2087"/>
                  <a:pt x="16122" y="2084"/>
                  <a:pt x="16098" y="2084"/>
                </a:cubicBezTo>
              </a:path>
              <a:path w="5930" h="1613">
                <a:moveTo>
                  <a:pt x="16272" y="1935"/>
                </a:moveTo>
                <a:cubicBezTo>
                  <a:pt x="16311" y="1895"/>
                  <a:pt x="16358" y="1862"/>
                  <a:pt x="16371" y="1811"/>
                </a:cubicBezTo>
                <a:cubicBezTo>
                  <a:pt x="16326" y="1822"/>
                  <a:pt x="16284" y="1857"/>
                  <a:pt x="16272" y="1910"/>
                </a:cubicBezTo>
                <a:cubicBezTo>
                  <a:pt x="16257" y="1974"/>
                  <a:pt x="16310" y="2066"/>
                  <a:pt x="16371" y="2084"/>
                </a:cubicBezTo>
                <a:cubicBezTo>
                  <a:pt x="16388" y="2084"/>
                  <a:pt x="16404" y="2084"/>
                  <a:pt x="16421" y="2084"/>
                </a:cubicBezTo>
              </a:path>
              <a:path w="5930" h="1613">
                <a:moveTo>
                  <a:pt x="19273" y="1885"/>
                </a:moveTo>
                <a:cubicBezTo>
                  <a:pt x="19273" y="1839"/>
                  <a:pt x="19272" y="1817"/>
                  <a:pt x="19323" y="1811"/>
                </a:cubicBezTo>
                <a:cubicBezTo>
                  <a:pt x="19366" y="1806"/>
                  <a:pt x="19418" y="1799"/>
                  <a:pt x="19447" y="1836"/>
                </a:cubicBezTo>
                <a:cubicBezTo>
                  <a:pt x="19482" y="1881"/>
                  <a:pt x="19518" y="1950"/>
                  <a:pt x="19496" y="2009"/>
                </a:cubicBezTo>
                <a:cubicBezTo>
                  <a:pt x="19478" y="2058"/>
                  <a:pt x="19388" y="2081"/>
                  <a:pt x="19348" y="2084"/>
                </a:cubicBezTo>
                <a:cubicBezTo>
                  <a:pt x="19306" y="2088"/>
                  <a:pt x="19306" y="2083"/>
                  <a:pt x="19273" y="2059"/>
                </a:cubicBezTo>
              </a:path>
              <a:path w="5930" h="1613">
                <a:moveTo>
                  <a:pt x="19645" y="1811"/>
                </a:moveTo>
                <a:cubicBezTo>
                  <a:pt x="19689" y="1789"/>
                  <a:pt x="19701" y="1786"/>
                  <a:pt x="19720" y="1761"/>
                </a:cubicBezTo>
                <a:cubicBezTo>
                  <a:pt x="19645" y="1793"/>
                  <a:pt x="19623" y="1798"/>
                  <a:pt x="19571" y="1860"/>
                </a:cubicBezTo>
                <a:cubicBezTo>
                  <a:pt x="19517" y="1925"/>
                  <a:pt x="19561" y="1948"/>
                  <a:pt x="19621" y="1984"/>
                </a:cubicBezTo>
                <a:cubicBezTo>
                  <a:pt x="19686" y="2023"/>
                  <a:pt x="19736" y="2014"/>
                  <a:pt x="19794" y="1984"/>
                </a:cubicBezTo>
                <a:cubicBezTo>
                  <a:pt x="19811" y="1976"/>
                  <a:pt x="19827" y="1968"/>
                  <a:pt x="19844" y="1960"/>
                </a:cubicBezTo>
              </a:path>
              <a:path w="5930" h="1613">
                <a:moveTo>
                  <a:pt x="16073" y="2853"/>
                </a:moveTo>
                <a:cubicBezTo>
                  <a:pt x="15984" y="2853"/>
                  <a:pt x="15908" y="2864"/>
                  <a:pt x="15825" y="2877"/>
                </a:cubicBezTo>
                <a:cubicBezTo>
                  <a:pt x="15759" y="2888"/>
                  <a:pt x="15690" y="2891"/>
                  <a:pt x="15627" y="2902"/>
                </a:cubicBezTo>
                <a:cubicBezTo>
                  <a:pt x="15455" y="2931"/>
                  <a:pt x="15249" y="2901"/>
                  <a:pt x="15081" y="2877"/>
                </a:cubicBezTo>
                <a:cubicBezTo>
                  <a:pt x="14869" y="2846"/>
                  <a:pt x="14637" y="2892"/>
                  <a:pt x="14436" y="2853"/>
                </a:cubicBezTo>
                <a:cubicBezTo>
                  <a:pt x="14386" y="2843"/>
                  <a:pt x="14337" y="2843"/>
                  <a:pt x="14288" y="2828"/>
                </a:cubicBezTo>
                <a:cubicBezTo>
                  <a:pt x="14197" y="2800"/>
                  <a:pt x="14198" y="2817"/>
                  <a:pt x="14114" y="2828"/>
                </a:cubicBezTo>
                <a:cubicBezTo>
                  <a:pt x="14047" y="2836"/>
                  <a:pt x="14015" y="2813"/>
                  <a:pt x="13965" y="2803"/>
                </a:cubicBezTo>
                <a:cubicBezTo>
                  <a:pt x="13940" y="2803"/>
                  <a:pt x="13932" y="2803"/>
                  <a:pt x="13915" y="2803"/>
                </a:cubicBezTo>
              </a:path>
              <a:path w="5930" h="1613">
                <a:moveTo>
                  <a:pt x="14734" y="2456"/>
                </a:moveTo>
                <a:cubicBezTo>
                  <a:pt x="14747" y="2418"/>
                  <a:pt x="14763" y="2431"/>
                  <a:pt x="14808" y="2431"/>
                </a:cubicBezTo>
                <a:cubicBezTo>
                  <a:pt x="14866" y="2431"/>
                  <a:pt x="14912" y="2421"/>
                  <a:pt x="14957" y="2456"/>
                </a:cubicBezTo>
                <a:cubicBezTo>
                  <a:pt x="14997" y="2488"/>
                  <a:pt x="15025" y="2526"/>
                  <a:pt x="15007" y="2580"/>
                </a:cubicBezTo>
                <a:cubicBezTo>
                  <a:pt x="14987" y="2641"/>
                  <a:pt x="14945" y="2673"/>
                  <a:pt x="14883" y="2679"/>
                </a:cubicBezTo>
                <a:cubicBezTo>
                  <a:pt x="14859" y="2681"/>
                  <a:pt x="14832" y="2679"/>
                  <a:pt x="14808" y="2679"/>
                </a:cubicBezTo>
              </a:path>
              <a:path w="5930" h="1613">
                <a:moveTo>
                  <a:pt x="15131" y="2431"/>
                </a:moveTo>
                <a:cubicBezTo>
                  <a:pt x="15156" y="2406"/>
                  <a:pt x="15164" y="2398"/>
                  <a:pt x="15180" y="2381"/>
                </a:cubicBezTo>
                <a:cubicBezTo>
                  <a:pt x="15128" y="2434"/>
                  <a:pt x="15131" y="2454"/>
                  <a:pt x="15131" y="2530"/>
                </a:cubicBezTo>
                <a:cubicBezTo>
                  <a:pt x="15131" y="2623"/>
                  <a:pt x="15184" y="2682"/>
                  <a:pt x="15280" y="2704"/>
                </a:cubicBezTo>
                <a:cubicBezTo>
                  <a:pt x="15331" y="2704"/>
                  <a:pt x="15350" y="2703"/>
                  <a:pt x="15379" y="26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966000" y="928800"/>
            <a:ext cx="1000080" cy="366480"/>
          </a:xfrm>
          <a:custGeom>
            <a:avLst/>
            <a:gdLst/>
            <a:ahLst/>
            <a:rect l="l" t="t" r="r" b="b"/>
            <a:pathLst>
              <a:path w="2779" h="1018">
                <a:moveTo>
                  <a:pt x="19348" y="3076"/>
                </a:moveTo>
                <a:cubicBezTo>
                  <a:pt x="19382" y="3080"/>
                  <a:pt x="19423" y="3098"/>
                  <a:pt x="19447" y="3101"/>
                </a:cubicBezTo>
                <a:cubicBezTo>
                  <a:pt x="19563" y="3116"/>
                  <a:pt x="19681" y="3107"/>
                  <a:pt x="19794" y="3125"/>
                </a:cubicBezTo>
                <a:cubicBezTo>
                  <a:pt x="19868" y="3137"/>
                  <a:pt x="19926" y="3112"/>
                  <a:pt x="19993" y="3101"/>
                </a:cubicBezTo>
                <a:cubicBezTo>
                  <a:pt x="20123" y="3080"/>
                  <a:pt x="20264" y="3108"/>
                  <a:pt x="20389" y="3125"/>
                </a:cubicBezTo>
                <a:cubicBezTo>
                  <a:pt x="20465" y="3136"/>
                  <a:pt x="20557" y="3101"/>
                  <a:pt x="20638" y="3101"/>
                </a:cubicBezTo>
                <a:cubicBezTo>
                  <a:pt x="20767" y="3101"/>
                  <a:pt x="20885" y="3090"/>
                  <a:pt x="21010" y="3076"/>
                </a:cubicBezTo>
                <a:cubicBezTo>
                  <a:pt x="21104" y="3065"/>
                  <a:pt x="21184" y="3051"/>
                  <a:pt x="21282" y="3051"/>
                </a:cubicBezTo>
                <a:cubicBezTo>
                  <a:pt x="21420" y="3051"/>
                  <a:pt x="21549" y="3054"/>
                  <a:pt x="21679" y="3076"/>
                </a:cubicBezTo>
                <a:cubicBezTo>
                  <a:pt x="21743" y="3087"/>
                  <a:pt x="21824" y="3092"/>
                  <a:pt x="21878" y="3101"/>
                </a:cubicBezTo>
                <a:cubicBezTo>
                  <a:pt x="21903" y="3101"/>
                  <a:pt x="21911" y="3101"/>
                  <a:pt x="21927" y="3101"/>
                </a:cubicBezTo>
              </a:path>
              <a:path w="2779" h="1018">
                <a:moveTo>
                  <a:pt x="20464" y="2629"/>
                </a:moveTo>
                <a:cubicBezTo>
                  <a:pt x="20520" y="2629"/>
                  <a:pt x="20542" y="2639"/>
                  <a:pt x="20588" y="2654"/>
                </a:cubicBezTo>
                <a:cubicBezTo>
                  <a:pt x="20641" y="2672"/>
                  <a:pt x="20658" y="2723"/>
                  <a:pt x="20662" y="2778"/>
                </a:cubicBezTo>
                <a:cubicBezTo>
                  <a:pt x="20665" y="2820"/>
                  <a:pt x="20625" y="2850"/>
                  <a:pt x="20588" y="2853"/>
                </a:cubicBezTo>
                <a:cubicBezTo>
                  <a:pt x="20558" y="2855"/>
                  <a:pt x="20480" y="2852"/>
                  <a:pt x="20464" y="2828"/>
                </a:cubicBezTo>
                <a:cubicBezTo>
                  <a:pt x="20464" y="2820"/>
                  <a:pt x="20464" y="2811"/>
                  <a:pt x="20464" y="2803"/>
                </a:cubicBezTo>
              </a:path>
              <a:path w="2779" h="1018">
                <a:moveTo>
                  <a:pt x="20811" y="2629"/>
                </a:moveTo>
                <a:cubicBezTo>
                  <a:pt x="20903" y="2552"/>
                  <a:pt x="20860" y="2551"/>
                  <a:pt x="20811" y="2604"/>
                </a:cubicBezTo>
                <a:cubicBezTo>
                  <a:pt x="20754" y="2665"/>
                  <a:pt x="20747" y="2759"/>
                  <a:pt x="20786" y="2828"/>
                </a:cubicBezTo>
                <a:cubicBezTo>
                  <a:pt x="20820" y="2888"/>
                  <a:pt x="20928" y="2892"/>
                  <a:pt x="20985" y="2877"/>
                </a:cubicBezTo>
                <a:cubicBezTo>
                  <a:pt x="21001" y="2869"/>
                  <a:pt x="21018" y="2861"/>
                  <a:pt x="21034" y="2853"/>
                </a:cubicBezTo>
              </a:path>
              <a:path w="2779" h="1018">
                <a:moveTo>
                  <a:pt x="22101" y="3423"/>
                </a:moveTo>
                <a:cubicBezTo>
                  <a:pt x="22101" y="3386"/>
                  <a:pt x="22129" y="3353"/>
                  <a:pt x="22101" y="3373"/>
                </a:cubicBezTo>
                <a:cubicBezTo>
                  <a:pt x="22055" y="3406"/>
                  <a:pt x="22038" y="3457"/>
                  <a:pt x="22002" y="3497"/>
                </a:cubicBezTo>
                <a:cubicBezTo>
                  <a:pt x="21985" y="3516"/>
                  <a:pt x="21936" y="3591"/>
                  <a:pt x="21927" y="3597"/>
                </a:cubicBezTo>
                <a:cubicBezTo>
                  <a:pt x="21919" y="3597"/>
                  <a:pt x="21911" y="3597"/>
                  <a:pt x="21903" y="3597"/>
                </a:cubicBezTo>
                <a:cubicBezTo>
                  <a:pt x="21848" y="3579"/>
                  <a:pt x="21890" y="3561"/>
                  <a:pt x="21903" y="3522"/>
                </a:cubicBezTo>
                <a:cubicBezTo>
                  <a:pt x="21917" y="3479"/>
                  <a:pt x="21942" y="3458"/>
                  <a:pt x="21977" y="3423"/>
                </a:cubicBezTo>
                <a:cubicBezTo>
                  <a:pt x="22006" y="3394"/>
                  <a:pt x="22082" y="3401"/>
                  <a:pt x="22101" y="3373"/>
                </a:cubicBezTo>
                <a:cubicBezTo>
                  <a:pt x="22125" y="3338"/>
                  <a:pt x="22090" y="3273"/>
                  <a:pt x="22076" y="3249"/>
                </a:cubicBezTo>
                <a:cubicBezTo>
                  <a:pt x="22047" y="3198"/>
                  <a:pt x="22019" y="3166"/>
                  <a:pt x="21977" y="3125"/>
                </a:cubicBezTo>
                <a:cubicBezTo>
                  <a:pt x="21969" y="3117"/>
                  <a:pt x="21960" y="3109"/>
                  <a:pt x="21952" y="31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18080" y="1724040"/>
            <a:ext cx="349200" cy="330120"/>
          </a:xfrm>
          <a:custGeom>
            <a:avLst/>
            <a:gdLst/>
            <a:ahLst/>
            <a:rect l="l" t="t" r="r" b="b"/>
            <a:pathLst>
              <a:path w="969" h="919">
                <a:moveTo>
                  <a:pt x="15354" y="4812"/>
                </a:moveTo>
                <a:cubicBezTo>
                  <a:pt x="15413" y="4792"/>
                  <a:pt x="15357" y="4892"/>
                  <a:pt x="15354" y="4961"/>
                </a:cubicBezTo>
                <a:cubicBezTo>
                  <a:pt x="15351" y="5047"/>
                  <a:pt x="15329" y="5122"/>
                  <a:pt x="15329" y="5209"/>
                </a:cubicBezTo>
                <a:cubicBezTo>
                  <a:pt x="15329" y="5234"/>
                  <a:pt x="15329" y="5242"/>
                  <a:pt x="15329" y="5259"/>
                </a:cubicBezTo>
                <a:cubicBezTo>
                  <a:pt x="15338" y="5199"/>
                  <a:pt x="15366" y="5140"/>
                  <a:pt x="15404" y="5085"/>
                </a:cubicBezTo>
                <a:cubicBezTo>
                  <a:pt x="15457" y="5009"/>
                  <a:pt x="15504" y="5090"/>
                  <a:pt x="15528" y="5135"/>
                </a:cubicBezTo>
                <a:cubicBezTo>
                  <a:pt x="15564" y="5202"/>
                  <a:pt x="15577" y="5258"/>
                  <a:pt x="15577" y="5333"/>
                </a:cubicBezTo>
                <a:cubicBezTo>
                  <a:pt x="15577" y="5341"/>
                  <a:pt x="15577" y="5350"/>
                  <a:pt x="15577" y="5358"/>
                </a:cubicBezTo>
              </a:path>
              <a:path w="969" h="919">
                <a:moveTo>
                  <a:pt x="15751" y="5135"/>
                </a:moveTo>
                <a:cubicBezTo>
                  <a:pt x="15722" y="5172"/>
                  <a:pt x="15726" y="5186"/>
                  <a:pt x="15726" y="5234"/>
                </a:cubicBezTo>
                <a:cubicBezTo>
                  <a:pt x="15798" y="5234"/>
                  <a:pt x="15866" y="5211"/>
                  <a:pt x="15900" y="5283"/>
                </a:cubicBezTo>
                <a:cubicBezTo>
                  <a:pt x="15945" y="5376"/>
                  <a:pt x="15971" y="5504"/>
                  <a:pt x="15949" y="5606"/>
                </a:cubicBezTo>
                <a:cubicBezTo>
                  <a:pt x="15930" y="5695"/>
                  <a:pt x="15844" y="5680"/>
                  <a:pt x="15776" y="5680"/>
                </a:cubicBezTo>
                <a:cubicBezTo>
                  <a:pt x="15695" y="5680"/>
                  <a:pt x="15657" y="5660"/>
                  <a:pt x="15652" y="5581"/>
                </a:cubicBezTo>
                <a:cubicBezTo>
                  <a:pt x="15652" y="5540"/>
                  <a:pt x="15652" y="5532"/>
                  <a:pt x="15652" y="5507"/>
                </a:cubicBezTo>
              </a:path>
              <a:path w="969" h="919">
                <a:moveTo>
                  <a:pt x="16049" y="5432"/>
                </a:moveTo>
                <a:cubicBezTo>
                  <a:pt x="16106" y="5498"/>
                  <a:pt x="16129" y="5548"/>
                  <a:pt x="16148" y="5631"/>
                </a:cubicBezTo>
                <a:cubicBezTo>
                  <a:pt x="16150" y="5641"/>
                  <a:pt x="16148" y="5748"/>
                  <a:pt x="16148" y="5680"/>
                </a:cubicBezTo>
                <a:cubicBezTo>
                  <a:pt x="16148" y="5607"/>
                  <a:pt x="16126" y="5555"/>
                  <a:pt x="16123" y="5482"/>
                </a:cubicBezTo>
                <a:cubicBezTo>
                  <a:pt x="16120" y="5402"/>
                  <a:pt x="16107" y="5305"/>
                  <a:pt x="16148" y="5234"/>
                </a:cubicBezTo>
                <a:cubicBezTo>
                  <a:pt x="16175" y="5188"/>
                  <a:pt x="16225" y="5168"/>
                  <a:pt x="16272" y="5159"/>
                </a:cubicBezTo>
                <a:cubicBezTo>
                  <a:pt x="16285" y="5226"/>
                  <a:pt x="16304" y="5228"/>
                  <a:pt x="16272" y="5283"/>
                </a:cubicBezTo>
                <a:cubicBezTo>
                  <a:pt x="16250" y="5327"/>
                  <a:pt x="16247" y="5339"/>
                  <a:pt x="16222" y="53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8120" y="1857240"/>
            <a:ext cx="46080" cy="4464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16768" y="5159"/>
                </a:moveTo>
                <a:cubicBezTo>
                  <a:pt x="16822" y="5159"/>
                  <a:pt x="16869" y="5159"/>
                  <a:pt x="16793" y="5159"/>
                </a:cubicBezTo>
                <a:cubicBezTo>
                  <a:pt x="16768" y="5159"/>
                  <a:pt x="16743" y="5159"/>
                  <a:pt x="16718" y="5159"/>
                </a:cubicBezTo>
              </a:path>
              <a:path w="125" h="125">
                <a:moveTo>
                  <a:pt x="16768" y="5159"/>
                </a:moveTo>
                <a:cubicBezTo>
                  <a:pt x="16794" y="5243"/>
                  <a:pt x="16827" y="5283"/>
                  <a:pt x="16818" y="5283"/>
                </a:cubicBezTo>
                <a:cubicBezTo>
                  <a:pt x="16810" y="5283"/>
                  <a:pt x="16801" y="5283"/>
                  <a:pt x="16793" y="52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62800" y="1697040"/>
            <a:ext cx="250920" cy="169920"/>
          </a:xfrm>
          <a:custGeom>
            <a:avLst/>
            <a:gdLst/>
            <a:ahLst/>
            <a:rect l="l" t="t" r="r" b="b"/>
            <a:pathLst>
              <a:path w="696" h="472">
                <a:moveTo>
                  <a:pt x="18231" y="4887"/>
                </a:moveTo>
                <a:cubicBezTo>
                  <a:pt x="18258" y="4851"/>
                  <a:pt x="18248" y="4848"/>
                  <a:pt x="18281" y="4837"/>
                </a:cubicBezTo>
                <a:cubicBezTo>
                  <a:pt x="18281" y="4900"/>
                  <a:pt x="18259" y="4945"/>
                  <a:pt x="18256" y="5011"/>
                </a:cubicBezTo>
                <a:cubicBezTo>
                  <a:pt x="18254" y="5068"/>
                  <a:pt x="18256" y="5127"/>
                  <a:pt x="18256" y="5184"/>
                </a:cubicBezTo>
              </a:path>
              <a:path w="696" h="472">
                <a:moveTo>
                  <a:pt x="18455" y="4837"/>
                </a:moveTo>
                <a:cubicBezTo>
                  <a:pt x="18466" y="4792"/>
                  <a:pt x="18495" y="4772"/>
                  <a:pt x="18529" y="4738"/>
                </a:cubicBezTo>
                <a:cubicBezTo>
                  <a:pt x="18561" y="4707"/>
                  <a:pt x="18658" y="4696"/>
                  <a:pt x="18703" y="4713"/>
                </a:cubicBezTo>
                <a:cubicBezTo>
                  <a:pt x="18754" y="4733"/>
                  <a:pt x="18773" y="4793"/>
                  <a:pt x="18777" y="4837"/>
                </a:cubicBezTo>
                <a:cubicBezTo>
                  <a:pt x="18782" y="4903"/>
                  <a:pt x="18718" y="4968"/>
                  <a:pt x="18678" y="5011"/>
                </a:cubicBezTo>
                <a:cubicBezTo>
                  <a:pt x="18653" y="5038"/>
                  <a:pt x="18632" y="5074"/>
                  <a:pt x="18628" y="5110"/>
                </a:cubicBezTo>
                <a:cubicBezTo>
                  <a:pt x="18628" y="5118"/>
                  <a:pt x="18628" y="5127"/>
                  <a:pt x="18628" y="5135"/>
                </a:cubicBezTo>
                <a:cubicBezTo>
                  <a:pt x="18681" y="5135"/>
                  <a:pt x="18698" y="5115"/>
                  <a:pt x="18752" y="5110"/>
                </a:cubicBezTo>
                <a:cubicBezTo>
                  <a:pt x="18809" y="5105"/>
                  <a:pt x="18868" y="5110"/>
                  <a:pt x="18926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19920" y="1812960"/>
            <a:ext cx="117360" cy="17280"/>
          </a:xfrm>
          <a:custGeom>
            <a:avLst/>
            <a:gdLst/>
            <a:ahLst/>
            <a:rect l="l" t="t" r="r" b="b"/>
            <a:pathLst>
              <a:path w="323" h="51">
                <a:moveTo>
                  <a:pt x="19248" y="5035"/>
                </a:moveTo>
                <a:cubicBezTo>
                  <a:pt x="19217" y="5077"/>
                  <a:pt x="19210" y="5089"/>
                  <a:pt x="19248" y="5060"/>
                </a:cubicBezTo>
                <a:cubicBezTo>
                  <a:pt x="19298" y="5022"/>
                  <a:pt x="19358" y="5035"/>
                  <a:pt x="19422" y="5035"/>
                </a:cubicBezTo>
                <a:cubicBezTo>
                  <a:pt x="19463" y="5035"/>
                  <a:pt x="19505" y="5035"/>
                  <a:pt x="19546" y="5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43840" y="1633680"/>
            <a:ext cx="492120" cy="188640"/>
          </a:xfrm>
          <a:custGeom>
            <a:avLst/>
            <a:gdLst/>
            <a:ahLst/>
            <a:rect l="l" t="t" r="r" b="b"/>
            <a:pathLst>
              <a:path w="1365" h="522">
                <a:moveTo>
                  <a:pt x="19869" y="4762"/>
                </a:moveTo>
                <a:cubicBezTo>
                  <a:pt x="19844" y="4762"/>
                  <a:pt x="19836" y="4762"/>
                  <a:pt x="19844" y="4738"/>
                </a:cubicBezTo>
                <a:cubicBezTo>
                  <a:pt x="19854" y="4723"/>
                  <a:pt x="19927" y="4673"/>
                  <a:pt x="19968" y="4663"/>
                </a:cubicBezTo>
                <a:cubicBezTo>
                  <a:pt x="19997" y="4656"/>
                  <a:pt x="20104" y="4646"/>
                  <a:pt x="20117" y="4688"/>
                </a:cubicBezTo>
                <a:cubicBezTo>
                  <a:pt x="20136" y="4750"/>
                  <a:pt x="20093" y="4787"/>
                  <a:pt x="20067" y="4837"/>
                </a:cubicBezTo>
                <a:cubicBezTo>
                  <a:pt x="20034" y="4899"/>
                  <a:pt x="19969" y="4948"/>
                  <a:pt x="19943" y="5011"/>
                </a:cubicBezTo>
                <a:cubicBezTo>
                  <a:pt x="19943" y="5019"/>
                  <a:pt x="19943" y="5027"/>
                  <a:pt x="19943" y="5035"/>
                </a:cubicBezTo>
                <a:cubicBezTo>
                  <a:pt x="20009" y="5035"/>
                  <a:pt x="20055" y="5025"/>
                  <a:pt x="20117" y="5011"/>
                </a:cubicBezTo>
                <a:cubicBezTo>
                  <a:pt x="20148" y="5004"/>
                  <a:pt x="20184" y="5011"/>
                  <a:pt x="20216" y="5011"/>
                </a:cubicBezTo>
              </a:path>
              <a:path w="1365" h="522">
                <a:moveTo>
                  <a:pt x="20290" y="4936"/>
                </a:moveTo>
                <a:cubicBezTo>
                  <a:pt x="20334" y="4893"/>
                  <a:pt x="20379" y="4832"/>
                  <a:pt x="20439" y="4812"/>
                </a:cubicBezTo>
                <a:cubicBezTo>
                  <a:pt x="20500" y="4792"/>
                  <a:pt x="20513" y="4844"/>
                  <a:pt x="20513" y="4887"/>
                </a:cubicBezTo>
                <a:cubicBezTo>
                  <a:pt x="20513" y="4962"/>
                  <a:pt x="20517" y="4983"/>
                  <a:pt x="20464" y="5035"/>
                </a:cubicBezTo>
                <a:cubicBezTo>
                  <a:pt x="20441" y="5058"/>
                  <a:pt x="20437" y="5066"/>
                  <a:pt x="20414" y="5060"/>
                </a:cubicBezTo>
              </a:path>
              <a:path w="1365" h="522">
                <a:moveTo>
                  <a:pt x="20588" y="4812"/>
                </a:moveTo>
                <a:cubicBezTo>
                  <a:pt x="20596" y="4804"/>
                  <a:pt x="20605" y="4795"/>
                  <a:pt x="20613" y="4787"/>
                </a:cubicBezTo>
                <a:cubicBezTo>
                  <a:pt x="20587" y="4822"/>
                  <a:pt x="20566" y="4863"/>
                  <a:pt x="20563" y="4911"/>
                </a:cubicBezTo>
                <a:cubicBezTo>
                  <a:pt x="20560" y="4960"/>
                  <a:pt x="20580" y="5007"/>
                  <a:pt x="20638" y="4986"/>
                </a:cubicBezTo>
                <a:cubicBezTo>
                  <a:pt x="20681" y="4964"/>
                  <a:pt x="20693" y="4960"/>
                  <a:pt x="20712" y="4936"/>
                </a:cubicBezTo>
              </a:path>
              <a:path w="1365" h="522">
                <a:moveTo>
                  <a:pt x="20960" y="4663"/>
                </a:moveTo>
                <a:cubicBezTo>
                  <a:pt x="20960" y="4617"/>
                  <a:pt x="20954" y="4599"/>
                  <a:pt x="20985" y="4564"/>
                </a:cubicBezTo>
                <a:cubicBezTo>
                  <a:pt x="21015" y="4530"/>
                  <a:pt x="21041" y="4539"/>
                  <a:pt x="21084" y="4539"/>
                </a:cubicBezTo>
                <a:cubicBezTo>
                  <a:pt x="21084" y="4585"/>
                  <a:pt x="21082" y="4629"/>
                  <a:pt x="21059" y="4663"/>
                </a:cubicBezTo>
                <a:cubicBezTo>
                  <a:pt x="21034" y="4701"/>
                  <a:pt x="21034" y="4714"/>
                  <a:pt x="21034" y="4762"/>
                </a:cubicBezTo>
                <a:cubicBezTo>
                  <a:pt x="21108" y="4752"/>
                  <a:pt x="21113" y="4712"/>
                  <a:pt x="21183" y="4688"/>
                </a:cubicBezTo>
                <a:cubicBezTo>
                  <a:pt x="21191" y="4688"/>
                  <a:pt x="21200" y="4688"/>
                  <a:pt x="21208" y="46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48160" y="2224080"/>
            <a:ext cx="260640" cy="160200"/>
          </a:xfrm>
          <a:custGeom>
            <a:avLst/>
            <a:gdLst/>
            <a:ahLst/>
            <a:rect l="l" t="t" r="r" b="b"/>
            <a:pathLst>
              <a:path w="720" h="448">
                <a:moveTo>
                  <a:pt x="15007" y="6499"/>
                </a:moveTo>
                <a:cubicBezTo>
                  <a:pt x="15032" y="6480"/>
                  <a:pt x="15079" y="6467"/>
                  <a:pt x="15056" y="6424"/>
                </a:cubicBezTo>
                <a:cubicBezTo>
                  <a:pt x="15028" y="6373"/>
                  <a:pt x="14987" y="6407"/>
                  <a:pt x="14957" y="6424"/>
                </a:cubicBezTo>
                <a:cubicBezTo>
                  <a:pt x="14920" y="6445"/>
                  <a:pt x="14835" y="6516"/>
                  <a:pt x="14858" y="6573"/>
                </a:cubicBezTo>
                <a:cubicBezTo>
                  <a:pt x="14883" y="6598"/>
                  <a:pt x="14891" y="6606"/>
                  <a:pt x="14908" y="6623"/>
                </a:cubicBezTo>
                <a:cubicBezTo>
                  <a:pt x="14964" y="6577"/>
                  <a:pt x="15008" y="6551"/>
                  <a:pt x="15032" y="6474"/>
                </a:cubicBezTo>
                <a:cubicBezTo>
                  <a:pt x="15032" y="6466"/>
                  <a:pt x="15032" y="6457"/>
                  <a:pt x="15032" y="6449"/>
                </a:cubicBezTo>
                <a:cubicBezTo>
                  <a:pt x="15106" y="6449"/>
                  <a:pt x="15091" y="6491"/>
                  <a:pt x="15131" y="6548"/>
                </a:cubicBezTo>
                <a:cubicBezTo>
                  <a:pt x="15161" y="6578"/>
                  <a:pt x="15172" y="6592"/>
                  <a:pt x="15180" y="6623"/>
                </a:cubicBezTo>
              </a:path>
              <a:path w="720" h="448">
                <a:moveTo>
                  <a:pt x="15379" y="6226"/>
                </a:moveTo>
                <a:cubicBezTo>
                  <a:pt x="15371" y="6218"/>
                  <a:pt x="15362" y="6209"/>
                  <a:pt x="15354" y="6201"/>
                </a:cubicBezTo>
                <a:cubicBezTo>
                  <a:pt x="15402" y="6201"/>
                  <a:pt x="15432" y="6161"/>
                  <a:pt x="15478" y="6176"/>
                </a:cubicBezTo>
                <a:cubicBezTo>
                  <a:pt x="15507" y="6186"/>
                  <a:pt x="15546" y="6244"/>
                  <a:pt x="15528" y="6276"/>
                </a:cubicBezTo>
                <a:cubicBezTo>
                  <a:pt x="15499" y="6326"/>
                  <a:pt x="15449" y="6339"/>
                  <a:pt x="15429" y="6400"/>
                </a:cubicBezTo>
                <a:cubicBezTo>
                  <a:pt x="15429" y="6408"/>
                  <a:pt x="15429" y="6416"/>
                  <a:pt x="15429" y="6424"/>
                </a:cubicBezTo>
                <a:cubicBezTo>
                  <a:pt x="15478" y="6424"/>
                  <a:pt x="15528" y="6424"/>
                  <a:pt x="15577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49920" y="2160720"/>
            <a:ext cx="322200" cy="223560"/>
          </a:xfrm>
          <a:custGeom>
            <a:avLst/>
            <a:gdLst/>
            <a:ahLst/>
            <a:rect l="l" t="t" r="r" b="b"/>
            <a:pathLst>
              <a:path w="894" h="621">
                <a:moveTo>
                  <a:pt x="16247" y="6499"/>
                </a:moveTo>
                <a:cubicBezTo>
                  <a:pt x="16331" y="6499"/>
                  <a:pt x="16331" y="6499"/>
                  <a:pt x="16247" y="6499"/>
                </a:cubicBezTo>
                <a:cubicBezTo>
                  <a:pt x="16160" y="6499"/>
                  <a:pt x="16042" y="6473"/>
                  <a:pt x="15974" y="6524"/>
                </a:cubicBezTo>
              </a:path>
              <a:path w="894" h="621">
                <a:moveTo>
                  <a:pt x="16073" y="6400"/>
                </a:moveTo>
                <a:cubicBezTo>
                  <a:pt x="16111" y="6372"/>
                  <a:pt x="16143" y="6361"/>
                  <a:pt x="16148" y="6424"/>
                </a:cubicBezTo>
                <a:cubicBezTo>
                  <a:pt x="16153" y="6490"/>
                  <a:pt x="16148" y="6557"/>
                  <a:pt x="16148" y="6623"/>
                </a:cubicBezTo>
              </a:path>
              <a:path w="894" h="621">
                <a:moveTo>
                  <a:pt x="16570" y="6052"/>
                </a:moveTo>
                <a:cubicBezTo>
                  <a:pt x="16580" y="6021"/>
                  <a:pt x="16588" y="6013"/>
                  <a:pt x="16619" y="6003"/>
                </a:cubicBezTo>
                <a:cubicBezTo>
                  <a:pt x="16619" y="6058"/>
                  <a:pt x="16599" y="6103"/>
                  <a:pt x="16594" y="6152"/>
                </a:cubicBezTo>
                <a:cubicBezTo>
                  <a:pt x="16582" y="6264"/>
                  <a:pt x="16594" y="6386"/>
                  <a:pt x="16594" y="6499"/>
                </a:cubicBezTo>
                <a:cubicBezTo>
                  <a:pt x="16641" y="6476"/>
                  <a:pt x="16665" y="6412"/>
                  <a:pt x="16718" y="6375"/>
                </a:cubicBezTo>
                <a:cubicBezTo>
                  <a:pt x="16778" y="6333"/>
                  <a:pt x="16841" y="6330"/>
                  <a:pt x="16867" y="6400"/>
                </a:cubicBezTo>
                <a:cubicBezTo>
                  <a:pt x="16895" y="6477"/>
                  <a:pt x="16840" y="6489"/>
                  <a:pt x="16793" y="6524"/>
                </a:cubicBezTo>
                <a:cubicBezTo>
                  <a:pt x="16758" y="6550"/>
                  <a:pt x="16736" y="6564"/>
                  <a:pt x="16694" y="6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97760" y="2170080"/>
            <a:ext cx="889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7214" y="6077"/>
                </a:moveTo>
                <a:cubicBezTo>
                  <a:pt x="17214" y="6069"/>
                  <a:pt x="17214" y="6060"/>
                  <a:pt x="17214" y="6052"/>
                </a:cubicBezTo>
                <a:cubicBezTo>
                  <a:pt x="17246" y="6052"/>
                  <a:pt x="17292" y="6019"/>
                  <a:pt x="17314" y="6028"/>
                </a:cubicBezTo>
                <a:cubicBezTo>
                  <a:pt x="17346" y="6042"/>
                  <a:pt x="17348" y="6126"/>
                  <a:pt x="17338" y="6152"/>
                </a:cubicBezTo>
                <a:cubicBezTo>
                  <a:pt x="17321" y="6193"/>
                  <a:pt x="17314" y="6201"/>
                  <a:pt x="17314" y="6251"/>
                </a:cubicBezTo>
                <a:cubicBezTo>
                  <a:pt x="17363" y="6251"/>
                  <a:pt x="17413" y="6251"/>
                  <a:pt x="17462" y="6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8160" y="2214720"/>
            <a:ext cx="63720" cy="53640"/>
          </a:xfrm>
          <a:custGeom>
            <a:avLst/>
            <a:gdLst/>
            <a:ahLst/>
            <a:rect l="l" t="t" r="r" b="b"/>
            <a:pathLst>
              <a:path w="175" h="149">
                <a:moveTo>
                  <a:pt x="18231" y="6152"/>
                </a:moveTo>
                <a:cubicBezTo>
                  <a:pt x="18239" y="6152"/>
                  <a:pt x="18248" y="6152"/>
                  <a:pt x="18256" y="6152"/>
                </a:cubicBezTo>
                <a:cubicBezTo>
                  <a:pt x="18209" y="6152"/>
                  <a:pt x="18195" y="6149"/>
                  <a:pt x="18157" y="6176"/>
                </a:cubicBezTo>
              </a:path>
              <a:path w="175" h="149">
                <a:moveTo>
                  <a:pt x="18207" y="6276"/>
                </a:moveTo>
                <a:cubicBezTo>
                  <a:pt x="18266" y="6301"/>
                  <a:pt x="18304" y="6300"/>
                  <a:pt x="18231" y="6300"/>
                </a:cubicBezTo>
                <a:cubicBezTo>
                  <a:pt x="18190" y="6300"/>
                  <a:pt x="18148" y="6300"/>
                  <a:pt x="18107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86720" y="2187720"/>
            <a:ext cx="107640" cy="117360"/>
          </a:xfrm>
          <a:custGeom>
            <a:avLst/>
            <a:gdLst/>
            <a:ahLst/>
            <a:rect l="l" t="t" r="r" b="b"/>
            <a:pathLst>
              <a:path w="298" h="324">
                <a:moveTo>
                  <a:pt x="18926" y="6102"/>
                </a:moveTo>
                <a:cubicBezTo>
                  <a:pt x="18959" y="6099"/>
                  <a:pt x="19069" y="6058"/>
                  <a:pt x="19025" y="6077"/>
                </a:cubicBezTo>
                <a:cubicBezTo>
                  <a:pt x="18974" y="6099"/>
                  <a:pt x="18875" y="6144"/>
                  <a:pt x="18852" y="6201"/>
                </a:cubicBezTo>
                <a:cubicBezTo>
                  <a:pt x="18835" y="6244"/>
                  <a:pt x="18851" y="6375"/>
                  <a:pt x="18901" y="6400"/>
                </a:cubicBezTo>
                <a:cubicBezTo>
                  <a:pt x="18943" y="6421"/>
                  <a:pt x="19044" y="6402"/>
                  <a:pt x="19075" y="6375"/>
                </a:cubicBezTo>
                <a:cubicBezTo>
                  <a:pt x="19116" y="6333"/>
                  <a:pt x="19124" y="6325"/>
                  <a:pt x="19149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00920" y="2098800"/>
            <a:ext cx="142920" cy="88920"/>
          </a:xfrm>
          <a:custGeom>
            <a:avLst/>
            <a:gdLst/>
            <a:ahLst/>
            <a:rect l="l" t="t" r="r" b="b"/>
            <a:pathLst>
              <a:path w="398" h="249">
                <a:moveTo>
                  <a:pt x="19447" y="5879"/>
                </a:moveTo>
                <a:cubicBezTo>
                  <a:pt x="19460" y="5839"/>
                  <a:pt x="19468" y="5834"/>
                  <a:pt x="19521" y="5829"/>
                </a:cubicBezTo>
                <a:cubicBezTo>
                  <a:pt x="19574" y="5824"/>
                  <a:pt x="19571" y="5865"/>
                  <a:pt x="19571" y="5904"/>
                </a:cubicBezTo>
                <a:cubicBezTo>
                  <a:pt x="19571" y="5951"/>
                  <a:pt x="19551" y="5983"/>
                  <a:pt x="19546" y="6028"/>
                </a:cubicBezTo>
                <a:cubicBezTo>
                  <a:pt x="19542" y="6070"/>
                  <a:pt x="19584" y="6091"/>
                  <a:pt x="19621" y="6077"/>
                </a:cubicBezTo>
                <a:cubicBezTo>
                  <a:pt x="19688" y="6053"/>
                  <a:pt x="19757" y="6046"/>
                  <a:pt x="19819" y="6003"/>
                </a:cubicBezTo>
                <a:cubicBezTo>
                  <a:pt x="19827" y="5995"/>
                  <a:pt x="19836" y="5986"/>
                  <a:pt x="19844" y="5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05240" y="2455920"/>
            <a:ext cx="955800" cy="241200"/>
          </a:xfrm>
          <a:custGeom>
            <a:avLst/>
            <a:gdLst/>
            <a:ahLst/>
            <a:rect l="l" t="t" r="r" b="b"/>
            <a:pathLst>
              <a:path w="2655" h="671">
                <a:moveTo>
                  <a:pt x="14461" y="7268"/>
                </a:moveTo>
                <a:cubicBezTo>
                  <a:pt x="14461" y="7302"/>
                  <a:pt x="14462" y="7261"/>
                  <a:pt x="14486" y="7243"/>
                </a:cubicBezTo>
                <a:cubicBezTo>
                  <a:pt x="14537" y="7205"/>
                  <a:pt x="14602" y="7207"/>
                  <a:pt x="14660" y="7243"/>
                </a:cubicBezTo>
                <a:cubicBezTo>
                  <a:pt x="14707" y="7272"/>
                  <a:pt x="14729" y="7367"/>
                  <a:pt x="14709" y="7417"/>
                </a:cubicBezTo>
                <a:cubicBezTo>
                  <a:pt x="14692" y="7460"/>
                  <a:pt x="14624" y="7488"/>
                  <a:pt x="14585" y="7491"/>
                </a:cubicBezTo>
                <a:cubicBezTo>
                  <a:pt x="14569" y="7491"/>
                  <a:pt x="14552" y="7491"/>
                  <a:pt x="14536" y="7491"/>
                </a:cubicBezTo>
              </a:path>
              <a:path w="2655" h="671">
                <a:moveTo>
                  <a:pt x="14734" y="7144"/>
                </a:moveTo>
                <a:cubicBezTo>
                  <a:pt x="14795" y="7126"/>
                  <a:pt x="14805" y="7119"/>
                  <a:pt x="14858" y="7119"/>
                </a:cubicBezTo>
                <a:cubicBezTo>
                  <a:pt x="14809" y="7168"/>
                  <a:pt x="14787" y="7196"/>
                  <a:pt x="14784" y="7268"/>
                </a:cubicBezTo>
                <a:cubicBezTo>
                  <a:pt x="14782" y="7321"/>
                  <a:pt x="14796" y="7446"/>
                  <a:pt x="14883" y="7441"/>
                </a:cubicBezTo>
                <a:cubicBezTo>
                  <a:pt x="14899" y="7433"/>
                  <a:pt x="14916" y="7425"/>
                  <a:pt x="14932" y="7417"/>
                </a:cubicBezTo>
              </a:path>
              <a:path w="2655" h="671">
                <a:moveTo>
                  <a:pt x="15081" y="6921"/>
                </a:moveTo>
                <a:cubicBezTo>
                  <a:pt x="15119" y="6893"/>
                  <a:pt x="15132" y="6896"/>
                  <a:pt x="15180" y="6896"/>
                </a:cubicBezTo>
                <a:cubicBezTo>
                  <a:pt x="15225" y="6896"/>
                  <a:pt x="15249" y="6894"/>
                  <a:pt x="15255" y="6945"/>
                </a:cubicBezTo>
                <a:cubicBezTo>
                  <a:pt x="15261" y="6994"/>
                  <a:pt x="15238" y="7008"/>
                  <a:pt x="15230" y="7045"/>
                </a:cubicBezTo>
                <a:cubicBezTo>
                  <a:pt x="15221" y="7088"/>
                  <a:pt x="15215" y="7105"/>
                  <a:pt x="15205" y="7144"/>
                </a:cubicBezTo>
                <a:cubicBezTo>
                  <a:pt x="15251" y="7159"/>
                  <a:pt x="15229" y="7169"/>
                  <a:pt x="15304" y="7169"/>
                </a:cubicBezTo>
              </a:path>
              <a:path w="2655" h="671">
                <a:moveTo>
                  <a:pt x="15801" y="7218"/>
                </a:moveTo>
                <a:cubicBezTo>
                  <a:pt x="15809" y="7210"/>
                  <a:pt x="15817" y="7201"/>
                  <a:pt x="15825" y="7193"/>
                </a:cubicBezTo>
                <a:cubicBezTo>
                  <a:pt x="15743" y="7193"/>
                  <a:pt x="15679" y="7200"/>
                  <a:pt x="15602" y="7218"/>
                </a:cubicBezTo>
                <a:cubicBezTo>
                  <a:pt x="15594" y="7218"/>
                  <a:pt x="15585" y="7218"/>
                  <a:pt x="15577" y="7218"/>
                </a:cubicBezTo>
              </a:path>
              <a:path w="2655" h="671">
                <a:moveTo>
                  <a:pt x="15627" y="7094"/>
                </a:moveTo>
                <a:cubicBezTo>
                  <a:pt x="15728" y="7166"/>
                  <a:pt x="15666" y="7165"/>
                  <a:pt x="15701" y="7268"/>
                </a:cubicBezTo>
                <a:cubicBezTo>
                  <a:pt x="15709" y="7276"/>
                  <a:pt x="15718" y="7285"/>
                  <a:pt x="15726" y="7293"/>
                </a:cubicBezTo>
              </a:path>
              <a:path w="2655" h="671">
                <a:moveTo>
                  <a:pt x="16098" y="7193"/>
                </a:moveTo>
                <a:cubicBezTo>
                  <a:pt x="16137" y="7184"/>
                  <a:pt x="16153" y="7169"/>
                  <a:pt x="16197" y="7169"/>
                </a:cubicBezTo>
                <a:cubicBezTo>
                  <a:pt x="16285" y="7169"/>
                  <a:pt x="16320" y="7209"/>
                  <a:pt x="16346" y="7293"/>
                </a:cubicBezTo>
                <a:cubicBezTo>
                  <a:pt x="16368" y="7364"/>
                  <a:pt x="16293" y="7389"/>
                  <a:pt x="16247" y="7392"/>
                </a:cubicBezTo>
                <a:cubicBezTo>
                  <a:pt x="16197" y="7392"/>
                  <a:pt x="16181" y="7392"/>
                  <a:pt x="16148" y="7392"/>
                </a:cubicBezTo>
              </a:path>
              <a:path w="2655" h="671">
                <a:moveTo>
                  <a:pt x="16421" y="7119"/>
                </a:moveTo>
                <a:cubicBezTo>
                  <a:pt x="16429" y="7102"/>
                  <a:pt x="16438" y="7086"/>
                  <a:pt x="16446" y="7069"/>
                </a:cubicBezTo>
                <a:cubicBezTo>
                  <a:pt x="16397" y="7118"/>
                  <a:pt x="16374" y="7146"/>
                  <a:pt x="16371" y="7218"/>
                </a:cubicBezTo>
                <a:cubicBezTo>
                  <a:pt x="16368" y="7293"/>
                  <a:pt x="16384" y="7372"/>
                  <a:pt x="16470" y="7392"/>
                </a:cubicBezTo>
                <a:cubicBezTo>
                  <a:pt x="16527" y="7392"/>
                  <a:pt x="16548" y="7387"/>
                  <a:pt x="16570" y="7342"/>
                </a:cubicBezTo>
              </a:path>
              <a:path w="2655" h="671">
                <a:moveTo>
                  <a:pt x="16718" y="6921"/>
                </a:moveTo>
                <a:cubicBezTo>
                  <a:pt x="16730" y="6872"/>
                  <a:pt x="16765" y="6839"/>
                  <a:pt x="16818" y="6821"/>
                </a:cubicBezTo>
                <a:cubicBezTo>
                  <a:pt x="16849" y="6810"/>
                  <a:pt x="16926" y="6814"/>
                  <a:pt x="16942" y="6846"/>
                </a:cubicBezTo>
                <a:cubicBezTo>
                  <a:pt x="16957" y="6876"/>
                  <a:pt x="16895" y="6980"/>
                  <a:pt x="16892" y="7020"/>
                </a:cubicBezTo>
                <a:cubicBezTo>
                  <a:pt x="16885" y="7111"/>
                  <a:pt x="16952" y="7094"/>
                  <a:pt x="17016" y="7094"/>
                </a:cubicBezTo>
                <a:cubicBezTo>
                  <a:pt x="17066" y="7094"/>
                  <a:pt x="17082" y="7094"/>
                  <a:pt x="17115" y="70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11960" y="2517840"/>
            <a:ext cx="61920" cy="81000"/>
          </a:xfrm>
          <a:custGeom>
            <a:avLst/>
            <a:gdLst/>
            <a:ahLst/>
            <a:rect l="l" t="t" r="r" b="b"/>
            <a:pathLst>
              <a:path w="174" h="224">
                <a:moveTo>
                  <a:pt x="17934" y="6995"/>
                </a:moveTo>
                <a:cubicBezTo>
                  <a:pt x="17934" y="7003"/>
                  <a:pt x="17934" y="7012"/>
                  <a:pt x="17934" y="7020"/>
                </a:cubicBezTo>
                <a:cubicBezTo>
                  <a:pt x="17989" y="7038"/>
                  <a:pt x="17947" y="7045"/>
                  <a:pt x="17909" y="7045"/>
                </a:cubicBezTo>
                <a:cubicBezTo>
                  <a:pt x="17872" y="7045"/>
                  <a:pt x="17838" y="7072"/>
                  <a:pt x="17810" y="7094"/>
                </a:cubicBezTo>
              </a:path>
              <a:path w="174" h="224">
                <a:moveTo>
                  <a:pt x="17934" y="7169"/>
                </a:moveTo>
                <a:cubicBezTo>
                  <a:pt x="17974" y="7189"/>
                  <a:pt x="17990" y="7187"/>
                  <a:pt x="17983" y="72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34080" y="2276640"/>
            <a:ext cx="1216080" cy="358560"/>
          </a:xfrm>
          <a:custGeom>
            <a:avLst/>
            <a:gdLst/>
            <a:ahLst/>
            <a:rect l="l" t="t" r="r" b="b"/>
            <a:pathLst>
              <a:path w="3374" h="993">
                <a:moveTo>
                  <a:pt x="18752" y="6921"/>
                </a:moveTo>
                <a:cubicBezTo>
                  <a:pt x="18752" y="6896"/>
                  <a:pt x="18752" y="6888"/>
                  <a:pt x="18777" y="6896"/>
                </a:cubicBezTo>
                <a:cubicBezTo>
                  <a:pt x="18777" y="6974"/>
                  <a:pt x="18755" y="7041"/>
                  <a:pt x="18752" y="7119"/>
                </a:cubicBezTo>
                <a:cubicBezTo>
                  <a:pt x="18752" y="7185"/>
                  <a:pt x="18752" y="7202"/>
                  <a:pt x="18752" y="7243"/>
                </a:cubicBezTo>
              </a:path>
              <a:path w="3374" h="993">
                <a:moveTo>
                  <a:pt x="18901" y="6896"/>
                </a:moveTo>
                <a:cubicBezTo>
                  <a:pt x="18962" y="6850"/>
                  <a:pt x="18999" y="6826"/>
                  <a:pt x="19075" y="6821"/>
                </a:cubicBezTo>
                <a:cubicBezTo>
                  <a:pt x="19114" y="6819"/>
                  <a:pt x="19202" y="6802"/>
                  <a:pt x="19224" y="6846"/>
                </a:cubicBezTo>
                <a:cubicBezTo>
                  <a:pt x="19245" y="6887"/>
                  <a:pt x="19214" y="6960"/>
                  <a:pt x="19199" y="6995"/>
                </a:cubicBezTo>
                <a:cubicBezTo>
                  <a:pt x="19174" y="7052"/>
                  <a:pt x="19128" y="7107"/>
                  <a:pt x="19124" y="7169"/>
                </a:cubicBezTo>
                <a:cubicBezTo>
                  <a:pt x="19118" y="7252"/>
                  <a:pt x="19157" y="7243"/>
                  <a:pt x="19224" y="7243"/>
                </a:cubicBezTo>
                <a:cubicBezTo>
                  <a:pt x="19269" y="7243"/>
                  <a:pt x="19309" y="7213"/>
                  <a:pt x="19348" y="7193"/>
                </a:cubicBezTo>
              </a:path>
              <a:path w="3374" h="993">
                <a:moveTo>
                  <a:pt x="19596" y="7094"/>
                </a:moveTo>
                <a:cubicBezTo>
                  <a:pt x="19634" y="7065"/>
                  <a:pt x="19647" y="7069"/>
                  <a:pt x="19695" y="7069"/>
                </a:cubicBezTo>
                <a:cubicBezTo>
                  <a:pt x="19761" y="7069"/>
                  <a:pt x="19827" y="7069"/>
                  <a:pt x="19893" y="7069"/>
                </a:cubicBezTo>
              </a:path>
              <a:path w="3374" h="993">
                <a:moveTo>
                  <a:pt x="20067" y="6796"/>
                </a:moveTo>
                <a:cubicBezTo>
                  <a:pt x="20084" y="6731"/>
                  <a:pt x="20099" y="6771"/>
                  <a:pt x="20141" y="6747"/>
                </a:cubicBezTo>
                <a:cubicBezTo>
                  <a:pt x="20187" y="6721"/>
                  <a:pt x="20206" y="6722"/>
                  <a:pt x="20265" y="6722"/>
                </a:cubicBezTo>
                <a:cubicBezTo>
                  <a:pt x="20311" y="6722"/>
                  <a:pt x="20368" y="6747"/>
                  <a:pt x="20389" y="6796"/>
                </a:cubicBezTo>
                <a:cubicBezTo>
                  <a:pt x="20416" y="6859"/>
                  <a:pt x="20349" y="6904"/>
                  <a:pt x="20315" y="6945"/>
                </a:cubicBezTo>
                <a:cubicBezTo>
                  <a:pt x="20265" y="7005"/>
                  <a:pt x="20222" y="7017"/>
                  <a:pt x="20216" y="7094"/>
                </a:cubicBezTo>
                <a:cubicBezTo>
                  <a:pt x="20216" y="7102"/>
                  <a:pt x="20216" y="7111"/>
                  <a:pt x="20216" y="7119"/>
                </a:cubicBezTo>
                <a:cubicBezTo>
                  <a:pt x="20281" y="7119"/>
                  <a:pt x="20330" y="7102"/>
                  <a:pt x="20389" y="7094"/>
                </a:cubicBezTo>
                <a:cubicBezTo>
                  <a:pt x="20460" y="7085"/>
                  <a:pt x="20503" y="7084"/>
                  <a:pt x="20563" y="7069"/>
                </a:cubicBezTo>
              </a:path>
              <a:path w="3374" h="993">
                <a:moveTo>
                  <a:pt x="20538" y="6970"/>
                </a:moveTo>
                <a:cubicBezTo>
                  <a:pt x="20591" y="6959"/>
                  <a:pt x="20630" y="6945"/>
                  <a:pt x="20687" y="6945"/>
                </a:cubicBezTo>
                <a:cubicBezTo>
                  <a:pt x="20722" y="6945"/>
                  <a:pt x="20791" y="6929"/>
                  <a:pt x="20811" y="6970"/>
                </a:cubicBezTo>
                <a:cubicBezTo>
                  <a:pt x="20829" y="7007"/>
                  <a:pt x="20794" y="7076"/>
                  <a:pt x="20762" y="7094"/>
                </a:cubicBezTo>
                <a:cubicBezTo>
                  <a:pt x="20737" y="7108"/>
                  <a:pt x="20692" y="7113"/>
                  <a:pt x="20662" y="7119"/>
                </a:cubicBezTo>
              </a:path>
              <a:path w="3374" h="993">
                <a:moveTo>
                  <a:pt x="20861" y="6896"/>
                </a:moveTo>
                <a:cubicBezTo>
                  <a:pt x="20865" y="6892"/>
                  <a:pt x="21004" y="6766"/>
                  <a:pt x="20960" y="6796"/>
                </a:cubicBezTo>
                <a:cubicBezTo>
                  <a:pt x="20892" y="6843"/>
                  <a:pt x="20853" y="6907"/>
                  <a:pt x="20836" y="6995"/>
                </a:cubicBezTo>
                <a:cubicBezTo>
                  <a:pt x="20830" y="7024"/>
                  <a:pt x="20863" y="7147"/>
                  <a:pt x="20910" y="7144"/>
                </a:cubicBezTo>
                <a:cubicBezTo>
                  <a:pt x="20960" y="7119"/>
                  <a:pt x="20977" y="7111"/>
                  <a:pt x="21010" y="7094"/>
                </a:cubicBezTo>
              </a:path>
              <a:path w="3374" h="993">
                <a:moveTo>
                  <a:pt x="21010" y="6598"/>
                </a:moveTo>
                <a:cubicBezTo>
                  <a:pt x="21165" y="6535"/>
                  <a:pt x="21203" y="6530"/>
                  <a:pt x="21307" y="6672"/>
                </a:cubicBezTo>
                <a:cubicBezTo>
                  <a:pt x="21386" y="6780"/>
                  <a:pt x="21414" y="6918"/>
                  <a:pt x="21357" y="7045"/>
                </a:cubicBezTo>
                <a:cubicBezTo>
                  <a:pt x="21315" y="7138"/>
                  <a:pt x="21266" y="7156"/>
                  <a:pt x="21183" y="7193"/>
                </a:cubicBezTo>
              </a:path>
              <a:path w="3374" h="993">
                <a:moveTo>
                  <a:pt x="18579" y="6796"/>
                </a:moveTo>
                <a:cubicBezTo>
                  <a:pt x="18598" y="6767"/>
                  <a:pt x="18647" y="6709"/>
                  <a:pt x="18579" y="6747"/>
                </a:cubicBezTo>
                <a:cubicBezTo>
                  <a:pt x="18518" y="6781"/>
                  <a:pt x="18474" y="6909"/>
                  <a:pt x="18455" y="6970"/>
                </a:cubicBezTo>
                <a:cubicBezTo>
                  <a:pt x="18413" y="7104"/>
                  <a:pt x="18437" y="7190"/>
                  <a:pt x="18479" y="7317"/>
                </a:cubicBezTo>
              </a:path>
              <a:path w="3374" h="993">
                <a:moveTo>
                  <a:pt x="21530" y="6424"/>
                </a:moveTo>
                <a:cubicBezTo>
                  <a:pt x="21530" y="6364"/>
                  <a:pt x="21540" y="6377"/>
                  <a:pt x="21580" y="6350"/>
                </a:cubicBezTo>
                <a:cubicBezTo>
                  <a:pt x="21620" y="6324"/>
                  <a:pt x="21630" y="6325"/>
                  <a:pt x="21679" y="6325"/>
                </a:cubicBezTo>
                <a:cubicBezTo>
                  <a:pt x="21687" y="6325"/>
                  <a:pt x="21696" y="6325"/>
                  <a:pt x="21704" y="6325"/>
                </a:cubicBezTo>
                <a:cubicBezTo>
                  <a:pt x="21704" y="6381"/>
                  <a:pt x="21710" y="6423"/>
                  <a:pt x="21679" y="6474"/>
                </a:cubicBezTo>
                <a:cubicBezTo>
                  <a:pt x="21654" y="6515"/>
                  <a:pt x="21610" y="6551"/>
                  <a:pt x="21605" y="6598"/>
                </a:cubicBezTo>
                <a:cubicBezTo>
                  <a:pt x="21605" y="6606"/>
                  <a:pt x="21605" y="6615"/>
                  <a:pt x="21605" y="6623"/>
                </a:cubicBezTo>
                <a:cubicBezTo>
                  <a:pt x="21661" y="6623"/>
                  <a:pt x="21685" y="6585"/>
                  <a:pt x="21729" y="6573"/>
                </a:cubicBezTo>
                <a:cubicBezTo>
                  <a:pt x="21770" y="6573"/>
                  <a:pt x="21778" y="6573"/>
                  <a:pt x="21803" y="6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45080" y="2813040"/>
            <a:ext cx="509760" cy="196920"/>
          </a:xfrm>
          <a:custGeom>
            <a:avLst/>
            <a:gdLst/>
            <a:ahLst/>
            <a:rect l="l" t="t" r="r" b="b"/>
            <a:pathLst>
              <a:path w="1415" h="547">
                <a:moveTo>
                  <a:pt x="15478" y="8037"/>
                </a:moveTo>
                <a:cubicBezTo>
                  <a:pt x="15434" y="8037"/>
                  <a:pt x="15420" y="8040"/>
                  <a:pt x="15404" y="8012"/>
                </a:cubicBezTo>
                <a:cubicBezTo>
                  <a:pt x="15451" y="7953"/>
                  <a:pt x="15449" y="7918"/>
                  <a:pt x="15528" y="7913"/>
                </a:cubicBezTo>
                <a:cubicBezTo>
                  <a:pt x="15581" y="7910"/>
                  <a:pt x="15650" y="7902"/>
                  <a:pt x="15677" y="7962"/>
                </a:cubicBezTo>
                <a:cubicBezTo>
                  <a:pt x="15699" y="8012"/>
                  <a:pt x="15656" y="8098"/>
                  <a:pt x="15627" y="8136"/>
                </a:cubicBezTo>
                <a:cubicBezTo>
                  <a:pt x="15557" y="8225"/>
                  <a:pt x="15528" y="8189"/>
                  <a:pt x="15528" y="8310"/>
                </a:cubicBezTo>
                <a:cubicBezTo>
                  <a:pt x="15528" y="8371"/>
                  <a:pt x="15605" y="8372"/>
                  <a:pt x="15652" y="8359"/>
                </a:cubicBezTo>
                <a:cubicBezTo>
                  <a:pt x="15704" y="8344"/>
                  <a:pt x="15750" y="8328"/>
                  <a:pt x="15801" y="8310"/>
                </a:cubicBezTo>
              </a:path>
              <a:path w="1415" h="547">
                <a:moveTo>
                  <a:pt x="15875" y="8210"/>
                </a:moveTo>
                <a:cubicBezTo>
                  <a:pt x="15883" y="8178"/>
                  <a:pt x="15914" y="8144"/>
                  <a:pt x="15949" y="8136"/>
                </a:cubicBezTo>
                <a:cubicBezTo>
                  <a:pt x="16020" y="8121"/>
                  <a:pt x="16052" y="8140"/>
                  <a:pt x="16098" y="8186"/>
                </a:cubicBezTo>
                <a:cubicBezTo>
                  <a:pt x="16137" y="8224"/>
                  <a:pt x="16125" y="8280"/>
                  <a:pt x="16073" y="8310"/>
                </a:cubicBezTo>
                <a:cubicBezTo>
                  <a:pt x="16049" y="8324"/>
                  <a:pt x="16004" y="8328"/>
                  <a:pt x="15974" y="8334"/>
                </a:cubicBezTo>
              </a:path>
              <a:path w="1415" h="547">
                <a:moveTo>
                  <a:pt x="16073" y="8186"/>
                </a:moveTo>
                <a:cubicBezTo>
                  <a:pt x="16154" y="8142"/>
                  <a:pt x="16168" y="8140"/>
                  <a:pt x="16222" y="8086"/>
                </a:cubicBezTo>
                <a:cubicBezTo>
                  <a:pt x="16211" y="8128"/>
                  <a:pt x="16181" y="8162"/>
                  <a:pt x="16173" y="8210"/>
                </a:cubicBezTo>
                <a:cubicBezTo>
                  <a:pt x="16166" y="8250"/>
                  <a:pt x="16187" y="8350"/>
                  <a:pt x="16247" y="8334"/>
                </a:cubicBezTo>
                <a:cubicBezTo>
                  <a:pt x="16291" y="8313"/>
                  <a:pt x="16303" y="8310"/>
                  <a:pt x="16321" y="8285"/>
                </a:cubicBezTo>
              </a:path>
              <a:path w="1415" h="547">
                <a:moveTo>
                  <a:pt x="16470" y="7913"/>
                </a:moveTo>
                <a:cubicBezTo>
                  <a:pt x="16508" y="7847"/>
                  <a:pt x="16518" y="7819"/>
                  <a:pt x="16594" y="7813"/>
                </a:cubicBezTo>
                <a:cubicBezTo>
                  <a:pt x="16627" y="7810"/>
                  <a:pt x="16661" y="7813"/>
                  <a:pt x="16694" y="7813"/>
                </a:cubicBezTo>
                <a:cubicBezTo>
                  <a:pt x="16694" y="7872"/>
                  <a:pt x="16696" y="7892"/>
                  <a:pt x="16669" y="7938"/>
                </a:cubicBezTo>
                <a:cubicBezTo>
                  <a:pt x="16647" y="7976"/>
                  <a:pt x="16628" y="8000"/>
                  <a:pt x="16619" y="8037"/>
                </a:cubicBezTo>
                <a:cubicBezTo>
                  <a:pt x="16688" y="8027"/>
                  <a:pt x="16744" y="8007"/>
                  <a:pt x="16818" y="7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42040" y="2830680"/>
            <a:ext cx="61920" cy="71280"/>
          </a:xfrm>
          <a:custGeom>
            <a:avLst/>
            <a:gdLst/>
            <a:ahLst/>
            <a:rect l="l" t="t" r="r" b="b"/>
            <a:pathLst>
              <a:path w="175" h="200">
                <a:moveTo>
                  <a:pt x="17487" y="7913"/>
                </a:moveTo>
                <a:cubicBezTo>
                  <a:pt x="17487" y="7888"/>
                  <a:pt x="17487" y="7880"/>
                  <a:pt x="17487" y="7863"/>
                </a:cubicBezTo>
                <a:cubicBezTo>
                  <a:pt x="17428" y="7875"/>
                  <a:pt x="17397" y="7905"/>
                  <a:pt x="17338" y="7913"/>
                </a:cubicBezTo>
              </a:path>
              <a:path w="175" h="200">
                <a:moveTo>
                  <a:pt x="17462" y="8062"/>
                </a:moveTo>
                <a:cubicBezTo>
                  <a:pt x="17504" y="8062"/>
                  <a:pt x="17529" y="8062"/>
                  <a:pt x="17487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10240" y="2652840"/>
            <a:ext cx="1125720" cy="268200"/>
          </a:xfrm>
          <a:custGeom>
            <a:avLst/>
            <a:gdLst/>
            <a:ahLst/>
            <a:rect l="l" t="t" r="r" b="b"/>
            <a:pathLst>
              <a:path w="3126" h="745">
                <a:moveTo>
                  <a:pt x="18306" y="7888"/>
                </a:moveTo>
                <a:cubicBezTo>
                  <a:pt x="18323" y="7848"/>
                  <a:pt x="18331" y="7721"/>
                  <a:pt x="18331" y="7764"/>
                </a:cubicBezTo>
                <a:cubicBezTo>
                  <a:pt x="18331" y="7837"/>
                  <a:pt x="18309" y="7889"/>
                  <a:pt x="18306" y="7962"/>
                </a:cubicBezTo>
                <a:cubicBezTo>
                  <a:pt x="18306" y="8028"/>
                  <a:pt x="18306" y="8045"/>
                  <a:pt x="18306" y="8086"/>
                </a:cubicBezTo>
              </a:path>
              <a:path w="3126" h="745">
                <a:moveTo>
                  <a:pt x="18504" y="7789"/>
                </a:moveTo>
                <a:cubicBezTo>
                  <a:pt x="18543" y="7720"/>
                  <a:pt x="18550" y="7710"/>
                  <a:pt x="18604" y="7665"/>
                </a:cubicBezTo>
                <a:cubicBezTo>
                  <a:pt x="18646" y="7630"/>
                  <a:pt x="18692" y="7597"/>
                  <a:pt x="18752" y="7615"/>
                </a:cubicBezTo>
                <a:cubicBezTo>
                  <a:pt x="18824" y="7636"/>
                  <a:pt x="18847" y="7693"/>
                  <a:pt x="18827" y="7764"/>
                </a:cubicBezTo>
                <a:cubicBezTo>
                  <a:pt x="18803" y="7849"/>
                  <a:pt x="18734" y="7865"/>
                  <a:pt x="18703" y="7938"/>
                </a:cubicBezTo>
                <a:cubicBezTo>
                  <a:pt x="18696" y="7955"/>
                  <a:pt x="18703" y="7994"/>
                  <a:pt x="18703" y="8012"/>
                </a:cubicBezTo>
                <a:cubicBezTo>
                  <a:pt x="18770" y="8012"/>
                  <a:pt x="18814" y="8015"/>
                  <a:pt x="18876" y="7987"/>
                </a:cubicBezTo>
                <a:cubicBezTo>
                  <a:pt x="18926" y="7962"/>
                  <a:pt x="18942" y="7954"/>
                  <a:pt x="18976" y="7938"/>
                </a:cubicBezTo>
              </a:path>
              <a:path w="3126" h="745">
                <a:moveTo>
                  <a:pt x="19199" y="7913"/>
                </a:moveTo>
                <a:cubicBezTo>
                  <a:pt x="19252" y="7913"/>
                  <a:pt x="19272" y="7897"/>
                  <a:pt x="19323" y="7888"/>
                </a:cubicBezTo>
                <a:cubicBezTo>
                  <a:pt x="19361" y="7881"/>
                  <a:pt x="19408" y="7888"/>
                  <a:pt x="19447" y="7888"/>
                </a:cubicBezTo>
              </a:path>
              <a:path w="3126" h="745">
                <a:moveTo>
                  <a:pt x="19745" y="7665"/>
                </a:moveTo>
                <a:cubicBezTo>
                  <a:pt x="19728" y="7665"/>
                  <a:pt x="19712" y="7665"/>
                  <a:pt x="19695" y="7665"/>
                </a:cubicBezTo>
                <a:cubicBezTo>
                  <a:pt x="19695" y="7626"/>
                  <a:pt x="19683" y="7590"/>
                  <a:pt x="19720" y="7565"/>
                </a:cubicBezTo>
                <a:cubicBezTo>
                  <a:pt x="19774" y="7528"/>
                  <a:pt x="19839" y="7532"/>
                  <a:pt x="19893" y="7565"/>
                </a:cubicBezTo>
                <a:cubicBezTo>
                  <a:pt x="19960" y="7606"/>
                  <a:pt x="19946" y="7652"/>
                  <a:pt x="19918" y="7714"/>
                </a:cubicBezTo>
                <a:cubicBezTo>
                  <a:pt x="19891" y="7775"/>
                  <a:pt x="19811" y="7798"/>
                  <a:pt x="19794" y="7863"/>
                </a:cubicBezTo>
                <a:cubicBezTo>
                  <a:pt x="19787" y="7888"/>
                  <a:pt x="19794" y="7934"/>
                  <a:pt x="19794" y="7962"/>
                </a:cubicBezTo>
                <a:cubicBezTo>
                  <a:pt x="19862" y="7962"/>
                  <a:pt x="19910" y="7953"/>
                  <a:pt x="19968" y="7913"/>
                </a:cubicBezTo>
                <a:cubicBezTo>
                  <a:pt x="19976" y="7905"/>
                  <a:pt x="19985" y="7896"/>
                  <a:pt x="19993" y="7888"/>
                </a:cubicBezTo>
              </a:path>
              <a:path w="3126" h="745">
                <a:moveTo>
                  <a:pt x="20092" y="7764"/>
                </a:moveTo>
                <a:cubicBezTo>
                  <a:pt x="20137" y="7730"/>
                  <a:pt x="20168" y="7726"/>
                  <a:pt x="20216" y="7764"/>
                </a:cubicBezTo>
                <a:cubicBezTo>
                  <a:pt x="20253" y="7794"/>
                  <a:pt x="20286" y="7835"/>
                  <a:pt x="20265" y="7888"/>
                </a:cubicBezTo>
                <a:cubicBezTo>
                  <a:pt x="20249" y="7929"/>
                  <a:pt x="20173" y="7913"/>
                  <a:pt x="20141" y="7913"/>
                </a:cubicBezTo>
                <a:cubicBezTo>
                  <a:pt x="20133" y="7913"/>
                  <a:pt x="20125" y="7913"/>
                  <a:pt x="20117" y="7913"/>
                </a:cubicBezTo>
              </a:path>
              <a:path w="3126" h="745">
                <a:moveTo>
                  <a:pt x="20216" y="7813"/>
                </a:moveTo>
                <a:cubicBezTo>
                  <a:pt x="20346" y="7738"/>
                  <a:pt x="20285" y="7788"/>
                  <a:pt x="20340" y="7714"/>
                </a:cubicBezTo>
                <a:cubicBezTo>
                  <a:pt x="20303" y="7776"/>
                  <a:pt x="20309" y="7819"/>
                  <a:pt x="20340" y="7888"/>
                </a:cubicBezTo>
                <a:cubicBezTo>
                  <a:pt x="20369" y="7952"/>
                  <a:pt x="20379" y="7938"/>
                  <a:pt x="20439" y="7938"/>
                </a:cubicBezTo>
              </a:path>
              <a:path w="3126" h="745">
                <a:moveTo>
                  <a:pt x="20414" y="7541"/>
                </a:moveTo>
                <a:cubicBezTo>
                  <a:pt x="20484" y="7479"/>
                  <a:pt x="20541" y="7430"/>
                  <a:pt x="20638" y="7491"/>
                </a:cubicBezTo>
                <a:cubicBezTo>
                  <a:pt x="20722" y="7544"/>
                  <a:pt x="20734" y="7677"/>
                  <a:pt x="20737" y="7764"/>
                </a:cubicBezTo>
                <a:cubicBezTo>
                  <a:pt x="20741" y="7880"/>
                  <a:pt x="20722" y="7894"/>
                  <a:pt x="20662" y="7987"/>
                </a:cubicBezTo>
              </a:path>
              <a:path w="3126" h="745">
                <a:moveTo>
                  <a:pt x="18182" y="7640"/>
                </a:moveTo>
                <a:cubicBezTo>
                  <a:pt x="18202" y="7599"/>
                  <a:pt x="18211" y="7593"/>
                  <a:pt x="18207" y="7565"/>
                </a:cubicBezTo>
                <a:cubicBezTo>
                  <a:pt x="18173" y="7582"/>
                  <a:pt x="18094" y="7692"/>
                  <a:pt x="18083" y="7739"/>
                </a:cubicBezTo>
                <a:cubicBezTo>
                  <a:pt x="18066" y="7815"/>
                  <a:pt x="18064" y="7996"/>
                  <a:pt x="18107" y="8062"/>
                </a:cubicBezTo>
                <a:cubicBezTo>
                  <a:pt x="18124" y="8078"/>
                  <a:pt x="18140" y="8095"/>
                  <a:pt x="18157" y="8111"/>
                </a:cubicBezTo>
              </a:path>
              <a:path w="3126" h="745">
                <a:moveTo>
                  <a:pt x="20910" y="7441"/>
                </a:moveTo>
                <a:cubicBezTo>
                  <a:pt x="20870" y="7441"/>
                  <a:pt x="20931" y="7405"/>
                  <a:pt x="20960" y="7392"/>
                </a:cubicBezTo>
                <a:cubicBezTo>
                  <a:pt x="20994" y="7377"/>
                  <a:pt x="21018" y="7367"/>
                  <a:pt x="21059" y="7367"/>
                </a:cubicBezTo>
                <a:cubicBezTo>
                  <a:pt x="21059" y="7417"/>
                  <a:pt x="21064" y="7446"/>
                  <a:pt x="21034" y="7491"/>
                </a:cubicBezTo>
                <a:cubicBezTo>
                  <a:pt x="21004" y="7537"/>
                  <a:pt x="20985" y="7559"/>
                  <a:pt x="20985" y="7615"/>
                </a:cubicBezTo>
                <a:cubicBezTo>
                  <a:pt x="21045" y="7615"/>
                  <a:pt x="21084" y="7617"/>
                  <a:pt x="21134" y="7590"/>
                </a:cubicBezTo>
                <a:cubicBezTo>
                  <a:pt x="21177" y="7568"/>
                  <a:pt x="21188" y="7564"/>
                  <a:pt x="21208" y="7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0760" y="3321000"/>
            <a:ext cx="107640" cy="81000"/>
          </a:xfrm>
          <a:custGeom>
            <a:avLst/>
            <a:gdLst/>
            <a:ahLst/>
            <a:rect l="l" t="t" r="r" b="b"/>
            <a:pathLst>
              <a:path w="299" h="225">
                <a:moveTo>
                  <a:pt x="17413" y="9277"/>
                </a:moveTo>
                <a:cubicBezTo>
                  <a:pt x="17421" y="9277"/>
                  <a:pt x="17430" y="9277"/>
                  <a:pt x="17438" y="9277"/>
                </a:cubicBezTo>
                <a:cubicBezTo>
                  <a:pt x="17369" y="9277"/>
                  <a:pt x="17327" y="9267"/>
                  <a:pt x="17264" y="9252"/>
                </a:cubicBezTo>
                <a:cubicBezTo>
                  <a:pt x="17218" y="9241"/>
                  <a:pt x="17182" y="9237"/>
                  <a:pt x="17140" y="9227"/>
                </a:cubicBezTo>
              </a:path>
              <a:path w="299" h="225">
                <a:moveTo>
                  <a:pt x="17363" y="9426"/>
                </a:moveTo>
                <a:cubicBezTo>
                  <a:pt x="17380" y="9426"/>
                  <a:pt x="17396" y="9426"/>
                  <a:pt x="17413" y="9426"/>
                </a:cubicBezTo>
                <a:cubicBezTo>
                  <a:pt x="17368" y="9437"/>
                  <a:pt x="17343" y="9451"/>
                  <a:pt x="17289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00880" y="3251160"/>
            <a:ext cx="500040" cy="169920"/>
          </a:xfrm>
          <a:custGeom>
            <a:avLst/>
            <a:gdLst/>
            <a:ahLst/>
            <a:rect l="l" t="t" r="r" b="b"/>
            <a:pathLst>
              <a:path w="1390" h="472">
                <a:moveTo>
                  <a:pt x="18083" y="9128"/>
                </a:moveTo>
                <a:cubicBezTo>
                  <a:pt x="18083" y="9095"/>
                  <a:pt x="18093" y="9025"/>
                  <a:pt x="18107" y="9054"/>
                </a:cubicBezTo>
                <a:cubicBezTo>
                  <a:pt x="18137" y="9116"/>
                  <a:pt x="18085" y="9235"/>
                  <a:pt x="18083" y="9302"/>
                </a:cubicBezTo>
                <a:cubicBezTo>
                  <a:pt x="18081" y="9372"/>
                  <a:pt x="18066" y="9431"/>
                  <a:pt x="18058" y="9500"/>
                </a:cubicBezTo>
              </a:path>
              <a:path w="1390" h="472">
                <a:moveTo>
                  <a:pt x="18355" y="9054"/>
                </a:moveTo>
                <a:cubicBezTo>
                  <a:pt x="18372" y="9054"/>
                  <a:pt x="18388" y="9054"/>
                  <a:pt x="18405" y="9054"/>
                </a:cubicBezTo>
                <a:cubicBezTo>
                  <a:pt x="18405" y="9124"/>
                  <a:pt x="18390" y="9159"/>
                  <a:pt x="18380" y="9227"/>
                </a:cubicBezTo>
                <a:cubicBezTo>
                  <a:pt x="18374" y="9266"/>
                  <a:pt x="18335" y="9336"/>
                  <a:pt x="18355" y="9376"/>
                </a:cubicBezTo>
                <a:cubicBezTo>
                  <a:pt x="18388" y="9441"/>
                  <a:pt x="18446" y="9387"/>
                  <a:pt x="18479" y="9376"/>
                </a:cubicBezTo>
                <a:cubicBezTo>
                  <a:pt x="18511" y="9365"/>
                  <a:pt x="18594" y="9357"/>
                  <a:pt x="18628" y="9351"/>
                </a:cubicBezTo>
                <a:cubicBezTo>
                  <a:pt x="18692" y="9340"/>
                  <a:pt x="18720" y="9362"/>
                  <a:pt x="18777" y="9376"/>
                </a:cubicBezTo>
                <a:cubicBezTo>
                  <a:pt x="18802" y="9376"/>
                  <a:pt x="18810" y="9376"/>
                  <a:pt x="18802" y="9401"/>
                </a:cubicBezTo>
              </a:path>
              <a:path w="1390" h="472">
                <a:moveTo>
                  <a:pt x="18628" y="9277"/>
                </a:moveTo>
                <a:cubicBezTo>
                  <a:pt x="18620" y="9269"/>
                  <a:pt x="18612" y="9260"/>
                  <a:pt x="18604" y="9252"/>
                </a:cubicBezTo>
                <a:cubicBezTo>
                  <a:pt x="18604" y="9307"/>
                  <a:pt x="18582" y="9345"/>
                  <a:pt x="18579" y="9401"/>
                </a:cubicBezTo>
                <a:cubicBezTo>
                  <a:pt x="18577" y="9434"/>
                  <a:pt x="18579" y="9467"/>
                  <a:pt x="18579" y="9500"/>
                </a:cubicBezTo>
              </a:path>
              <a:path w="1390" h="472">
                <a:moveTo>
                  <a:pt x="18926" y="9029"/>
                </a:moveTo>
                <a:cubicBezTo>
                  <a:pt x="18951" y="9029"/>
                  <a:pt x="18959" y="9029"/>
                  <a:pt x="18976" y="9029"/>
                </a:cubicBezTo>
                <a:cubicBezTo>
                  <a:pt x="18976" y="9082"/>
                  <a:pt x="18960" y="9102"/>
                  <a:pt x="18951" y="9153"/>
                </a:cubicBezTo>
                <a:cubicBezTo>
                  <a:pt x="18941" y="9208"/>
                  <a:pt x="18940" y="9287"/>
                  <a:pt x="18976" y="9327"/>
                </a:cubicBezTo>
                <a:cubicBezTo>
                  <a:pt x="19020" y="9377"/>
                  <a:pt x="19034" y="9376"/>
                  <a:pt x="19100" y="9376"/>
                </a:cubicBezTo>
                <a:cubicBezTo>
                  <a:pt x="19216" y="9376"/>
                  <a:pt x="19331" y="9376"/>
                  <a:pt x="19447" y="9376"/>
                </a:cubicBezTo>
              </a:path>
              <a:path w="1390" h="472">
                <a:moveTo>
                  <a:pt x="19323" y="9203"/>
                </a:moveTo>
                <a:cubicBezTo>
                  <a:pt x="19240" y="9179"/>
                  <a:pt x="19248" y="9193"/>
                  <a:pt x="19248" y="9277"/>
                </a:cubicBezTo>
                <a:cubicBezTo>
                  <a:pt x="19248" y="9351"/>
                  <a:pt x="19248" y="9426"/>
                  <a:pt x="19248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05760" y="3321000"/>
            <a:ext cx="108000" cy="9720"/>
          </a:xfrm>
          <a:custGeom>
            <a:avLst/>
            <a:gdLst/>
            <a:ahLst/>
            <a:rect l="l" t="t" r="r" b="b"/>
            <a:pathLst>
              <a:path w="299" h="26">
                <a:moveTo>
                  <a:pt x="20017" y="9227"/>
                </a:moveTo>
                <a:cubicBezTo>
                  <a:pt x="20017" y="9235"/>
                  <a:pt x="20017" y="9244"/>
                  <a:pt x="20017" y="9252"/>
                </a:cubicBezTo>
                <a:cubicBezTo>
                  <a:pt x="20072" y="9252"/>
                  <a:pt x="20088" y="9240"/>
                  <a:pt x="20141" y="9227"/>
                </a:cubicBezTo>
                <a:cubicBezTo>
                  <a:pt x="20191" y="9214"/>
                  <a:pt x="20264" y="9227"/>
                  <a:pt x="20315" y="92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83320" y="3143160"/>
            <a:ext cx="1527480" cy="277920"/>
          </a:xfrm>
          <a:custGeom>
            <a:avLst/>
            <a:gdLst/>
            <a:ahLst/>
            <a:rect l="l" t="t" r="r" b="b"/>
            <a:pathLst>
              <a:path w="4243" h="770">
                <a:moveTo>
                  <a:pt x="20786" y="8979"/>
                </a:moveTo>
                <a:cubicBezTo>
                  <a:pt x="20846" y="8928"/>
                  <a:pt x="20823" y="8930"/>
                  <a:pt x="20886" y="8930"/>
                </a:cubicBezTo>
                <a:cubicBezTo>
                  <a:pt x="20886" y="8978"/>
                  <a:pt x="20875" y="9036"/>
                  <a:pt x="20861" y="9079"/>
                </a:cubicBezTo>
                <a:cubicBezTo>
                  <a:pt x="20834" y="9158"/>
                  <a:pt x="20811" y="9191"/>
                  <a:pt x="20811" y="9277"/>
                </a:cubicBezTo>
                <a:cubicBezTo>
                  <a:pt x="20811" y="9285"/>
                  <a:pt x="20811" y="9294"/>
                  <a:pt x="20811" y="9302"/>
                </a:cubicBezTo>
                <a:cubicBezTo>
                  <a:pt x="20947" y="9302"/>
                  <a:pt x="21087" y="9301"/>
                  <a:pt x="21208" y="9277"/>
                </a:cubicBezTo>
                <a:cubicBezTo>
                  <a:pt x="21255" y="9268"/>
                  <a:pt x="21320" y="9267"/>
                  <a:pt x="21332" y="9302"/>
                </a:cubicBezTo>
              </a:path>
              <a:path w="4243" h="770">
                <a:moveTo>
                  <a:pt x="21059" y="9203"/>
                </a:moveTo>
                <a:cubicBezTo>
                  <a:pt x="21051" y="9186"/>
                  <a:pt x="21042" y="9170"/>
                  <a:pt x="21034" y="9153"/>
                </a:cubicBezTo>
                <a:cubicBezTo>
                  <a:pt x="21034" y="9221"/>
                  <a:pt x="21048" y="9271"/>
                  <a:pt x="21059" y="9327"/>
                </a:cubicBezTo>
                <a:cubicBezTo>
                  <a:pt x="21066" y="9359"/>
                  <a:pt x="21059" y="9418"/>
                  <a:pt x="21059" y="9451"/>
                </a:cubicBezTo>
              </a:path>
              <a:path w="4243" h="770">
                <a:moveTo>
                  <a:pt x="21828" y="9103"/>
                </a:moveTo>
                <a:cubicBezTo>
                  <a:pt x="21871" y="9072"/>
                  <a:pt x="21878" y="9085"/>
                  <a:pt x="21878" y="9029"/>
                </a:cubicBezTo>
                <a:cubicBezTo>
                  <a:pt x="21864" y="8987"/>
                  <a:pt x="21830" y="9004"/>
                  <a:pt x="21779" y="9004"/>
                </a:cubicBezTo>
                <a:cubicBezTo>
                  <a:pt x="21712" y="9004"/>
                  <a:pt x="21682" y="9007"/>
                  <a:pt x="21630" y="9054"/>
                </a:cubicBezTo>
                <a:cubicBezTo>
                  <a:pt x="21582" y="9098"/>
                  <a:pt x="21560" y="9122"/>
                  <a:pt x="21605" y="9178"/>
                </a:cubicBezTo>
                <a:cubicBezTo>
                  <a:pt x="21642" y="9224"/>
                  <a:pt x="21684" y="9243"/>
                  <a:pt x="21729" y="9277"/>
                </a:cubicBezTo>
                <a:cubicBezTo>
                  <a:pt x="21767" y="9306"/>
                  <a:pt x="21807" y="9349"/>
                  <a:pt x="21828" y="9376"/>
                </a:cubicBezTo>
                <a:cubicBezTo>
                  <a:pt x="21851" y="9399"/>
                  <a:pt x="21859" y="9403"/>
                  <a:pt x="21853" y="9426"/>
                </a:cubicBezTo>
                <a:cubicBezTo>
                  <a:pt x="21812" y="9457"/>
                  <a:pt x="21776" y="9454"/>
                  <a:pt x="21729" y="9426"/>
                </a:cubicBezTo>
                <a:cubicBezTo>
                  <a:pt x="21673" y="9392"/>
                  <a:pt x="21668" y="9355"/>
                  <a:pt x="21704" y="9302"/>
                </a:cubicBezTo>
                <a:cubicBezTo>
                  <a:pt x="21742" y="9245"/>
                  <a:pt x="21784" y="9180"/>
                  <a:pt x="21828" y="9128"/>
                </a:cubicBezTo>
                <a:cubicBezTo>
                  <a:pt x="21862" y="9088"/>
                  <a:pt x="21926" y="9035"/>
                  <a:pt x="21977" y="9029"/>
                </a:cubicBezTo>
                <a:cubicBezTo>
                  <a:pt x="21985" y="9029"/>
                  <a:pt x="21994" y="9029"/>
                  <a:pt x="22002" y="9029"/>
                </a:cubicBezTo>
              </a:path>
              <a:path w="4243" h="770">
                <a:moveTo>
                  <a:pt x="22126" y="9351"/>
                </a:moveTo>
                <a:cubicBezTo>
                  <a:pt x="22126" y="9297"/>
                  <a:pt x="22130" y="9297"/>
                  <a:pt x="22175" y="9277"/>
                </a:cubicBezTo>
                <a:cubicBezTo>
                  <a:pt x="22249" y="9245"/>
                  <a:pt x="22245" y="9247"/>
                  <a:pt x="22299" y="9302"/>
                </a:cubicBezTo>
                <a:cubicBezTo>
                  <a:pt x="22324" y="9327"/>
                  <a:pt x="22372" y="9385"/>
                  <a:pt x="22349" y="9426"/>
                </a:cubicBezTo>
                <a:cubicBezTo>
                  <a:pt x="22319" y="9480"/>
                  <a:pt x="22278" y="9475"/>
                  <a:pt x="22225" y="9475"/>
                </a:cubicBezTo>
                <a:cubicBezTo>
                  <a:pt x="22200" y="9475"/>
                  <a:pt x="22192" y="9475"/>
                  <a:pt x="22175" y="9475"/>
                </a:cubicBezTo>
              </a:path>
              <a:path w="4243" h="770">
                <a:moveTo>
                  <a:pt x="22399" y="9302"/>
                </a:moveTo>
                <a:cubicBezTo>
                  <a:pt x="22445" y="9251"/>
                  <a:pt x="22460" y="9215"/>
                  <a:pt x="22498" y="9203"/>
                </a:cubicBezTo>
                <a:cubicBezTo>
                  <a:pt x="22422" y="9221"/>
                  <a:pt x="22426" y="9278"/>
                  <a:pt x="22423" y="9351"/>
                </a:cubicBezTo>
                <a:cubicBezTo>
                  <a:pt x="22420" y="9419"/>
                  <a:pt x="22450" y="9483"/>
                  <a:pt x="22523" y="9500"/>
                </a:cubicBezTo>
                <a:cubicBezTo>
                  <a:pt x="22587" y="9515"/>
                  <a:pt x="22673" y="9458"/>
                  <a:pt x="22721" y="9426"/>
                </a:cubicBezTo>
              </a:path>
              <a:path w="4243" h="770">
                <a:moveTo>
                  <a:pt x="23316" y="9178"/>
                </a:moveTo>
                <a:cubicBezTo>
                  <a:pt x="23341" y="9178"/>
                  <a:pt x="23349" y="9178"/>
                  <a:pt x="23366" y="9178"/>
                </a:cubicBezTo>
                <a:cubicBezTo>
                  <a:pt x="23330" y="9166"/>
                  <a:pt x="23326" y="9153"/>
                  <a:pt x="23267" y="9153"/>
                </a:cubicBezTo>
                <a:cubicBezTo>
                  <a:pt x="23196" y="9153"/>
                  <a:pt x="23123" y="9137"/>
                  <a:pt x="23068" y="9178"/>
                </a:cubicBezTo>
              </a:path>
              <a:path w="4243" h="770">
                <a:moveTo>
                  <a:pt x="23168" y="9103"/>
                </a:moveTo>
                <a:cubicBezTo>
                  <a:pt x="23190" y="9051"/>
                  <a:pt x="23181" y="9041"/>
                  <a:pt x="23217" y="9029"/>
                </a:cubicBezTo>
                <a:cubicBezTo>
                  <a:pt x="23217" y="9112"/>
                  <a:pt x="23217" y="9194"/>
                  <a:pt x="23217" y="9277"/>
                </a:cubicBezTo>
              </a:path>
              <a:path w="4243" h="770">
                <a:moveTo>
                  <a:pt x="23540" y="8905"/>
                </a:moveTo>
                <a:cubicBezTo>
                  <a:pt x="23618" y="8858"/>
                  <a:pt x="23597" y="8855"/>
                  <a:pt x="23664" y="8855"/>
                </a:cubicBezTo>
                <a:cubicBezTo>
                  <a:pt x="23664" y="8918"/>
                  <a:pt x="23666" y="8947"/>
                  <a:pt x="23639" y="9004"/>
                </a:cubicBezTo>
                <a:cubicBezTo>
                  <a:pt x="23612" y="9062"/>
                  <a:pt x="23594" y="9118"/>
                  <a:pt x="23589" y="9178"/>
                </a:cubicBezTo>
                <a:cubicBezTo>
                  <a:pt x="23589" y="9186"/>
                  <a:pt x="23589" y="9195"/>
                  <a:pt x="23589" y="9203"/>
                </a:cubicBezTo>
                <a:cubicBezTo>
                  <a:pt x="23655" y="9203"/>
                  <a:pt x="23700" y="9192"/>
                  <a:pt x="23763" y="9178"/>
                </a:cubicBezTo>
                <a:cubicBezTo>
                  <a:pt x="23828" y="9163"/>
                  <a:pt x="23864" y="9193"/>
                  <a:pt x="23912" y="9203"/>
                </a:cubicBezTo>
                <a:cubicBezTo>
                  <a:pt x="23954" y="9212"/>
                  <a:pt x="24005" y="9179"/>
                  <a:pt x="24011" y="9227"/>
                </a:cubicBezTo>
                <a:cubicBezTo>
                  <a:pt x="24011" y="9235"/>
                  <a:pt x="24011" y="9244"/>
                  <a:pt x="24011" y="9252"/>
                </a:cubicBezTo>
              </a:path>
              <a:path w="4243" h="770">
                <a:moveTo>
                  <a:pt x="23862" y="9178"/>
                </a:moveTo>
                <a:cubicBezTo>
                  <a:pt x="23839" y="9155"/>
                  <a:pt x="23835" y="9147"/>
                  <a:pt x="23812" y="9153"/>
                </a:cubicBezTo>
                <a:cubicBezTo>
                  <a:pt x="23804" y="9223"/>
                  <a:pt x="23788" y="9278"/>
                  <a:pt x="23788" y="9351"/>
                </a:cubicBezTo>
                <a:cubicBezTo>
                  <a:pt x="23788" y="9368"/>
                  <a:pt x="23788" y="9384"/>
                  <a:pt x="23788" y="9401"/>
                </a:cubicBezTo>
              </a:path>
              <a:path w="4243" h="770">
                <a:moveTo>
                  <a:pt x="24011" y="9178"/>
                </a:moveTo>
                <a:cubicBezTo>
                  <a:pt x="24036" y="9153"/>
                  <a:pt x="24078" y="9110"/>
                  <a:pt x="24110" y="9103"/>
                </a:cubicBezTo>
                <a:cubicBezTo>
                  <a:pt x="24151" y="9094"/>
                  <a:pt x="24216" y="9103"/>
                  <a:pt x="24259" y="9103"/>
                </a:cubicBezTo>
                <a:cubicBezTo>
                  <a:pt x="24267" y="9166"/>
                  <a:pt x="24284" y="9212"/>
                  <a:pt x="24284" y="9277"/>
                </a:cubicBezTo>
                <a:cubicBezTo>
                  <a:pt x="24284" y="9322"/>
                  <a:pt x="24249" y="9372"/>
                  <a:pt x="24185" y="9351"/>
                </a:cubicBezTo>
                <a:cubicBezTo>
                  <a:pt x="24177" y="9343"/>
                  <a:pt x="24168" y="9335"/>
                  <a:pt x="24160" y="9327"/>
                </a:cubicBezTo>
              </a:path>
              <a:path w="4243" h="770">
                <a:moveTo>
                  <a:pt x="24383" y="9153"/>
                </a:moveTo>
                <a:cubicBezTo>
                  <a:pt x="24424" y="9112"/>
                  <a:pt x="24432" y="9104"/>
                  <a:pt x="24457" y="9079"/>
                </a:cubicBezTo>
                <a:cubicBezTo>
                  <a:pt x="24403" y="9079"/>
                  <a:pt x="24373" y="9090"/>
                  <a:pt x="24358" y="9153"/>
                </a:cubicBezTo>
                <a:cubicBezTo>
                  <a:pt x="24349" y="9192"/>
                  <a:pt x="24347" y="9280"/>
                  <a:pt x="24383" y="9302"/>
                </a:cubicBezTo>
                <a:cubicBezTo>
                  <a:pt x="24429" y="9331"/>
                  <a:pt x="24496" y="9272"/>
                  <a:pt x="24532" y="9252"/>
                </a:cubicBezTo>
              </a:path>
              <a:path w="4243" h="770">
                <a:moveTo>
                  <a:pt x="24681" y="8880"/>
                </a:moveTo>
                <a:cubicBezTo>
                  <a:pt x="24681" y="8839"/>
                  <a:pt x="24681" y="8797"/>
                  <a:pt x="24681" y="8756"/>
                </a:cubicBezTo>
                <a:cubicBezTo>
                  <a:pt x="24726" y="8756"/>
                  <a:pt x="24740" y="8735"/>
                  <a:pt x="24780" y="8731"/>
                </a:cubicBezTo>
                <a:cubicBezTo>
                  <a:pt x="24805" y="8731"/>
                  <a:pt x="24813" y="8731"/>
                  <a:pt x="24829" y="8731"/>
                </a:cubicBezTo>
                <a:cubicBezTo>
                  <a:pt x="24829" y="8788"/>
                  <a:pt x="24814" y="8834"/>
                  <a:pt x="24805" y="8880"/>
                </a:cubicBezTo>
                <a:cubicBezTo>
                  <a:pt x="24795" y="8933"/>
                  <a:pt x="24760" y="8956"/>
                  <a:pt x="24755" y="9004"/>
                </a:cubicBezTo>
                <a:cubicBezTo>
                  <a:pt x="24755" y="9012"/>
                  <a:pt x="24755" y="9021"/>
                  <a:pt x="24755" y="9029"/>
                </a:cubicBezTo>
                <a:cubicBezTo>
                  <a:pt x="24813" y="9029"/>
                  <a:pt x="24849" y="9028"/>
                  <a:pt x="24904" y="9004"/>
                </a:cubicBezTo>
                <a:cubicBezTo>
                  <a:pt x="24954" y="8982"/>
                  <a:pt x="24974" y="8979"/>
                  <a:pt x="25028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97320" y="3276720"/>
            <a:ext cx="339840" cy="144360"/>
          </a:xfrm>
          <a:custGeom>
            <a:avLst/>
            <a:gdLst/>
            <a:ahLst/>
            <a:rect l="l" t="t" r="r" b="b"/>
            <a:pathLst>
              <a:path w="944" h="398">
                <a:moveTo>
                  <a:pt x="14461" y="9277"/>
                </a:moveTo>
                <a:cubicBezTo>
                  <a:pt x="14444" y="9255"/>
                  <a:pt x="14417" y="9211"/>
                  <a:pt x="14436" y="9178"/>
                </a:cubicBezTo>
                <a:cubicBezTo>
                  <a:pt x="14464" y="9128"/>
                  <a:pt x="14509" y="9106"/>
                  <a:pt x="14560" y="9103"/>
                </a:cubicBezTo>
                <a:cubicBezTo>
                  <a:pt x="14629" y="9099"/>
                  <a:pt x="14638" y="9106"/>
                  <a:pt x="14684" y="9153"/>
                </a:cubicBezTo>
                <a:cubicBezTo>
                  <a:pt x="14741" y="9211"/>
                  <a:pt x="14692" y="9248"/>
                  <a:pt x="14660" y="9302"/>
                </a:cubicBezTo>
                <a:cubicBezTo>
                  <a:pt x="14638" y="9339"/>
                  <a:pt x="14616" y="9430"/>
                  <a:pt x="14635" y="9475"/>
                </a:cubicBezTo>
                <a:cubicBezTo>
                  <a:pt x="14652" y="9516"/>
                  <a:pt x="14726" y="9500"/>
                  <a:pt x="14759" y="9500"/>
                </a:cubicBezTo>
                <a:cubicBezTo>
                  <a:pt x="14809" y="9500"/>
                  <a:pt x="14840" y="9461"/>
                  <a:pt x="14883" y="9451"/>
                </a:cubicBezTo>
              </a:path>
              <a:path w="944" h="398">
                <a:moveTo>
                  <a:pt x="14957" y="9327"/>
                </a:moveTo>
                <a:cubicBezTo>
                  <a:pt x="14957" y="9288"/>
                  <a:pt x="14963" y="9262"/>
                  <a:pt x="15007" y="9252"/>
                </a:cubicBezTo>
                <a:cubicBezTo>
                  <a:pt x="15056" y="9241"/>
                  <a:pt x="15121" y="9247"/>
                  <a:pt x="15156" y="9277"/>
                </a:cubicBezTo>
                <a:cubicBezTo>
                  <a:pt x="15193" y="9310"/>
                  <a:pt x="15233" y="9370"/>
                  <a:pt x="15205" y="9426"/>
                </a:cubicBezTo>
                <a:cubicBezTo>
                  <a:pt x="15177" y="9482"/>
                  <a:pt x="15106" y="9475"/>
                  <a:pt x="15056" y="9475"/>
                </a:cubicBezTo>
              </a:path>
              <a:path w="944" h="398">
                <a:moveTo>
                  <a:pt x="15156" y="9252"/>
                </a:moveTo>
                <a:cubicBezTo>
                  <a:pt x="15234" y="9206"/>
                  <a:pt x="15213" y="9203"/>
                  <a:pt x="15280" y="9203"/>
                </a:cubicBezTo>
                <a:cubicBezTo>
                  <a:pt x="15280" y="9258"/>
                  <a:pt x="15258" y="9296"/>
                  <a:pt x="15255" y="9351"/>
                </a:cubicBezTo>
                <a:cubicBezTo>
                  <a:pt x="15252" y="9405"/>
                  <a:pt x="15274" y="9445"/>
                  <a:pt x="15329" y="9451"/>
                </a:cubicBezTo>
                <a:cubicBezTo>
                  <a:pt x="15354" y="9451"/>
                  <a:pt x="15362" y="9451"/>
                  <a:pt x="15379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70720" y="3224160"/>
            <a:ext cx="312480" cy="482760"/>
          </a:xfrm>
          <a:custGeom>
            <a:avLst/>
            <a:gdLst/>
            <a:ahLst/>
            <a:rect l="l" t="t" r="r" b="b"/>
            <a:pathLst>
              <a:path w="869" h="1341">
                <a:moveTo>
                  <a:pt x="15776" y="9029"/>
                </a:moveTo>
                <a:cubicBezTo>
                  <a:pt x="15768" y="9029"/>
                  <a:pt x="15759" y="9029"/>
                  <a:pt x="15751" y="9029"/>
                </a:cubicBezTo>
                <a:cubicBezTo>
                  <a:pt x="15761" y="8988"/>
                  <a:pt x="15779" y="8959"/>
                  <a:pt x="15825" y="8954"/>
                </a:cubicBezTo>
                <a:cubicBezTo>
                  <a:pt x="15876" y="8948"/>
                  <a:pt x="15880" y="8953"/>
                  <a:pt x="15900" y="8979"/>
                </a:cubicBezTo>
                <a:cubicBezTo>
                  <a:pt x="15908" y="8987"/>
                  <a:pt x="15917" y="8996"/>
                  <a:pt x="15925" y="9004"/>
                </a:cubicBezTo>
                <a:cubicBezTo>
                  <a:pt x="15897" y="9042"/>
                  <a:pt x="15885" y="9080"/>
                  <a:pt x="15875" y="9128"/>
                </a:cubicBezTo>
                <a:cubicBezTo>
                  <a:pt x="15928" y="9128"/>
                  <a:pt x="15945" y="9108"/>
                  <a:pt x="15999" y="9103"/>
                </a:cubicBezTo>
                <a:cubicBezTo>
                  <a:pt x="16024" y="9103"/>
                  <a:pt x="16032" y="9103"/>
                  <a:pt x="16049" y="9103"/>
                </a:cubicBezTo>
              </a:path>
              <a:path w="869" h="1341">
                <a:moveTo>
                  <a:pt x="16346" y="10046"/>
                </a:moveTo>
                <a:cubicBezTo>
                  <a:pt x="16307" y="10059"/>
                  <a:pt x="16336" y="10058"/>
                  <a:pt x="16297" y="10071"/>
                </a:cubicBezTo>
                <a:cubicBezTo>
                  <a:pt x="16287" y="10032"/>
                  <a:pt x="16272" y="10016"/>
                  <a:pt x="16272" y="9971"/>
                </a:cubicBezTo>
                <a:cubicBezTo>
                  <a:pt x="16272" y="9912"/>
                  <a:pt x="16307" y="9862"/>
                  <a:pt x="16371" y="9847"/>
                </a:cubicBezTo>
                <a:cubicBezTo>
                  <a:pt x="16443" y="9830"/>
                  <a:pt x="16531" y="9856"/>
                  <a:pt x="16570" y="9922"/>
                </a:cubicBezTo>
                <a:cubicBezTo>
                  <a:pt x="16618" y="10003"/>
                  <a:pt x="16644" y="10135"/>
                  <a:pt x="16594" y="10220"/>
                </a:cubicBezTo>
                <a:cubicBezTo>
                  <a:pt x="16564" y="10271"/>
                  <a:pt x="16456" y="10328"/>
                  <a:pt x="16396" y="10294"/>
                </a:cubicBezTo>
                <a:cubicBezTo>
                  <a:pt x="16305" y="10244"/>
                  <a:pt x="16321" y="10131"/>
                  <a:pt x="16321" y="10046"/>
                </a:cubicBezTo>
                <a:cubicBezTo>
                  <a:pt x="16321" y="9978"/>
                  <a:pt x="16318" y="9959"/>
                  <a:pt x="16346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3120" y="3571920"/>
            <a:ext cx="71640" cy="54000"/>
          </a:xfrm>
          <a:custGeom>
            <a:avLst/>
            <a:gdLst/>
            <a:ahLst/>
            <a:rect l="l" t="t" r="r" b="b"/>
            <a:pathLst>
              <a:path w="200" h="150">
                <a:moveTo>
                  <a:pt x="17239" y="9922"/>
                </a:moveTo>
                <a:cubicBezTo>
                  <a:pt x="17247" y="9922"/>
                  <a:pt x="17256" y="9922"/>
                  <a:pt x="17264" y="9922"/>
                </a:cubicBezTo>
                <a:cubicBezTo>
                  <a:pt x="17204" y="9922"/>
                  <a:pt x="17165" y="9932"/>
                  <a:pt x="17115" y="9947"/>
                </a:cubicBezTo>
                <a:cubicBezTo>
                  <a:pt x="17107" y="9947"/>
                  <a:pt x="17098" y="9947"/>
                  <a:pt x="17090" y="9947"/>
                </a:cubicBezTo>
              </a:path>
              <a:path w="200" h="150">
                <a:moveTo>
                  <a:pt x="17239" y="9996"/>
                </a:moveTo>
                <a:cubicBezTo>
                  <a:pt x="17256" y="10013"/>
                  <a:pt x="17272" y="10029"/>
                  <a:pt x="17289" y="10046"/>
                </a:cubicBezTo>
                <a:cubicBezTo>
                  <a:pt x="17245" y="10072"/>
                  <a:pt x="17218" y="10071"/>
                  <a:pt x="17165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92880" y="3510000"/>
            <a:ext cx="465120" cy="169920"/>
          </a:xfrm>
          <a:custGeom>
            <a:avLst/>
            <a:gdLst/>
            <a:ahLst/>
            <a:rect l="l" t="t" r="r" b="b"/>
            <a:pathLst>
              <a:path w="1291" h="473">
                <a:moveTo>
                  <a:pt x="17760" y="9773"/>
                </a:moveTo>
                <a:cubicBezTo>
                  <a:pt x="17802" y="9731"/>
                  <a:pt x="17776" y="9854"/>
                  <a:pt x="17785" y="9897"/>
                </a:cubicBezTo>
                <a:cubicBezTo>
                  <a:pt x="17801" y="9971"/>
                  <a:pt x="17799" y="10061"/>
                  <a:pt x="17835" y="10120"/>
                </a:cubicBezTo>
              </a:path>
              <a:path w="1291" h="473">
                <a:moveTo>
                  <a:pt x="17983" y="9773"/>
                </a:moveTo>
                <a:cubicBezTo>
                  <a:pt x="17991" y="9765"/>
                  <a:pt x="18000" y="9756"/>
                  <a:pt x="18008" y="9748"/>
                </a:cubicBezTo>
                <a:cubicBezTo>
                  <a:pt x="18057" y="9810"/>
                  <a:pt x="18058" y="9844"/>
                  <a:pt x="18058" y="9922"/>
                </a:cubicBezTo>
                <a:cubicBezTo>
                  <a:pt x="18058" y="9955"/>
                  <a:pt x="18036" y="10081"/>
                  <a:pt x="18083" y="10096"/>
                </a:cubicBezTo>
                <a:cubicBezTo>
                  <a:pt x="18143" y="10115"/>
                  <a:pt x="18222" y="10074"/>
                  <a:pt x="18281" y="10071"/>
                </a:cubicBezTo>
                <a:cubicBezTo>
                  <a:pt x="18347" y="10068"/>
                  <a:pt x="18413" y="10071"/>
                  <a:pt x="18479" y="10071"/>
                </a:cubicBezTo>
              </a:path>
              <a:path w="1291" h="473">
                <a:moveTo>
                  <a:pt x="18256" y="9996"/>
                </a:moveTo>
                <a:cubicBezTo>
                  <a:pt x="18248" y="9988"/>
                  <a:pt x="18239" y="9979"/>
                  <a:pt x="18231" y="9971"/>
                </a:cubicBezTo>
                <a:cubicBezTo>
                  <a:pt x="18266" y="10030"/>
                  <a:pt x="18260" y="10103"/>
                  <a:pt x="18281" y="10170"/>
                </a:cubicBezTo>
                <a:cubicBezTo>
                  <a:pt x="18289" y="10187"/>
                  <a:pt x="18298" y="10203"/>
                  <a:pt x="18306" y="10220"/>
                </a:cubicBezTo>
              </a:path>
              <a:path w="1291" h="473">
                <a:moveTo>
                  <a:pt x="18653" y="9798"/>
                </a:moveTo>
                <a:cubicBezTo>
                  <a:pt x="18661" y="9798"/>
                  <a:pt x="18670" y="9798"/>
                  <a:pt x="18678" y="9798"/>
                </a:cubicBezTo>
                <a:cubicBezTo>
                  <a:pt x="18678" y="9881"/>
                  <a:pt x="18678" y="9963"/>
                  <a:pt x="18678" y="10046"/>
                </a:cubicBezTo>
                <a:cubicBezTo>
                  <a:pt x="18760" y="10046"/>
                  <a:pt x="18825" y="10058"/>
                  <a:pt x="18901" y="10071"/>
                </a:cubicBezTo>
                <a:cubicBezTo>
                  <a:pt x="18959" y="10081"/>
                  <a:pt x="18976" y="10080"/>
                  <a:pt x="19025" y="10096"/>
                </a:cubicBezTo>
                <a:cubicBezTo>
                  <a:pt x="19033" y="10096"/>
                  <a:pt x="19042" y="10096"/>
                  <a:pt x="19050" y="10096"/>
                </a:cubicBezTo>
              </a:path>
              <a:path w="1291" h="473">
                <a:moveTo>
                  <a:pt x="18951" y="9971"/>
                </a:moveTo>
                <a:cubicBezTo>
                  <a:pt x="18934" y="9971"/>
                  <a:pt x="18918" y="9971"/>
                  <a:pt x="18901" y="9971"/>
                </a:cubicBezTo>
                <a:cubicBezTo>
                  <a:pt x="18901" y="10054"/>
                  <a:pt x="18901" y="10137"/>
                  <a:pt x="18901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81920" y="3589200"/>
            <a:ext cx="98280" cy="19080"/>
          </a:xfrm>
          <a:custGeom>
            <a:avLst/>
            <a:gdLst/>
            <a:ahLst/>
            <a:rect l="l" t="t" r="r" b="b"/>
            <a:pathLst>
              <a:path w="274" h="51">
                <a:moveTo>
                  <a:pt x="19893" y="10021"/>
                </a:moveTo>
                <a:cubicBezTo>
                  <a:pt x="19921" y="10021"/>
                  <a:pt x="19932" y="10019"/>
                  <a:pt x="19943" y="9996"/>
                </a:cubicBezTo>
                <a:cubicBezTo>
                  <a:pt x="19887" y="9988"/>
                  <a:pt x="19832" y="9953"/>
                  <a:pt x="19769" y="9971"/>
                </a:cubicBezTo>
                <a:cubicBezTo>
                  <a:pt x="19721" y="9995"/>
                  <a:pt x="19707" y="10004"/>
                  <a:pt x="19670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04040" y="3463920"/>
            <a:ext cx="590760" cy="196920"/>
          </a:xfrm>
          <a:custGeom>
            <a:avLst/>
            <a:gdLst/>
            <a:ahLst/>
            <a:rect l="l" t="t" r="r" b="b"/>
            <a:pathLst>
              <a:path w="1638" h="547">
                <a:moveTo>
                  <a:pt x="20290" y="9723"/>
                </a:moveTo>
                <a:cubicBezTo>
                  <a:pt x="20328" y="9667"/>
                  <a:pt x="20306" y="9674"/>
                  <a:pt x="20365" y="9674"/>
                </a:cubicBezTo>
                <a:cubicBezTo>
                  <a:pt x="20365" y="9739"/>
                  <a:pt x="20350" y="9787"/>
                  <a:pt x="20340" y="9847"/>
                </a:cubicBezTo>
                <a:cubicBezTo>
                  <a:pt x="20331" y="9901"/>
                  <a:pt x="20340" y="9966"/>
                  <a:pt x="20340" y="10021"/>
                </a:cubicBezTo>
                <a:cubicBezTo>
                  <a:pt x="20481" y="10021"/>
                  <a:pt x="20621" y="10021"/>
                  <a:pt x="20762" y="10021"/>
                </a:cubicBezTo>
              </a:path>
              <a:path w="1638" h="547">
                <a:moveTo>
                  <a:pt x="20588" y="9897"/>
                </a:moveTo>
                <a:cubicBezTo>
                  <a:pt x="20571" y="9897"/>
                  <a:pt x="20555" y="9897"/>
                  <a:pt x="20538" y="9897"/>
                </a:cubicBezTo>
                <a:cubicBezTo>
                  <a:pt x="20538" y="9987"/>
                  <a:pt x="20545" y="10061"/>
                  <a:pt x="20563" y="10145"/>
                </a:cubicBezTo>
                <a:cubicBezTo>
                  <a:pt x="20563" y="10153"/>
                  <a:pt x="20563" y="10162"/>
                  <a:pt x="20563" y="10170"/>
                </a:cubicBezTo>
              </a:path>
              <a:path w="1638" h="547">
                <a:moveTo>
                  <a:pt x="21208" y="9723"/>
                </a:moveTo>
                <a:cubicBezTo>
                  <a:pt x="21260" y="9694"/>
                  <a:pt x="21270" y="9701"/>
                  <a:pt x="21282" y="9649"/>
                </a:cubicBezTo>
                <a:cubicBezTo>
                  <a:pt x="21274" y="9625"/>
                  <a:pt x="21222" y="9601"/>
                  <a:pt x="21183" y="9624"/>
                </a:cubicBezTo>
                <a:cubicBezTo>
                  <a:pt x="21147" y="9645"/>
                  <a:pt x="21038" y="9715"/>
                  <a:pt x="21010" y="9748"/>
                </a:cubicBezTo>
                <a:cubicBezTo>
                  <a:pt x="21002" y="9765"/>
                  <a:pt x="20993" y="9781"/>
                  <a:pt x="20985" y="9798"/>
                </a:cubicBezTo>
                <a:cubicBezTo>
                  <a:pt x="21000" y="9857"/>
                  <a:pt x="21024" y="9847"/>
                  <a:pt x="21084" y="9847"/>
                </a:cubicBezTo>
                <a:cubicBezTo>
                  <a:pt x="21137" y="9847"/>
                  <a:pt x="21229" y="9870"/>
                  <a:pt x="21258" y="9922"/>
                </a:cubicBezTo>
                <a:cubicBezTo>
                  <a:pt x="21258" y="9930"/>
                  <a:pt x="21258" y="9939"/>
                  <a:pt x="21258" y="9947"/>
                </a:cubicBezTo>
                <a:cubicBezTo>
                  <a:pt x="21258" y="9995"/>
                  <a:pt x="21233" y="10033"/>
                  <a:pt x="21183" y="10046"/>
                </a:cubicBezTo>
                <a:cubicBezTo>
                  <a:pt x="21128" y="10061"/>
                  <a:pt x="21096" y="10026"/>
                  <a:pt x="21059" y="9996"/>
                </a:cubicBezTo>
                <a:cubicBezTo>
                  <a:pt x="21073" y="9940"/>
                  <a:pt x="21116" y="9892"/>
                  <a:pt x="21158" y="9847"/>
                </a:cubicBezTo>
                <a:cubicBezTo>
                  <a:pt x="21205" y="9801"/>
                  <a:pt x="21217" y="9787"/>
                  <a:pt x="21258" y="9773"/>
                </a:cubicBezTo>
              </a:path>
              <a:path w="1638" h="547">
                <a:moveTo>
                  <a:pt x="21456" y="9947"/>
                </a:moveTo>
                <a:cubicBezTo>
                  <a:pt x="21456" y="9893"/>
                  <a:pt x="21467" y="9862"/>
                  <a:pt x="21530" y="9847"/>
                </a:cubicBezTo>
                <a:cubicBezTo>
                  <a:pt x="21582" y="9835"/>
                  <a:pt x="21647" y="9852"/>
                  <a:pt x="21679" y="9897"/>
                </a:cubicBezTo>
                <a:cubicBezTo>
                  <a:pt x="21710" y="9940"/>
                  <a:pt x="21722" y="10026"/>
                  <a:pt x="21654" y="10046"/>
                </a:cubicBezTo>
                <a:cubicBezTo>
                  <a:pt x="21638" y="10046"/>
                  <a:pt x="21621" y="10046"/>
                  <a:pt x="21605" y="10046"/>
                </a:cubicBezTo>
              </a:path>
              <a:path w="1638" h="547">
                <a:moveTo>
                  <a:pt x="21779" y="9823"/>
                </a:moveTo>
                <a:cubicBezTo>
                  <a:pt x="21779" y="9741"/>
                  <a:pt x="21778" y="9920"/>
                  <a:pt x="21779" y="9922"/>
                </a:cubicBezTo>
                <a:cubicBezTo>
                  <a:pt x="21799" y="9991"/>
                  <a:pt x="21831" y="10039"/>
                  <a:pt x="21903" y="10046"/>
                </a:cubicBezTo>
                <a:cubicBezTo>
                  <a:pt x="21911" y="10046"/>
                  <a:pt x="21919" y="10046"/>
                  <a:pt x="21927" y="10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161200" y="3419640"/>
            <a:ext cx="733680" cy="206280"/>
          </a:xfrm>
          <a:custGeom>
            <a:avLst/>
            <a:gdLst/>
            <a:ahLst/>
            <a:rect l="l" t="t" r="r" b="b"/>
            <a:pathLst>
              <a:path w="2035" h="572">
                <a:moveTo>
                  <a:pt x="22895" y="9872"/>
                </a:moveTo>
                <a:cubicBezTo>
                  <a:pt x="22962" y="9872"/>
                  <a:pt x="22811" y="9872"/>
                  <a:pt x="22796" y="9872"/>
                </a:cubicBezTo>
                <a:cubicBezTo>
                  <a:pt x="22754" y="9872"/>
                  <a:pt x="22713" y="9872"/>
                  <a:pt x="22671" y="9872"/>
                </a:cubicBezTo>
              </a:path>
              <a:path w="2035" h="572">
                <a:moveTo>
                  <a:pt x="22696" y="9773"/>
                </a:moveTo>
                <a:cubicBezTo>
                  <a:pt x="22735" y="9734"/>
                  <a:pt x="22737" y="9717"/>
                  <a:pt x="22771" y="9723"/>
                </a:cubicBezTo>
                <a:cubicBezTo>
                  <a:pt x="22826" y="9792"/>
                  <a:pt x="22820" y="9834"/>
                  <a:pt x="22820" y="9922"/>
                </a:cubicBezTo>
                <a:cubicBezTo>
                  <a:pt x="22820" y="9973"/>
                  <a:pt x="22821" y="9992"/>
                  <a:pt x="22845" y="10021"/>
                </a:cubicBezTo>
              </a:path>
              <a:path w="2035" h="572">
                <a:moveTo>
                  <a:pt x="23639" y="9922"/>
                </a:moveTo>
                <a:cubicBezTo>
                  <a:pt x="23656" y="9871"/>
                  <a:pt x="23689" y="9896"/>
                  <a:pt x="23738" y="9872"/>
                </a:cubicBezTo>
                <a:cubicBezTo>
                  <a:pt x="23788" y="9847"/>
                  <a:pt x="23815" y="9830"/>
                  <a:pt x="23862" y="9872"/>
                </a:cubicBezTo>
                <a:cubicBezTo>
                  <a:pt x="23900" y="9906"/>
                  <a:pt x="23931" y="9940"/>
                  <a:pt x="23912" y="9996"/>
                </a:cubicBezTo>
                <a:cubicBezTo>
                  <a:pt x="23886" y="10075"/>
                  <a:pt x="23832" y="10071"/>
                  <a:pt x="23763" y="10071"/>
                </a:cubicBezTo>
                <a:cubicBezTo>
                  <a:pt x="23755" y="10071"/>
                  <a:pt x="23746" y="10071"/>
                  <a:pt x="23738" y="10071"/>
                </a:cubicBezTo>
              </a:path>
              <a:path w="2035" h="572">
                <a:moveTo>
                  <a:pt x="23961" y="9748"/>
                </a:moveTo>
                <a:cubicBezTo>
                  <a:pt x="24021" y="9709"/>
                  <a:pt x="24033" y="9705"/>
                  <a:pt x="24061" y="9674"/>
                </a:cubicBezTo>
                <a:cubicBezTo>
                  <a:pt x="24047" y="9742"/>
                  <a:pt x="24014" y="9799"/>
                  <a:pt x="24011" y="9872"/>
                </a:cubicBezTo>
                <a:cubicBezTo>
                  <a:pt x="24009" y="9931"/>
                  <a:pt x="24020" y="10017"/>
                  <a:pt x="24085" y="10046"/>
                </a:cubicBezTo>
                <a:cubicBezTo>
                  <a:pt x="24144" y="10073"/>
                  <a:pt x="24183" y="9979"/>
                  <a:pt x="24209" y="9947"/>
                </a:cubicBezTo>
              </a:path>
              <a:path w="2035" h="572">
                <a:moveTo>
                  <a:pt x="24433" y="9599"/>
                </a:moveTo>
                <a:cubicBezTo>
                  <a:pt x="24433" y="9557"/>
                  <a:pt x="24438" y="9540"/>
                  <a:pt x="24482" y="9525"/>
                </a:cubicBezTo>
                <a:cubicBezTo>
                  <a:pt x="24505" y="9517"/>
                  <a:pt x="24551" y="9483"/>
                  <a:pt x="24581" y="9500"/>
                </a:cubicBezTo>
                <a:cubicBezTo>
                  <a:pt x="24611" y="9517"/>
                  <a:pt x="24618" y="9594"/>
                  <a:pt x="24606" y="9624"/>
                </a:cubicBezTo>
                <a:cubicBezTo>
                  <a:pt x="24584" y="9677"/>
                  <a:pt x="24581" y="9709"/>
                  <a:pt x="24581" y="9773"/>
                </a:cubicBezTo>
                <a:cubicBezTo>
                  <a:pt x="24581" y="9822"/>
                  <a:pt x="24635" y="9842"/>
                  <a:pt x="24681" y="9823"/>
                </a:cubicBezTo>
                <a:cubicBezTo>
                  <a:pt x="24689" y="9815"/>
                  <a:pt x="24697" y="9806"/>
                  <a:pt x="24705" y="9798"/>
                </a:cubicBezTo>
              </a:path>
              <a:path w="2035" h="572">
                <a:moveTo>
                  <a:pt x="23242" y="9699"/>
                </a:moveTo>
                <a:cubicBezTo>
                  <a:pt x="23242" y="9668"/>
                  <a:pt x="23250" y="9632"/>
                  <a:pt x="23267" y="9624"/>
                </a:cubicBezTo>
                <a:cubicBezTo>
                  <a:pt x="23299" y="9608"/>
                  <a:pt x="23326" y="9599"/>
                  <a:pt x="23366" y="9599"/>
                </a:cubicBezTo>
                <a:cubicBezTo>
                  <a:pt x="23419" y="9599"/>
                  <a:pt x="23416" y="9632"/>
                  <a:pt x="23416" y="9674"/>
                </a:cubicBezTo>
                <a:cubicBezTo>
                  <a:pt x="23416" y="9716"/>
                  <a:pt x="23370" y="9766"/>
                  <a:pt x="23341" y="9798"/>
                </a:cubicBezTo>
                <a:cubicBezTo>
                  <a:pt x="23317" y="9825"/>
                  <a:pt x="23269" y="9880"/>
                  <a:pt x="23292" y="9922"/>
                </a:cubicBezTo>
                <a:cubicBezTo>
                  <a:pt x="23315" y="9965"/>
                  <a:pt x="23375" y="9947"/>
                  <a:pt x="23416" y="9947"/>
                </a:cubicBezTo>
                <a:cubicBezTo>
                  <a:pt x="23457" y="9947"/>
                  <a:pt x="23465" y="9947"/>
                  <a:pt x="23490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13280" y="3786120"/>
            <a:ext cx="13356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16222" y="10641"/>
                </a:moveTo>
                <a:cubicBezTo>
                  <a:pt x="16180" y="10627"/>
                  <a:pt x="16191" y="10602"/>
                  <a:pt x="16222" y="10567"/>
                </a:cubicBezTo>
                <a:cubicBezTo>
                  <a:pt x="16254" y="10531"/>
                  <a:pt x="16299" y="10521"/>
                  <a:pt x="16346" y="10517"/>
                </a:cubicBezTo>
                <a:cubicBezTo>
                  <a:pt x="16400" y="10512"/>
                  <a:pt x="16431" y="10531"/>
                  <a:pt x="16470" y="10567"/>
                </a:cubicBezTo>
                <a:cubicBezTo>
                  <a:pt x="16508" y="10602"/>
                  <a:pt x="16517" y="10688"/>
                  <a:pt x="16520" y="10740"/>
                </a:cubicBezTo>
                <a:cubicBezTo>
                  <a:pt x="16524" y="10811"/>
                  <a:pt x="16492" y="10842"/>
                  <a:pt x="16446" y="10889"/>
                </a:cubicBezTo>
                <a:cubicBezTo>
                  <a:pt x="16395" y="10941"/>
                  <a:pt x="16303" y="10895"/>
                  <a:pt x="16247" y="10864"/>
                </a:cubicBezTo>
                <a:cubicBezTo>
                  <a:pt x="16194" y="10835"/>
                  <a:pt x="16152" y="10805"/>
                  <a:pt x="16148" y="10740"/>
                </a:cubicBezTo>
                <a:cubicBezTo>
                  <a:pt x="16148" y="10696"/>
                  <a:pt x="16145" y="10682"/>
                  <a:pt x="16173" y="106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26120" y="3813120"/>
            <a:ext cx="54000" cy="4464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17140" y="10592"/>
                </a:moveTo>
                <a:cubicBezTo>
                  <a:pt x="17148" y="10592"/>
                  <a:pt x="17157" y="10592"/>
                  <a:pt x="17165" y="10592"/>
                </a:cubicBezTo>
                <a:cubicBezTo>
                  <a:pt x="17107" y="10592"/>
                  <a:pt x="17062" y="10583"/>
                  <a:pt x="17016" y="10616"/>
                </a:cubicBezTo>
              </a:path>
              <a:path w="150" h="125">
                <a:moveTo>
                  <a:pt x="17115" y="10716"/>
                </a:moveTo>
                <a:cubicBezTo>
                  <a:pt x="17182" y="10716"/>
                  <a:pt x="17078" y="10716"/>
                  <a:pt x="17066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3880" y="3768840"/>
            <a:ext cx="527040" cy="152280"/>
          </a:xfrm>
          <a:custGeom>
            <a:avLst/>
            <a:gdLst/>
            <a:ahLst/>
            <a:rect l="l" t="t" r="r" b="b"/>
            <a:pathLst>
              <a:path w="1465" h="422">
                <a:moveTo>
                  <a:pt x="18008" y="10492"/>
                </a:moveTo>
                <a:cubicBezTo>
                  <a:pt x="18000" y="10484"/>
                  <a:pt x="17991" y="10476"/>
                  <a:pt x="17983" y="10468"/>
                </a:cubicBezTo>
                <a:cubicBezTo>
                  <a:pt x="18071" y="10468"/>
                  <a:pt x="18149" y="10479"/>
                  <a:pt x="18231" y="10492"/>
                </a:cubicBezTo>
                <a:cubicBezTo>
                  <a:pt x="18273" y="10499"/>
                  <a:pt x="18385" y="10464"/>
                  <a:pt x="18405" y="10517"/>
                </a:cubicBezTo>
                <a:cubicBezTo>
                  <a:pt x="18431" y="10584"/>
                  <a:pt x="18331" y="10643"/>
                  <a:pt x="18306" y="10691"/>
                </a:cubicBezTo>
                <a:cubicBezTo>
                  <a:pt x="18279" y="10743"/>
                  <a:pt x="18229" y="10813"/>
                  <a:pt x="18207" y="10864"/>
                </a:cubicBezTo>
                <a:cubicBezTo>
                  <a:pt x="18207" y="10872"/>
                  <a:pt x="18207" y="10881"/>
                  <a:pt x="18207" y="10889"/>
                </a:cubicBezTo>
              </a:path>
              <a:path w="1465" h="422">
                <a:moveTo>
                  <a:pt x="18678" y="10542"/>
                </a:moveTo>
                <a:cubicBezTo>
                  <a:pt x="18655" y="10519"/>
                  <a:pt x="18647" y="10515"/>
                  <a:pt x="18653" y="10492"/>
                </a:cubicBezTo>
                <a:cubicBezTo>
                  <a:pt x="18697" y="10461"/>
                  <a:pt x="18720" y="10468"/>
                  <a:pt x="18777" y="10468"/>
                </a:cubicBezTo>
                <a:cubicBezTo>
                  <a:pt x="18827" y="10468"/>
                  <a:pt x="18864" y="10517"/>
                  <a:pt x="18852" y="10567"/>
                </a:cubicBezTo>
                <a:cubicBezTo>
                  <a:pt x="18841" y="10615"/>
                  <a:pt x="18780" y="10700"/>
                  <a:pt x="18752" y="10740"/>
                </a:cubicBezTo>
                <a:cubicBezTo>
                  <a:pt x="18729" y="10774"/>
                  <a:pt x="18713" y="10776"/>
                  <a:pt x="18703" y="10815"/>
                </a:cubicBezTo>
                <a:cubicBezTo>
                  <a:pt x="18771" y="10815"/>
                  <a:pt x="18813" y="10806"/>
                  <a:pt x="18876" y="10790"/>
                </a:cubicBezTo>
                <a:cubicBezTo>
                  <a:pt x="18920" y="10779"/>
                  <a:pt x="18936" y="10789"/>
                  <a:pt x="18976" y="10765"/>
                </a:cubicBezTo>
              </a:path>
              <a:path w="1465" h="422">
                <a:moveTo>
                  <a:pt x="19248" y="10641"/>
                </a:moveTo>
                <a:cubicBezTo>
                  <a:pt x="19248" y="10633"/>
                  <a:pt x="19248" y="10624"/>
                  <a:pt x="19248" y="10616"/>
                </a:cubicBezTo>
                <a:cubicBezTo>
                  <a:pt x="19291" y="10606"/>
                  <a:pt x="19332" y="10579"/>
                  <a:pt x="19372" y="10567"/>
                </a:cubicBezTo>
                <a:cubicBezTo>
                  <a:pt x="19405" y="10567"/>
                  <a:pt x="19422" y="10567"/>
                  <a:pt x="19447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61120" y="3741840"/>
            <a:ext cx="411120" cy="179280"/>
          </a:xfrm>
          <a:custGeom>
            <a:avLst/>
            <a:gdLst/>
            <a:ahLst/>
            <a:rect l="l" t="t" r="r" b="b"/>
            <a:pathLst>
              <a:path w="1142" h="497">
                <a:moveTo>
                  <a:pt x="19893" y="10443"/>
                </a:moveTo>
                <a:cubicBezTo>
                  <a:pt x="19901" y="10420"/>
                  <a:pt x="19944" y="10396"/>
                  <a:pt x="19968" y="10393"/>
                </a:cubicBezTo>
                <a:cubicBezTo>
                  <a:pt x="20004" y="10388"/>
                  <a:pt x="20044" y="10385"/>
                  <a:pt x="20067" y="10418"/>
                </a:cubicBezTo>
                <a:cubicBezTo>
                  <a:pt x="20112" y="10483"/>
                  <a:pt x="20084" y="10509"/>
                  <a:pt x="20067" y="10567"/>
                </a:cubicBezTo>
                <a:cubicBezTo>
                  <a:pt x="20050" y="10623"/>
                  <a:pt x="20012" y="10637"/>
                  <a:pt x="19993" y="10666"/>
                </a:cubicBezTo>
                <a:cubicBezTo>
                  <a:pt x="19993" y="10674"/>
                  <a:pt x="19993" y="10683"/>
                  <a:pt x="19993" y="10691"/>
                </a:cubicBezTo>
                <a:cubicBezTo>
                  <a:pt x="20084" y="10691"/>
                  <a:pt x="20174" y="10691"/>
                  <a:pt x="20265" y="10691"/>
                </a:cubicBezTo>
              </a:path>
              <a:path w="1142" h="497">
                <a:moveTo>
                  <a:pt x="20513" y="10468"/>
                </a:moveTo>
                <a:cubicBezTo>
                  <a:pt x="20546" y="10468"/>
                  <a:pt x="20580" y="10468"/>
                  <a:pt x="20613" y="10468"/>
                </a:cubicBezTo>
                <a:cubicBezTo>
                  <a:pt x="20613" y="10530"/>
                  <a:pt x="20603" y="10558"/>
                  <a:pt x="20588" y="10616"/>
                </a:cubicBezTo>
                <a:cubicBezTo>
                  <a:pt x="20579" y="10652"/>
                  <a:pt x="20588" y="10703"/>
                  <a:pt x="20588" y="10740"/>
                </a:cubicBezTo>
                <a:cubicBezTo>
                  <a:pt x="20701" y="10740"/>
                  <a:pt x="20804" y="10738"/>
                  <a:pt x="20910" y="10765"/>
                </a:cubicBezTo>
                <a:cubicBezTo>
                  <a:pt x="20949" y="10775"/>
                  <a:pt x="20965" y="10790"/>
                  <a:pt x="21010" y="10790"/>
                </a:cubicBezTo>
                <a:cubicBezTo>
                  <a:pt x="21010" y="10815"/>
                  <a:pt x="21010" y="10823"/>
                  <a:pt x="21034" y="10815"/>
                </a:cubicBezTo>
              </a:path>
              <a:path w="1142" h="497">
                <a:moveTo>
                  <a:pt x="20935" y="10641"/>
                </a:moveTo>
                <a:cubicBezTo>
                  <a:pt x="20894" y="10641"/>
                  <a:pt x="20886" y="10641"/>
                  <a:pt x="20861" y="10641"/>
                </a:cubicBezTo>
                <a:cubicBezTo>
                  <a:pt x="20850" y="10694"/>
                  <a:pt x="20851" y="10763"/>
                  <a:pt x="20836" y="10815"/>
                </a:cubicBezTo>
                <a:cubicBezTo>
                  <a:pt x="20816" y="10855"/>
                  <a:pt x="20807" y="10861"/>
                  <a:pt x="20811" y="10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15160" y="3776760"/>
            <a:ext cx="162000" cy="90360"/>
          </a:xfrm>
          <a:custGeom>
            <a:avLst/>
            <a:gdLst/>
            <a:ahLst/>
            <a:rect l="l" t="t" r="r" b="b"/>
            <a:pathLst>
              <a:path w="448" h="249">
                <a:moveTo>
                  <a:pt x="21456" y="10691"/>
                </a:moveTo>
                <a:cubicBezTo>
                  <a:pt x="21423" y="10647"/>
                  <a:pt x="21428" y="10626"/>
                  <a:pt x="21481" y="10592"/>
                </a:cubicBezTo>
                <a:cubicBezTo>
                  <a:pt x="21532" y="10559"/>
                  <a:pt x="21563" y="10555"/>
                  <a:pt x="21605" y="10592"/>
                </a:cubicBezTo>
                <a:cubicBezTo>
                  <a:pt x="21647" y="10629"/>
                  <a:pt x="21638" y="10676"/>
                  <a:pt x="21605" y="10716"/>
                </a:cubicBezTo>
                <a:cubicBezTo>
                  <a:pt x="21577" y="10750"/>
                  <a:pt x="21546" y="10740"/>
                  <a:pt x="21506" y="10740"/>
                </a:cubicBezTo>
                <a:cubicBezTo>
                  <a:pt x="21498" y="10740"/>
                  <a:pt x="21489" y="10740"/>
                  <a:pt x="21481" y="10740"/>
                </a:cubicBezTo>
              </a:path>
              <a:path w="448" h="249">
                <a:moveTo>
                  <a:pt x="21729" y="10517"/>
                </a:moveTo>
                <a:cubicBezTo>
                  <a:pt x="21746" y="10509"/>
                  <a:pt x="21762" y="10500"/>
                  <a:pt x="21779" y="10492"/>
                </a:cubicBezTo>
                <a:cubicBezTo>
                  <a:pt x="21779" y="10575"/>
                  <a:pt x="21786" y="10638"/>
                  <a:pt x="21803" y="10716"/>
                </a:cubicBezTo>
                <a:cubicBezTo>
                  <a:pt x="21814" y="10763"/>
                  <a:pt x="21846" y="10739"/>
                  <a:pt x="21878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089920" y="3768840"/>
            <a:ext cx="108000" cy="115920"/>
          </a:xfrm>
          <a:custGeom>
            <a:avLst/>
            <a:gdLst/>
            <a:ahLst/>
            <a:rect l="l" t="t" r="r" b="b"/>
            <a:pathLst>
              <a:path w="299" h="323">
                <a:moveTo>
                  <a:pt x="22771" y="10641"/>
                </a:moveTo>
                <a:cubicBezTo>
                  <a:pt x="22771" y="10633"/>
                  <a:pt x="22771" y="10624"/>
                  <a:pt x="22771" y="10616"/>
                </a:cubicBezTo>
                <a:cubicBezTo>
                  <a:pt x="22672" y="10616"/>
                  <a:pt x="22572" y="10616"/>
                  <a:pt x="22473" y="10616"/>
                </a:cubicBezTo>
              </a:path>
              <a:path w="299" h="323">
                <a:moveTo>
                  <a:pt x="22523" y="10492"/>
                </a:moveTo>
                <a:cubicBezTo>
                  <a:pt x="22539" y="10484"/>
                  <a:pt x="22556" y="10476"/>
                  <a:pt x="22572" y="10468"/>
                </a:cubicBezTo>
                <a:cubicBezTo>
                  <a:pt x="22585" y="10530"/>
                  <a:pt x="22597" y="10575"/>
                  <a:pt x="22597" y="10641"/>
                </a:cubicBezTo>
                <a:cubicBezTo>
                  <a:pt x="22597" y="10691"/>
                  <a:pt x="22597" y="10740"/>
                  <a:pt x="22597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474040" y="3670200"/>
            <a:ext cx="357120" cy="214560"/>
          </a:xfrm>
          <a:custGeom>
            <a:avLst/>
            <a:gdLst/>
            <a:ahLst/>
            <a:rect l="l" t="t" r="r" b="b"/>
            <a:pathLst>
              <a:path w="993" h="596">
                <a:moveTo>
                  <a:pt x="23540" y="10616"/>
                </a:moveTo>
                <a:cubicBezTo>
                  <a:pt x="23586" y="10607"/>
                  <a:pt x="23638" y="10576"/>
                  <a:pt x="23688" y="10592"/>
                </a:cubicBezTo>
                <a:cubicBezTo>
                  <a:pt x="23736" y="10608"/>
                  <a:pt x="23807" y="10684"/>
                  <a:pt x="23788" y="10740"/>
                </a:cubicBezTo>
                <a:cubicBezTo>
                  <a:pt x="23772" y="10786"/>
                  <a:pt x="23673" y="10765"/>
                  <a:pt x="23639" y="10765"/>
                </a:cubicBezTo>
                <a:cubicBezTo>
                  <a:pt x="23591" y="10765"/>
                  <a:pt x="23578" y="10767"/>
                  <a:pt x="23540" y="10790"/>
                </a:cubicBezTo>
              </a:path>
              <a:path w="993" h="596">
                <a:moveTo>
                  <a:pt x="23812" y="10616"/>
                </a:moveTo>
                <a:cubicBezTo>
                  <a:pt x="23907" y="10551"/>
                  <a:pt x="23914" y="10512"/>
                  <a:pt x="23862" y="10592"/>
                </a:cubicBezTo>
                <a:cubicBezTo>
                  <a:pt x="23836" y="10632"/>
                  <a:pt x="23787" y="10715"/>
                  <a:pt x="23812" y="10765"/>
                </a:cubicBezTo>
                <a:cubicBezTo>
                  <a:pt x="23820" y="10773"/>
                  <a:pt x="23829" y="10782"/>
                  <a:pt x="23837" y="10790"/>
                </a:cubicBezTo>
                <a:cubicBezTo>
                  <a:pt x="23898" y="10778"/>
                  <a:pt x="23954" y="10744"/>
                  <a:pt x="24011" y="10716"/>
                </a:cubicBezTo>
              </a:path>
              <a:path w="993" h="596">
                <a:moveTo>
                  <a:pt x="24259" y="10220"/>
                </a:moveTo>
                <a:cubicBezTo>
                  <a:pt x="24251" y="10212"/>
                  <a:pt x="24242" y="10203"/>
                  <a:pt x="24234" y="10195"/>
                </a:cubicBezTo>
                <a:cubicBezTo>
                  <a:pt x="24247" y="10233"/>
                  <a:pt x="24264" y="10220"/>
                  <a:pt x="24309" y="10220"/>
                </a:cubicBezTo>
                <a:cubicBezTo>
                  <a:pt x="24333" y="10220"/>
                  <a:pt x="24342" y="10220"/>
                  <a:pt x="24358" y="10220"/>
                </a:cubicBezTo>
                <a:cubicBezTo>
                  <a:pt x="24358" y="10271"/>
                  <a:pt x="24328" y="10465"/>
                  <a:pt x="24383" y="10492"/>
                </a:cubicBezTo>
                <a:cubicBezTo>
                  <a:pt x="24424" y="10512"/>
                  <a:pt x="24503" y="10489"/>
                  <a:pt x="24532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72280" y="3929040"/>
            <a:ext cx="955800" cy="231840"/>
          </a:xfrm>
          <a:custGeom>
            <a:avLst/>
            <a:gdLst/>
            <a:ahLst/>
            <a:rect l="l" t="t" r="r" b="b"/>
            <a:pathLst>
              <a:path w="2656" h="646">
                <a:moveTo>
                  <a:pt x="24631" y="10914"/>
                </a:moveTo>
                <a:cubicBezTo>
                  <a:pt x="24382" y="10914"/>
                  <a:pt x="24040" y="10851"/>
                  <a:pt x="23812" y="10939"/>
                </a:cubicBezTo>
                <a:cubicBezTo>
                  <a:pt x="23752" y="10962"/>
                  <a:pt x="23705" y="10984"/>
                  <a:pt x="23639" y="10988"/>
                </a:cubicBezTo>
                <a:cubicBezTo>
                  <a:pt x="23543" y="10993"/>
                  <a:pt x="23448" y="11001"/>
                  <a:pt x="23366" y="11013"/>
                </a:cubicBezTo>
                <a:cubicBezTo>
                  <a:pt x="23244" y="11031"/>
                  <a:pt x="23105" y="11019"/>
                  <a:pt x="22994" y="11038"/>
                </a:cubicBezTo>
                <a:cubicBezTo>
                  <a:pt x="22921" y="11050"/>
                  <a:pt x="22863" y="11028"/>
                  <a:pt x="22820" y="11063"/>
                </a:cubicBezTo>
                <a:cubicBezTo>
                  <a:pt x="22801" y="11078"/>
                  <a:pt x="22770" y="11103"/>
                  <a:pt x="22746" y="11137"/>
                </a:cubicBezTo>
                <a:cubicBezTo>
                  <a:pt x="22718" y="11176"/>
                  <a:pt x="22682" y="11288"/>
                  <a:pt x="22671" y="11336"/>
                </a:cubicBezTo>
                <a:cubicBezTo>
                  <a:pt x="22659" y="11391"/>
                  <a:pt x="22631" y="11462"/>
                  <a:pt x="22622" y="11509"/>
                </a:cubicBezTo>
                <a:cubicBezTo>
                  <a:pt x="22622" y="11534"/>
                  <a:pt x="22622" y="11542"/>
                  <a:pt x="22622" y="11559"/>
                </a:cubicBezTo>
                <a:cubicBezTo>
                  <a:pt x="22589" y="11536"/>
                  <a:pt x="22567" y="11529"/>
                  <a:pt x="22547" y="11485"/>
                </a:cubicBezTo>
                <a:cubicBezTo>
                  <a:pt x="22529" y="11445"/>
                  <a:pt x="22485" y="11380"/>
                  <a:pt x="22473" y="11336"/>
                </a:cubicBezTo>
                <a:cubicBezTo>
                  <a:pt x="22466" y="11308"/>
                  <a:pt x="22465" y="11237"/>
                  <a:pt x="22448" y="11212"/>
                </a:cubicBezTo>
                <a:cubicBezTo>
                  <a:pt x="22440" y="11212"/>
                  <a:pt x="22431" y="11212"/>
                  <a:pt x="22423" y="11212"/>
                </a:cubicBezTo>
              </a:path>
              <a:path w="2656" h="646">
                <a:moveTo>
                  <a:pt x="22845" y="11187"/>
                </a:moveTo>
                <a:cubicBezTo>
                  <a:pt x="22845" y="11146"/>
                  <a:pt x="22845" y="11220"/>
                  <a:pt x="22845" y="11261"/>
                </a:cubicBezTo>
                <a:cubicBezTo>
                  <a:pt x="22845" y="11330"/>
                  <a:pt x="22845" y="11551"/>
                  <a:pt x="22845" y="11534"/>
                </a:cubicBezTo>
                <a:cubicBezTo>
                  <a:pt x="22845" y="11489"/>
                  <a:pt x="22821" y="11360"/>
                  <a:pt x="22870" y="11336"/>
                </a:cubicBezTo>
                <a:cubicBezTo>
                  <a:pt x="22917" y="11313"/>
                  <a:pt x="22940" y="11300"/>
                  <a:pt x="22994" y="11336"/>
                </a:cubicBezTo>
                <a:cubicBezTo>
                  <a:pt x="23048" y="11372"/>
                  <a:pt x="23044" y="11401"/>
                  <a:pt x="23044" y="11460"/>
                </a:cubicBezTo>
                <a:cubicBezTo>
                  <a:pt x="23044" y="11502"/>
                  <a:pt x="23008" y="11530"/>
                  <a:pt x="22969" y="11534"/>
                </a:cubicBezTo>
                <a:cubicBezTo>
                  <a:pt x="22928" y="11539"/>
                  <a:pt x="22927" y="11533"/>
                  <a:pt x="22895" y="11509"/>
                </a:cubicBezTo>
              </a:path>
              <a:path w="2656" h="646">
                <a:moveTo>
                  <a:pt x="23217" y="11187"/>
                </a:moveTo>
                <a:cubicBezTo>
                  <a:pt x="23222" y="11172"/>
                  <a:pt x="23258" y="11121"/>
                  <a:pt x="23292" y="11137"/>
                </a:cubicBezTo>
                <a:cubicBezTo>
                  <a:pt x="23300" y="11145"/>
                  <a:pt x="23308" y="11154"/>
                  <a:pt x="23316" y="11162"/>
                </a:cubicBezTo>
                <a:cubicBezTo>
                  <a:pt x="23288" y="11191"/>
                  <a:pt x="23254" y="11226"/>
                  <a:pt x="23242" y="11261"/>
                </a:cubicBezTo>
                <a:cubicBezTo>
                  <a:pt x="23227" y="11307"/>
                  <a:pt x="23223" y="11311"/>
                  <a:pt x="23242" y="11311"/>
                </a:cubicBezTo>
                <a:cubicBezTo>
                  <a:pt x="23293" y="11311"/>
                  <a:pt x="23300" y="11300"/>
                  <a:pt x="23341" y="11286"/>
                </a:cubicBezTo>
                <a:cubicBezTo>
                  <a:pt x="23366" y="11286"/>
                  <a:pt x="23374" y="11286"/>
                  <a:pt x="23366" y="11261"/>
                </a:cubicBezTo>
              </a:path>
              <a:path w="2656" h="646">
                <a:moveTo>
                  <a:pt x="23515" y="11435"/>
                </a:moveTo>
                <a:cubicBezTo>
                  <a:pt x="23507" y="11443"/>
                  <a:pt x="23498" y="11452"/>
                  <a:pt x="23490" y="11460"/>
                </a:cubicBezTo>
                <a:cubicBezTo>
                  <a:pt x="23524" y="11449"/>
                  <a:pt x="23520" y="11425"/>
                  <a:pt x="23564" y="11410"/>
                </a:cubicBezTo>
                <a:cubicBezTo>
                  <a:pt x="23609" y="11395"/>
                  <a:pt x="23692" y="11410"/>
                  <a:pt x="23738" y="11410"/>
                </a:cubicBezTo>
              </a:path>
              <a:path w="2656" h="646">
                <a:moveTo>
                  <a:pt x="23986" y="11137"/>
                </a:moveTo>
                <a:cubicBezTo>
                  <a:pt x="24021" y="11111"/>
                  <a:pt x="24017" y="11112"/>
                  <a:pt x="24061" y="11112"/>
                </a:cubicBezTo>
                <a:cubicBezTo>
                  <a:pt x="24061" y="11163"/>
                  <a:pt x="24060" y="11171"/>
                  <a:pt x="24036" y="11212"/>
                </a:cubicBezTo>
                <a:cubicBezTo>
                  <a:pt x="24006" y="11263"/>
                  <a:pt x="23967" y="11327"/>
                  <a:pt x="23961" y="11385"/>
                </a:cubicBezTo>
                <a:cubicBezTo>
                  <a:pt x="23961" y="11410"/>
                  <a:pt x="23961" y="11418"/>
                  <a:pt x="23961" y="11435"/>
                </a:cubicBezTo>
                <a:cubicBezTo>
                  <a:pt x="24012" y="11435"/>
                  <a:pt x="24020" y="11424"/>
                  <a:pt x="24061" y="11410"/>
                </a:cubicBezTo>
                <a:cubicBezTo>
                  <a:pt x="24096" y="11398"/>
                  <a:pt x="24151" y="11389"/>
                  <a:pt x="24185" y="11385"/>
                </a:cubicBezTo>
                <a:cubicBezTo>
                  <a:pt x="24203" y="11383"/>
                  <a:pt x="24279" y="11356"/>
                  <a:pt x="24284" y="11361"/>
                </a:cubicBezTo>
                <a:cubicBezTo>
                  <a:pt x="24284" y="11369"/>
                  <a:pt x="24284" y="11377"/>
                  <a:pt x="24284" y="11385"/>
                </a:cubicBezTo>
              </a:path>
              <a:path w="2656" h="646">
                <a:moveTo>
                  <a:pt x="24160" y="11261"/>
                </a:moveTo>
                <a:cubicBezTo>
                  <a:pt x="24152" y="11253"/>
                  <a:pt x="24143" y="11245"/>
                  <a:pt x="24135" y="11237"/>
                </a:cubicBezTo>
                <a:cubicBezTo>
                  <a:pt x="24112" y="11275"/>
                  <a:pt x="24093" y="11334"/>
                  <a:pt x="24110" y="11385"/>
                </a:cubicBezTo>
                <a:cubicBezTo>
                  <a:pt x="24128" y="11439"/>
                  <a:pt x="24135" y="11454"/>
                  <a:pt x="24135" y="11509"/>
                </a:cubicBezTo>
              </a:path>
              <a:path w="2656" h="646">
                <a:moveTo>
                  <a:pt x="24507" y="11286"/>
                </a:moveTo>
                <a:cubicBezTo>
                  <a:pt x="24529" y="11264"/>
                  <a:pt x="24538" y="11259"/>
                  <a:pt x="24532" y="11237"/>
                </a:cubicBezTo>
                <a:cubicBezTo>
                  <a:pt x="24456" y="11237"/>
                  <a:pt x="24495" y="11273"/>
                  <a:pt x="24457" y="11336"/>
                </a:cubicBezTo>
                <a:cubicBezTo>
                  <a:pt x="24430" y="11381"/>
                  <a:pt x="24433" y="11403"/>
                  <a:pt x="24433" y="11460"/>
                </a:cubicBezTo>
                <a:cubicBezTo>
                  <a:pt x="24497" y="11460"/>
                  <a:pt x="24490" y="11430"/>
                  <a:pt x="24532" y="11385"/>
                </a:cubicBezTo>
                <a:cubicBezTo>
                  <a:pt x="24555" y="11363"/>
                  <a:pt x="24563" y="11358"/>
                  <a:pt x="24557" y="11336"/>
                </a:cubicBezTo>
                <a:cubicBezTo>
                  <a:pt x="24585" y="11346"/>
                  <a:pt x="24602" y="11370"/>
                  <a:pt x="24606" y="11410"/>
                </a:cubicBezTo>
                <a:cubicBezTo>
                  <a:pt x="24611" y="11459"/>
                  <a:pt x="24654" y="11435"/>
                  <a:pt x="24681" y="11410"/>
                </a:cubicBezTo>
                <a:cubicBezTo>
                  <a:pt x="24724" y="11371"/>
                  <a:pt x="24746" y="11331"/>
                  <a:pt x="24780" y="11286"/>
                </a:cubicBezTo>
                <a:cubicBezTo>
                  <a:pt x="24799" y="11261"/>
                  <a:pt x="24883" y="11138"/>
                  <a:pt x="24829" y="11237"/>
                </a:cubicBezTo>
                <a:cubicBezTo>
                  <a:pt x="24806" y="11279"/>
                  <a:pt x="24784" y="11379"/>
                  <a:pt x="24805" y="11435"/>
                </a:cubicBezTo>
                <a:cubicBezTo>
                  <a:pt x="24822" y="11481"/>
                  <a:pt x="24897" y="11552"/>
                  <a:pt x="24954" y="11509"/>
                </a:cubicBezTo>
                <a:cubicBezTo>
                  <a:pt x="24992" y="11480"/>
                  <a:pt x="25037" y="11421"/>
                  <a:pt x="25078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29760" y="5473800"/>
            <a:ext cx="465120" cy="169920"/>
          </a:xfrm>
          <a:custGeom>
            <a:avLst/>
            <a:gdLst/>
            <a:ahLst/>
            <a:rect l="l" t="t" r="r" b="b"/>
            <a:pathLst>
              <a:path w="1290" h="473">
                <a:moveTo>
                  <a:pt x="24705" y="15329"/>
                </a:moveTo>
                <a:cubicBezTo>
                  <a:pt x="24654" y="15329"/>
                  <a:pt x="24629" y="15311"/>
                  <a:pt x="24581" y="15304"/>
                </a:cubicBezTo>
                <a:cubicBezTo>
                  <a:pt x="24441" y="15285"/>
                  <a:pt x="24301" y="15278"/>
                  <a:pt x="24160" y="15255"/>
                </a:cubicBezTo>
                <a:cubicBezTo>
                  <a:pt x="24021" y="15233"/>
                  <a:pt x="23878" y="15211"/>
                  <a:pt x="23738" y="15205"/>
                </a:cubicBezTo>
                <a:cubicBezTo>
                  <a:pt x="23697" y="15203"/>
                  <a:pt x="23623" y="15205"/>
                  <a:pt x="23664" y="15205"/>
                </a:cubicBezTo>
                <a:cubicBezTo>
                  <a:pt x="23680" y="15205"/>
                  <a:pt x="23697" y="15205"/>
                  <a:pt x="23713" y="15205"/>
                </a:cubicBezTo>
              </a:path>
              <a:path w="1290" h="473">
                <a:moveTo>
                  <a:pt x="24408" y="15478"/>
                </a:moveTo>
                <a:cubicBezTo>
                  <a:pt x="24454" y="15511"/>
                  <a:pt x="24485" y="15541"/>
                  <a:pt x="24532" y="15553"/>
                </a:cubicBezTo>
                <a:cubicBezTo>
                  <a:pt x="24473" y="15541"/>
                  <a:pt x="24418" y="15516"/>
                  <a:pt x="24358" y="15503"/>
                </a:cubicBezTo>
                <a:cubicBezTo>
                  <a:pt x="24224" y="15474"/>
                  <a:pt x="24094" y="15458"/>
                  <a:pt x="23961" y="15429"/>
                </a:cubicBezTo>
                <a:cubicBezTo>
                  <a:pt x="23863" y="15407"/>
                  <a:pt x="23763" y="15386"/>
                  <a:pt x="23664" y="15379"/>
                </a:cubicBezTo>
                <a:cubicBezTo>
                  <a:pt x="23617" y="15376"/>
                  <a:pt x="23640" y="15355"/>
                  <a:pt x="23688" y="15404"/>
                </a:cubicBezTo>
              </a:path>
              <a:path w="1290" h="473">
                <a:moveTo>
                  <a:pt x="24333" y="15677"/>
                </a:moveTo>
                <a:cubicBezTo>
                  <a:pt x="24406" y="15677"/>
                  <a:pt x="24214" y="15653"/>
                  <a:pt x="24209" y="15652"/>
                </a:cubicBezTo>
                <a:cubicBezTo>
                  <a:pt x="24061" y="15623"/>
                  <a:pt x="23911" y="15586"/>
                  <a:pt x="23763" y="15553"/>
                </a:cubicBezTo>
                <a:cubicBezTo>
                  <a:pt x="23659" y="15530"/>
                  <a:pt x="23571" y="15503"/>
                  <a:pt x="23465" y="15503"/>
                </a:cubicBezTo>
                <a:cubicBezTo>
                  <a:pt x="23449" y="15503"/>
                  <a:pt x="23432" y="15503"/>
                  <a:pt x="23416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91240" y="4160880"/>
            <a:ext cx="1376640" cy="241200"/>
          </a:xfrm>
          <a:custGeom>
            <a:avLst/>
            <a:gdLst/>
            <a:ahLst/>
            <a:rect l="l" t="t" r="r" b="b"/>
            <a:pathLst>
              <a:path w="3821" h="671">
                <a:moveTo>
                  <a:pt x="22572" y="12005"/>
                </a:moveTo>
                <a:cubicBezTo>
                  <a:pt x="22547" y="12005"/>
                  <a:pt x="22539" y="12005"/>
                  <a:pt x="22523" y="12005"/>
                </a:cubicBezTo>
                <a:cubicBezTo>
                  <a:pt x="22523" y="11928"/>
                  <a:pt x="22513" y="11928"/>
                  <a:pt x="22572" y="11881"/>
                </a:cubicBezTo>
                <a:cubicBezTo>
                  <a:pt x="22627" y="11836"/>
                  <a:pt x="22675" y="11811"/>
                  <a:pt x="22746" y="11807"/>
                </a:cubicBezTo>
                <a:cubicBezTo>
                  <a:pt x="22798" y="11804"/>
                  <a:pt x="22841" y="11826"/>
                  <a:pt x="22845" y="11881"/>
                </a:cubicBezTo>
                <a:cubicBezTo>
                  <a:pt x="22850" y="11955"/>
                  <a:pt x="22839" y="12017"/>
                  <a:pt x="22796" y="12080"/>
                </a:cubicBezTo>
                <a:cubicBezTo>
                  <a:pt x="22771" y="12116"/>
                  <a:pt x="22727" y="12148"/>
                  <a:pt x="22696" y="12179"/>
                </a:cubicBezTo>
                <a:cubicBezTo>
                  <a:pt x="22706" y="12208"/>
                  <a:pt x="22730" y="12224"/>
                  <a:pt x="22771" y="12229"/>
                </a:cubicBezTo>
                <a:cubicBezTo>
                  <a:pt x="22811" y="12233"/>
                  <a:pt x="22867" y="12204"/>
                  <a:pt x="22920" y="12204"/>
                </a:cubicBezTo>
                <a:cubicBezTo>
                  <a:pt x="22965" y="12204"/>
                  <a:pt x="22997" y="12179"/>
                  <a:pt x="23044" y="12179"/>
                </a:cubicBezTo>
              </a:path>
              <a:path w="3821" h="671">
                <a:moveTo>
                  <a:pt x="23267" y="12055"/>
                </a:moveTo>
                <a:cubicBezTo>
                  <a:pt x="23290" y="12032"/>
                  <a:pt x="23298" y="12028"/>
                  <a:pt x="23292" y="12005"/>
                </a:cubicBezTo>
                <a:cubicBezTo>
                  <a:pt x="23256" y="12005"/>
                  <a:pt x="23205" y="12010"/>
                  <a:pt x="23192" y="12055"/>
                </a:cubicBezTo>
                <a:cubicBezTo>
                  <a:pt x="23183" y="12085"/>
                  <a:pt x="23183" y="12162"/>
                  <a:pt x="23217" y="12179"/>
                </a:cubicBezTo>
                <a:cubicBezTo>
                  <a:pt x="23275" y="12208"/>
                  <a:pt x="23293" y="12135"/>
                  <a:pt x="23316" y="12105"/>
                </a:cubicBezTo>
                <a:cubicBezTo>
                  <a:pt x="23357" y="12050"/>
                  <a:pt x="23400" y="12097"/>
                  <a:pt x="23440" y="12129"/>
                </a:cubicBezTo>
              </a:path>
              <a:path w="3821" h="671">
                <a:moveTo>
                  <a:pt x="22647" y="11683"/>
                </a:moveTo>
                <a:cubicBezTo>
                  <a:pt x="22647" y="11658"/>
                  <a:pt x="22647" y="11650"/>
                  <a:pt x="22647" y="11633"/>
                </a:cubicBezTo>
                <a:cubicBezTo>
                  <a:pt x="22682" y="11642"/>
                  <a:pt x="22712" y="11654"/>
                  <a:pt x="22746" y="11658"/>
                </a:cubicBezTo>
                <a:cubicBezTo>
                  <a:pt x="22957" y="11686"/>
                  <a:pt x="23244" y="11662"/>
                  <a:pt x="23416" y="11683"/>
                </a:cubicBezTo>
                <a:cubicBezTo>
                  <a:pt x="23449" y="11687"/>
                  <a:pt x="23457" y="11710"/>
                  <a:pt x="23490" y="11708"/>
                </a:cubicBezTo>
                <a:cubicBezTo>
                  <a:pt x="23512" y="11707"/>
                  <a:pt x="23534" y="11695"/>
                  <a:pt x="23564" y="11683"/>
                </a:cubicBezTo>
                <a:cubicBezTo>
                  <a:pt x="23606" y="11666"/>
                  <a:pt x="23613" y="11660"/>
                  <a:pt x="23664" y="11658"/>
                </a:cubicBezTo>
                <a:cubicBezTo>
                  <a:pt x="23752" y="11655"/>
                  <a:pt x="23832" y="11677"/>
                  <a:pt x="23912" y="11683"/>
                </a:cubicBezTo>
                <a:cubicBezTo>
                  <a:pt x="24028" y="11692"/>
                  <a:pt x="24149" y="11698"/>
                  <a:pt x="24259" y="11708"/>
                </a:cubicBezTo>
                <a:cubicBezTo>
                  <a:pt x="24381" y="11719"/>
                  <a:pt x="24508" y="11708"/>
                  <a:pt x="24631" y="11708"/>
                </a:cubicBezTo>
                <a:cubicBezTo>
                  <a:pt x="24273" y="11708"/>
                  <a:pt x="23921" y="11683"/>
                  <a:pt x="23564" y="11683"/>
                </a:cubicBezTo>
                <a:cubicBezTo>
                  <a:pt x="23446" y="11683"/>
                  <a:pt x="23338" y="11658"/>
                  <a:pt x="23217" y="11658"/>
                </a:cubicBezTo>
                <a:cubicBezTo>
                  <a:pt x="23096" y="11658"/>
                  <a:pt x="22986" y="11646"/>
                  <a:pt x="22870" y="11633"/>
                </a:cubicBezTo>
                <a:cubicBezTo>
                  <a:pt x="22681" y="11613"/>
                  <a:pt x="22486" y="11629"/>
                  <a:pt x="22299" y="11609"/>
                </a:cubicBezTo>
                <a:cubicBezTo>
                  <a:pt x="22097" y="11587"/>
                  <a:pt x="21876" y="11601"/>
                  <a:pt x="21679" y="11584"/>
                </a:cubicBezTo>
                <a:cubicBezTo>
                  <a:pt x="21407" y="11561"/>
                  <a:pt x="21034" y="11643"/>
                  <a:pt x="20811" y="11559"/>
                </a:cubicBezTo>
                <a:cubicBezTo>
                  <a:pt x="20819" y="11559"/>
                  <a:pt x="20828" y="11559"/>
                  <a:pt x="20836" y="115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91200" y="4446720"/>
            <a:ext cx="1893960" cy="474480"/>
          </a:xfrm>
          <a:custGeom>
            <a:avLst/>
            <a:gdLst/>
            <a:ahLst/>
            <a:rect l="l" t="t" r="r" b="b"/>
            <a:pathLst>
              <a:path w="5260" h="1315">
                <a:moveTo>
                  <a:pt x="19745" y="12998"/>
                </a:moveTo>
                <a:cubicBezTo>
                  <a:pt x="19707" y="12969"/>
                  <a:pt x="19694" y="12973"/>
                  <a:pt x="19645" y="12973"/>
                </a:cubicBezTo>
                <a:cubicBezTo>
                  <a:pt x="19591" y="12973"/>
                  <a:pt x="19566" y="12993"/>
                  <a:pt x="19521" y="12998"/>
                </a:cubicBezTo>
                <a:cubicBezTo>
                  <a:pt x="19489" y="13002"/>
                  <a:pt x="19454" y="12998"/>
                  <a:pt x="19422" y="12998"/>
                </a:cubicBezTo>
              </a:path>
              <a:path w="5260" h="1315">
                <a:moveTo>
                  <a:pt x="19695" y="13221"/>
                </a:moveTo>
                <a:cubicBezTo>
                  <a:pt x="19695" y="13213"/>
                  <a:pt x="19695" y="13204"/>
                  <a:pt x="19695" y="13196"/>
                </a:cubicBezTo>
                <a:cubicBezTo>
                  <a:pt x="19649" y="13196"/>
                  <a:pt x="19637" y="13216"/>
                  <a:pt x="19596" y="13221"/>
                </a:cubicBezTo>
                <a:cubicBezTo>
                  <a:pt x="19545" y="13227"/>
                  <a:pt x="19487" y="13200"/>
                  <a:pt x="19472" y="13246"/>
                </a:cubicBezTo>
              </a:path>
              <a:path w="5260" h="1315">
                <a:moveTo>
                  <a:pt x="20290" y="12650"/>
                </a:moveTo>
                <a:cubicBezTo>
                  <a:pt x="20261" y="12613"/>
                  <a:pt x="20265" y="12599"/>
                  <a:pt x="20265" y="12551"/>
                </a:cubicBezTo>
                <a:cubicBezTo>
                  <a:pt x="20265" y="12510"/>
                  <a:pt x="20301" y="12480"/>
                  <a:pt x="20340" y="12477"/>
                </a:cubicBezTo>
                <a:cubicBezTo>
                  <a:pt x="20370" y="12475"/>
                  <a:pt x="20476" y="12461"/>
                  <a:pt x="20489" y="12502"/>
                </a:cubicBezTo>
                <a:cubicBezTo>
                  <a:pt x="20506" y="12556"/>
                  <a:pt x="20495" y="12662"/>
                  <a:pt x="20464" y="12700"/>
                </a:cubicBezTo>
                <a:cubicBezTo>
                  <a:pt x="20444" y="12725"/>
                  <a:pt x="20403" y="12769"/>
                  <a:pt x="20389" y="12799"/>
                </a:cubicBezTo>
                <a:cubicBezTo>
                  <a:pt x="20389" y="12824"/>
                  <a:pt x="20389" y="12832"/>
                  <a:pt x="20389" y="12849"/>
                </a:cubicBezTo>
                <a:cubicBezTo>
                  <a:pt x="20425" y="12849"/>
                  <a:pt x="20463" y="12842"/>
                  <a:pt x="20489" y="12824"/>
                </a:cubicBezTo>
                <a:cubicBezTo>
                  <a:pt x="20528" y="12797"/>
                  <a:pt x="20529" y="12785"/>
                  <a:pt x="20563" y="12774"/>
                </a:cubicBezTo>
              </a:path>
              <a:path w="5260" h="1315">
                <a:moveTo>
                  <a:pt x="20786" y="12452"/>
                </a:moveTo>
                <a:cubicBezTo>
                  <a:pt x="20811" y="12452"/>
                  <a:pt x="20819" y="12452"/>
                  <a:pt x="20836" y="12452"/>
                </a:cubicBezTo>
                <a:cubicBezTo>
                  <a:pt x="20836" y="12543"/>
                  <a:pt x="20836" y="12634"/>
                  <a:pt x="20836" y="12725"/>
                </a:cubicBezTo>
                <a:cubicBezTo>
                  <a:pt x="20924" y="12725"/>
                  <a:pt x="21066" y="12699"/>
                  <a:pt x="21134" y="12750"/>
                </a:cubicBezTo>
              </a:path>
              <a:path w="5260" h="1315">
                <a:moveTo>
                  <a:pt x="21010" y="12675"/>
                </a:moveTo>
                <a:cubicBezTo>
                  <a:pt x="21010" y="12667"/>
                  <a:pt x="21010" y="12658"/>
                  <a:pt x="21010" y="12650"/>
                </a:cubicBezTo>
                <a:cubicBezTo>
                  <a:pt x="21010" y="12702"/>
                  <a:pt x="21030" y="12721"/>
                  <a:pt x="21034" y="12774"/>
                </a:cubicBezTo>
                <a:cubicBezTo>
                  <a:pt x="21037" y="12807"/>
                  <a:pt x="21034" y="12841"/>
                  <a:pt x="21034" y="12874"/>
                </a:cubicBezTo>
              </a:path>
              <a:path w="5260" h="1315">
                <a:moveTo>
                  <a:pt x="21580" y="12601"/>
                </a:moveTo>
                <a:cubicBezTo>
                  <a:pt x="21603" y="12624"/>
                  <a:pt x="21607" y="12632"/>
                  <a:pt x="21630" y="12626"/>
                </a:cubicBezTo>
                <a:cubicBezTo>
                  <a:pt x="21553" y="12626"/>
                  <a:pt x="21496" y="12623"/>
                  <a:pt x="21431" y="12601"/>
                </a:cubicBezTo>
                <a:cubicBezTo>
                  <a:pt x="21423" y="12601"/>
                  <a:pt x="21414" y="12601"/>
                  <a:pt x="21406" y="12601"/>
                </a:cubicBezTo>
              </a:path>
              <a:path w="5260" h="1315">
                <a:moveTo>
                  <a:pt x="21456" y="12526"/>
                </a:moveTo>
                <a:cubicBezTo>
                  <a:pt x="21464" y="12526"/>
                  <a:pt x="21473" y="12526"/>
                  <a:pt x="21481" y="12526"/>
                </a:cubicBezTo>
                <a:cubicBezTo>
                  <a:pt x="21481" y="12601"/>
                  <a:pt x="21489" y="12655"/>
                  <a:pt x="21506" y="12725"/>
                </a:cubicBezTo>
                <a:cubicBezTo>
                  <a:pt x="21506" y="12733"/>
                  <a:pt x="21506" y="12742"/>
                  <a:pt x="21506" y="12750"/>
                </a:cubicBezTo>
              </a:path>
              <a:path w="5260" h="1315">
                <a:moveTo>
                  <a:pt x="21630" y="12874"/>
                </a:moveTo>
                <a:cubicBezTo>
                  <a:pt x="21591" y="12902"/>
                  <a:pt x="21565" y="12878"/>
                  <a:pt x="21530" y="12898"/>
                </a:cubicBezTo>
                <a:cubicBezTo>
                  <a:pt x="21508" y="12921"/>
                  <a:pt x="21503" y="12929"/>
                  <a:pt x="21481" y="12923"/>
                </a:cubicBezTo>
              </a:path>
              <a:path w="5260" h="1315">
                <a:moveTo>
                  <a:pt x="24681" y="12427"/>
                </a:moveTo>
                <a:cubicBezTo>
                  <a:pt x="24681" y="12419"/>
                  <a:pt x="24681" y="12410"/>
                  <a:pt x="24681" y="12402"/>
                </a:cubicBezTo>
                <a:cubicBezTo>
                  <a:pt x="24680" y="12400"/>
                  <a:pt x="24664" y="12369"/>
                  <a:pt x="24656" y="12353"/>
                </a:cubicBezTo>
                <a:cubicBezTo>
                  <a:pt x="24608" y="12357"/>
                  <a:pt x="24597" y="12364"/>
                  <a:pt x="24557" y="12378"/>
                </a:cubicBezTo>
                <a:cubicBezTo>
                  <a:pt x="24524" y="12389"/>
                  <a:pt x="24490" y="12392"/>
                  <a:pt x="24457" y="12402"/>
                </a:cubicBezTo>
                <a:cubicBezTo>
                  <a:pt x="24421" y="12413"/>
                  <a:pt x="24370" y="12423"/>
                  <a:pt x="24333" y="12427"/>
                </a:cubicBezTo>
                <a:cubicBezTo>
                  <a:pt x="24298" y="12431"/>
                  <a:pt x="24258" y="12449"/>
                  <a:pt x="24234" y="12452"/>
                </a:cubicBezTo>
                <a:cubicBezTo>
                  <a:pt x="24169" y="12460"/>
                  <a:pt x="24090" y="12470"/>
                  <a:pt x="24036" y="12477"/>
                </a:cubicBezTo>
                <a:cubicBezTo>
                  <a:pt x="23999" y="12482"/>
                  <a:pt x="23964" y="12497"/>
                  <a:pt x="23937" y="12502"/>
                </a:cubicBezTo>
                <a:cubicBezTo>
                  <a:pt x="23785" y="12527"/>
                  <a:pt x="23602" y="12494"/>
                  <a:pt x="23465" y="12477"/>
                </a:cubicBezTo>
                <a:cubicBezTo>
                  <a:pt x="23319" y="12459"/>
                  <a:pt x="23161" y="12469"/>
                  <a:pt x="23019" y="12452"/>
                </a:cubicBezTo>
                <a:cubicBezTo>
                  <a:pt x="22969" y="12446"/>
                  <a:pt x="22909" y="12432"/>
                  <a:pt x="22870" y="12427"/>
                </a:cubicBezTo>
                <a:cubicBezTo>
                  <a:pt x="22700" y="12406"/>
                  <a:pt x="22507" y="12422"/>
                  <a:pt x="22349" y="12402"/>
                </a:cubicBezTo>
                <a:cubicBezTo>
                  <a:pt x="22325" y="12399"/>
                  <a:pt x="22299" y="12404"/>
                  <a:pt x="22275" y="12402"/>
                </a:cubicBezTo>
                <a:cubicBezTo>
                  <a:pt x="22270" y="12399"/>
                  <a:pt x="22225" y="12358"/>
                  <a:pt x="22200" y="12353"/>
                </a:cubicBezTo>
                <a:cubicBezTo>
                  <a:pt x="22176" y="12349"/>
                  <a:pt x="22150" y="12355"/>
                  <a:pt x="22126" y="12353"/>
                </a:cubicBezTo>
                <a:cubicBezTo>
                  <a:pt x="22115" y="12384"/>
                  <a:pt x="22114" y="12421"/>
                  <a:pt x="22101" y="12452"/>
                </a:cubicBezTo>
                <a:cubicBezTo>
                  <a:pt x="22087" y="12488"/>
                  <a:pt x="22081" y="12510"/>
                  <a:pt x="22076" y="12551"/>
                </a:cubicBezTo>
                <a:cubicBezTo>
                  <a:pt x="22068" y="12619"/>
                  <a:pt x="22059" y="12687"/>
                  <a:pt x="22051" y="12750"/>
                </a:cubicBezTo>
                <a:cubicBezTo>
                  <a:pt x="22041" y="12830"/>
                  <a:pt x="22051" y="12918"/>
                  <a:pt x="22051" y="12998"/>
                </a:cubicBezTo>
                <a:cubicBezTo>
                  <a:pt x="22021" y="12982"/>
                  <a:pt x="22033" y="12989"/>
                  <a:pt x="22002" y="12973"/>
                </a:cubicBezTo>
                <a:cubicBezTo>
                  <a:pt x="21990" y="12939"/>
                  <a:pt x="21991" y="12906"/>
                  <a:pt x="21977" y="12874"/>
                </a:cubicBezTo>
                <a:cubicBezTo>
                  <a:pt x="21970" y="12858"/>
                  <a:pt x="21936" y="12782"/>
                  <a:pt x="21927" y="12774"/>
                </a:cubicBezTo>
                <a:cubicBezTo>
                  <a:pt x="21893" y="12743"/>
                  <a:pt x="21879" y="12744"/>
                  <a:pt x="21853" y="12725"/>
                </a:cubicBezTo>
              </a:path>
              <a:path w="5260" h="1315">
                <a:moveTo>
                  <a:pt x="22473" y="12650"/>
                </a:moveTo>
                <a:cubicBezTo>
                  <a:pt x="22473" y="12696"/>
                  <a:pt x="22453" y="12709"/>
                  <a:pt x="22448" y="12750"/>
                </a:cubicBezTo>
                <a:cubicBezTo>
                  <a:pt x="22448" y="12758"/>
                  <a:pt x="22448" y="12766"/>
                  <a:pt x="22448" y="12774"/>
                </a:cubicBezTo>
                <a:cubicBezTo>
                  <a:pt x="22518" y="12774"/>
                  <a:pt x="22620" y="12753"/>
                  <a:pt x="22671" y="12799"/>
                </a:cubicBezTo>
                <a:cubicBezTo>
                  <a:pt x="22705" y="12830"/>
                  <a:pt x="22696" y="12855"/>
                  <a:pt x="22696" y="12898"/>
                </a:cubicBezTo>
                <a:cubicBezTo>
                  <a:pt x="22696" y="12940"/>
                  <a:pt x="22637" y="12945"/>
                  <a:pt x="22597" y="12948"/>
                </a:cubicBezTo>
                <a:cubicBezTo>
                  <a:pt x="22547" y="12952"/>
                  <a:pt x="22544" y="12962"/>
                  <a:pt x="22523" y="12973"/>
                </a:cubicBezTo>
                <a:cubicBezTo>
                  <a:pt x="22515" y="12973"/>
                  <a:pt x="22506" y="12973"/>
                  <a:pt x="22498" y="12973"/>
                </a:cubicBezTo>
              </a:path>
              <a:path w="5260" h="1315">
                <a:moveTo>
                  <a:pt x="22671" y="12650"/>
                </a:moveTo>
                <a:cubicBezTo>
                  <a:pt x="22671" y="12626"/>
                  <a:pt x="22671" y="12617"/>
                  <a:pt x="22671" y="12601"/>
                </a:cubicBezTo>
                <a:cubicBezTo>
                  <a:pt x="22621" y="12601"/>
                  <a:pt x="22613" y="12612"/>
                  <a:pt x="22572" y="12626"/>
                </a:cubicBezTo>
                <a:cubicBezTo>
                  <a:pt x="22553" y="12632"/>
                  <a:pt x="22518" y="12626"/>
                  <a:pt x="22498" y="12626"/>
                </a:cubicBezTo>
              </a:path>
              <a:path w="5260" h="1315">
                <a:moveTo>
                  <a:pt x="22870" y="12700"/>
                </a:moveTo>
                <a:cubicBezTo>
                  <a:pt x="22894" y="12694"/>
                  <a:pt x="22948" y="12687"/>
                  <a:pt x="22969" y="12675"/>
                </a:cubicBezTo>
                <a:cubicBezTo>
                  <a:pt x="23010" y="12652"/>
                  <a:pt x="23017" y="12650"/>
                  <a:pt x="23068" y="12650"/>
                </a:cubicBezTo>
                <a:cubicBezTo>
                  <a:pt x="23076" y="12650"/>
                  <a:pt x="23085" y="12650"/>
                  <a:pt x="23093" y="12650"/>
                </a:cubicBezTo>
                <a:cubicBezTo>
                  <a:pt x="23106" y="12688"/>
                  <a:pt x="23118" y="12671"/>
                  <a:pt x="23118" y="12725"/>
                </a:cubicBezTo>
                <a:cubicBezTo>
                  <a:pt x="23118" y="12795"/>
                  <a:pt x="23112" y="12841"/>
                  <a:pt x="23093" y="12898"/>
                </a:cubicBezTo>
                <a:cubicBezTo>
                  <a:pt x="23087" y="12917"/>
                  <a:pt x="23093" y="12953"/>
                  <a:pt x="23093" y="12973"/>
                </a:cubicBezTo>
              </a:path>
              <a:path w="5260" h="1315">
                <a:moveTo>
                  <a:pt x="23341" y="12650"/>
                </a:moveTo>
                <a:cubicBezTo>
                  <a:pt x="23348" y="12630"/>
                  <a:pt x="23366" y="12583"/>
                  <a:pt x="23366" y="12626"/>
                </a:cubicBezTo>
                <a:cubicBezTo>
                  <a:pt x="23366" y="12671"/>
                  <a:pt x="23341" y="12694"/>
                  <a:pt x="23341" y="12750"/>
                </a:cubicBezTo>
                <a:cubicBezTo>
                  <a:pt x="23341" y="12841"/>
                  <a:pt x="23340" y="12921"/>
                  <a:pt x="23366" y="12998"/>
                </a:cubicBezTo>
                <a:cubicBezTo>
                  <a:pt x="23378" y="13034"/>
                  <a:pt x="23396" y="13022"/>
                  <a:pt x="23440" y="13022"/>
                </a:cubicBezTo>
                <a:cubicBezTo>
                  <a:pt x="23483" y="13022"/>
                  <a:pt x="23511" y="12987"/>
                  <a:pt x="23515" y="12948"/>
                </a:cubicBezTo>
                <a:cubicBezTo>
                  <a:pt x="23519" y="12916"/>
                  <a:pt x="23515" y="12881"/>
                  <a:pt x="23515" y="12849"/>
                </a:cubicBezTo>
                <a:cubicBezTo>
                  <a:pt x="23478" y="12858"/>
                  <a:pt x="23446" y="12872"/>
                  <a:pt x="23416" y="12898"/>
                </a:cubicBezTo>
                <a:cubicBezTo>
                  <a:pt x="23408" y="12906"/>
                  <a:pt x="23399" y="12915"/>
                  <a:pt x="23391" y="12923"/>
                </a:cubicBezTo>
              </a:path>
              <a:path w="5260" h="1315">
                <a:moveTo>
                  <a:pt x="21506" y="13643"/>
                </a:moveTo>
                <a:cubicBezTo>
                  <a:pt x="21483" y="13620"/>
                  <a:pt x="21475" y="13609"/>
                  <a:pt x="21481" y="13643"/>
                </a:cubicBezTo>
              </a:path>
              <a:path w="5260" h="1315">
                <a:moveTo>
                  <a:pt x="21630" y="13667"/>
                </a:moveTo>
                <a:cubicBezTo>
                  <a:pt x="21671" y="13667"/>
                  <a:pt x="21679" y="13667"/>
                  <a:pt x="21704" y="13667"/>
                </a:cubicBezTo>
              </a:path>
              <a:path w="5260" h="1315">
                <a:moveTo>
                  <a:pt x="22101" y="13667"/>
                </a:moveTo>
                <a:cubicBezTo>
                  <a:pt x="22118" y="13667"/>
                  <a:pt x="22134" y="13667"/>
                  <a:pt x="22151" y="13667"/>
                </a:cubicBezTo>
              </a:path>
              <a:path w="5260" h="1315">
                <a:moveTo>
                  <a:pt x="22448" y="13618"/>
                </a:moveTo>
                <a:cubicBezTo>
                  <a:pt x="22529" y="13596"/>
                  <a:pt x="22588" y="13593"/>
                  <a:pt x="22671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85000" y="5133960"/>
            <a:ext cx="108000" cy="63360"/>
          </a:xfrm>
          <a:custGeom>
            <a:avLst/>
            <a:gdLst/>
            <a:ahLst/>
            <a:rect l="l" t="t" r="r" b="b"/>
            <a:pathLst>
              <a:path w="299" h="174">
                <a:moveTo>
                  <a:pt x="19422" y="14337"/>
                </a:moveTo>
                <a:cubicBezTo>
                  <a:pt x="19422" y="14329"/>
                  <a:pt x="19422" y="14320"/>
                  <a:pt x="19422" y="14312"/>
                </a:cubicBezTo>
                <a:cubicBezTo>
                  <a:pt x="19354" y="14312"/>
                  <a:pt x="19311" y="14303"/>
                  <a:pt x="19248" y="14288"/>
                </a:cubicBezTo>
                <a:cubicBezTo>
                  <a:pt x="19205" y="14277"/>
                  <a:pt x="19170" y="14263"/>
                  <a:pt x="19124" y="14263"/>
                </a:cubicBezTo>
              </a:path>
              <a:path w="299" h="174">
                <a:moveTo>
                  <a:pt x="19273" y="14337"/>
                </a:moveTo>
                <a:cubicBezTo>
                  <a:pt x="19290" y="14354"/>
                  <a:pt x="19306" y="14370"/>
                  <a:pt x="19323" y="14387"/>
                </a:cubicBezTo>
                <a:cubicBezTo>
                  <a:pt x="19290" y="14395"/>
                  <a:pt x="19229" y="14397"/>
                  <a:pt x="19199" y="14412"/>
                </a:cubicBezTo>
                <a:cubicBezTo>
                  <a:pt x="19191" y="14420"/>
                  <a:pt x="19182" y="14428"/>
                  <a:pt x="19174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24840" y="5089680"/>
            <a:ext cx="982440" cy="214200"/>
          </a:xfrm>
          <a:custGeom>
            <a:avLst/>
            <a:gdLst/>
            <a:ahLst/>
            <a:rect l="l" t="t" r="r" b="b"/>
            <a:pathLst>
              <a:path w="2730" h="596">
                <a:moveTo>
                  <a:pt x="20141" y="14312"/>
                </a:moveTo>
                <a:cubicBezTo>
                  <a:pt x="20099" y="14312"/>
                  <a:pt x="20102" y="14313"/>
                  <a:pt x="20067" y="14288"/>
                </a:cubicBezTo>
                <a:cubicBezTo>
                  <a:pt x="20079" y="14241"/>
                  <a:pt x="20122" y="14192"/>
                  <a:pt x="20166" y="14163"/>
                </a:cubicBezTo>
                <a:cubicBezTo>
                  <a:pt x="20206" y="14137"/>
                  <a:pt x="20282" y="14116"/>
                  <a:pt x="20315" y="14163"/>
                </a:cubicBezTo>
                <a:cubicBezTo>
                  <a:pt x="20355" y="14220"/>
                  <a:pt x="20354" y="14305"/>
                  <a:pt x="20315" y="14362"/>
                </a:cubicBezTo>
                <a:cubicBezTo>
                  <a:pt x="20270" y="14428"/>
                  <a:pt x="20215" y="14497"/>
                  <a:pt x="20166" y="14560"/>
                </a:cubicBezTo>
                <a:cubicBezTo>
                  <a:pt x="20143" y="14583"/>
                  <a:pt x="20135" y="14587"/>
                  <a:pt x="20141" y="14610"/>
                </a:cubicBezTo>
                <a:cubicBezTo>
                  <a:pt x="20224" y="14610"/>
                  <a:pt x="20296" y="14620"/>
                  <a:pt x="20365" y="14635"/>
                </a:cubicBezTo>
                <a:cubicBezTo>
                  <a:pt x="20392" y="14641"/>
                  <a:pt x="20435" y="14635"/>
                  <a:pt x="20464" y="14635"/>
                </a:cubicBezTo>
              </a:path>
              <a:path w="2730" h="596">
                <a:moveTo>
                  <a:pt x="20613" y="14362"/>
                </a:moveTo>
                <a:cubicBezTo>
                  <a:pt x="20585" y="14362"/>
                  <a:pt x="20574" y="14360"/>
                  <a:pt x="20563" y="14337"/>
                </a:cubicBezTo>
                <a:cubicBezTo>
                  <a:pt x="20563" y="14292"/>
                  <a:pt x="20561" y="14267"/>
                  <a:pt x="20613" y="14263"/>
                </a:cubicBezTo>
                <a:cubicBezTo>
                  <a:pt x="20682" y="14258"/>
                  <a:pt x="20771" y="14275"/>
                  <a:pt x="20811" y="14337"/>
                </a:cubicBezTo>
                <a:cubicBezTo>
                  <a:pt x="20854" y="14403"/>
                  <a:pt x="20879" y="14491"/>
                  <a:pt x="20836" y="14560"/>
                </a:cubicBezTo>
                <a:cubicBezTo>
                  <a:pt x="20792" y="14631"/>
                  <a:pt x="20699" y="14541"/>
                  <a:pt x="20662" y="14511"/>
                </a:cubicBezTo>
                <a:cubicBezTo>
                  <a:pt x="20633" y="14481"/>
                  <a:pt x="20622" y="14466"/>
                  <a:pt x="20613" y="14436"/>
                </a:cubicBezTo>
              </a:path>
              <a:path w="2730" h="596">
                <a:moveTo>
                  <a:pt x="21134" y="14585"/>
                </a:moveTo>
                <a:cubicBezTo>
                  <a:pt x="21156" y="14608"/>
                  <a:pt x="21161" y="14616"/>
                  <a:pt x="21183" y="14610"/>
                </a:cubicBezTo>
              </a:path>
              <a:path w="2730" h="596">
                <a:moveTo>
                  <a:pt x="21506" y="14213"/>
                </a:moveTo>
                <a:cubicBezTo>
                  <a:pt x="21540" y="14231"/>
                  <a:pt x="21474" y="14259"/>
                  <a:pt x="21456" y="14312"/>
                </a:cubicBezTo>
                <a:cubicBezTo>
                  <a:pt x="21445" y="14343"/>
                  <a:pt x="21438" y="14379"/>
                  <a:pt x="21431" y="14412"/>
                </a:cubicBezTo>
                <a:cubicBezTo>
                  <a:pt x="21477" y="14445"/>
                  <a:pt x="21532" y="14439"/>
                  <a:pt x="21580" y="14461"/>
                </a:cubicBezTo>
                <a:cubicBezTo>
                  <a:pt x="21651" y="14494"/>
                  <a:pt x="21722" y="14532"/>
                  <a:pt x="21729" y="14610"/>
                </a:cubicBezTo>
                <a:cubicBezTo>
                  <a:pt x="21733" y="14655"/>
                  <a:pt x="21728" y="14681"/>
                  <a:pt x="21679" y="14684"/>
                </a:cubicBezTo>
                <a:cubicBezTo>
                  <a:pt x="21606" y="14689"/>
                  <a:pt x="21548" y="14685"/>
                  <a:pt x="21481" y="14660"/>
                </a:cubicBezTo>
              </a:path>
              <a:path w="2730" h="596">
                <a:moveTo>
                  <a:pt x="21853" y="14263"/>
                </a:moveTo>
                <a:cubicBezTo>
                  <a:pt x="21870" y="14246"/>
                  <a:pt x="21886" y="14230"/>
                  <a:pt x="21903" y="14213"/>
                </a:cubicBezTo>
                <a:cubicBezTo>
                  <a:pt x="21847" y="14213"/>
                  <a:pt x="21805" y="14231"/>
                  <a:pt x="21754" y="14238"/>
                </a:cubicBezTo>
                <a:cubicBezTo>
                  <a:pt x="21692" y="14238"/>
                  <a:pt x="21677" y="14229"/>
                  <a:pt x="21654" y="14263"/>
                </a:cubicBezTo>
              </a:path>
              <a:path w="2730" h="596">
                <a:moveTo>
                  <a:pt x="22200" y="14560"/>
                </a:moveTo>
                <a:cubicBezTo>
                  <a:pt x="22192" y="14560"/>
                  <a:pt x="22183" y="14560"/>
                  <a:pt x="22175" y="14560"/>
                </a:cubicBezTo>
                <a:cubicBezTo>
                  <a:pt x="22189" y="14521"/>
                  <a:pt x="22224" y="14515"/>
                  <a:pt x="22275" y="14511"/>
                </a:cubicBezTo>
                <a:cubicBezTo>
                  <a:pt x="22320" y="14507"/>
                  <a:pt x="22375" y="14547"/>
                  <a:pt x="22399" y="14585"/>
                </a:cubicBezTo>
                <a:cubicBezTo>
                  <a:pt x="22431" y="14635"/>
                  <a:pt x="22439" y="14705"/>
                  <a:pt x="22374" y="14734"/>
                </a:cubicBezTo>
                <a:cubicBezTo>
                  <a:pt x="22321" y="14758"/>
                  <a:pt x="22271" y="14717"/>
                  <a:pt x="22225" y="14709"/>
                </a:cubicBezTo>
                <a:cubicBezTo>
                  <a:pt x="22172" y="14700"/>
                  <a:pt x="22133" y="14698"/>
                  <a:pt x="22126" y="14635"/>
                </a:cubicBezTo>
                <a:cubicBezTo>
                  <a:pt x="22121" y="14594"/>
                  <a:pt x="22127" y="14592"/>
                  <a:pt x="22151" y="14560"/>
                </a:cubicBezTo>
              </a:path>
              <a:path w="2730" h="596">
                <a:moveTo>
                  <a:pt x="22523" y="14660"/>
                </a:moveTo>
                <a:cubicBezTo>
                  <a:pt x="22531" y="14668"/>
                  <a:pt x="22539" y="14676"/>
                  <a:pt x="22547" y="14684"/>
                </a:cubicBezTo>
                <a:cubicBezTo>
                  <a:pt x="22547" y="14588"/>
                  <a:pt x="22531" y="14533"/>
                  <a:pt x="22597" y="14461"/>
                </a:cubicBezTo>
                <a:cubicBezTo>
                  <a:pt x="22635" y="14419"/>
                  <a:pt x="22693" y="14436"/>
                  <a:pt x="22746" y="14436"/>
                </a:cubicBezTo>
                <a:cubicBezTo>
                  <a:pt x="22763" y="14436"/>
                  <a:pt x="22779" y="14436"/>
                  <a:pt x="22796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456760" y="5180040"/>
            <a:ext cx="465120" cy="177840"/>
          </a:xfrm>
          <a:custGeom>
            <a:avLst/>
            <a:gdLst/>
            <a:ahLst/>
            <a:rect l="l" t="t" r="r" b="b"/>
            <a:pathLst>
              <a:path w="1291" h="497">
                <a:moveTo>
                  <a:pt x="23564" y="14536"/>
                </a:moveTo>
                <a:cubicBezTo>
                  <a:pt x="23539" y="14536"/>
                  <a:pt x="23515" y="14536"/>
                  <a:pt x="23490" y="14536"/>
                </a:cubicBezTo>
                <a:cubicBezTo>
                  <a:pt x="23490" y="14490"/>
                  <a:pt x="23483" y="14471"/>
                  <a:pt x="23515" y="14436"/>
                </a:cubicBezTo>
                <a:cubicBezTo>
                  <a:pt x="23549" y="14399"/>
                  <a:pt x="23638" y="14390"/>
                  <a:pt x="23688" y="14387"/>
                </a:cubicBezTo>
                <a:cubicBezTo>
                  <a:pt x="23740" y="14384"/>
                  <a:pt x="23784" y="14406"/>
                  <a:pt x="23788" y="14461"/>
                </a:cubicBezTo>
                <a:cubicBezTo>
                  <a:pt x="23791" y="14507"/>
                  <a:pt x="23760" y="14564"/>
                  <a:pt x="23713" y="14585"/>
                </a:cubicBezTo>
                <a:cubicBezTo>
                  <a:pt x="23685" y="14585"/>
                  <a:pt x="23674" y="14587"/>
                  <a:pt x="23664" y="14610"/>
                </a:cubicBezTo>
                <a:cubicBezTo>
                  <a:pt x="23673" y="14649"/>
                  <a:pt x="23701" y="14707"/>
                  <a:pt x="23738" y="14734"/>
                </a:cubicBezTo>
                <a:cubicBezTo>
                  <a:pt x="23781" y="14765"/>
                  <a:pt x="23826" y="14784"/>
                  <a:pt x="23788" y="14833"/>
                </a:cubicBezTo>
                <a:cubicBezTo>
                  <a:pt x="23757" y="14873"/>
                  <a:pt x="23710" y="14858"/>
                  <a:pt x="23664" y="14858"/>
                </a:cubicBezTo>
                <a:cubicBezTo>
                  <a:pt x="23656" y="14858"/>
                  <a:pt x="23647" y="14858"/>
                  <a:pt x="23639" y="14858"/>
                </a:cubicBezTo>
              </a:path>
              <a:path w="1291" h="497">
                <a:moveTo>
                  <a:pt x="24110" y="14833"/>
                </a:moveTo>
                <a:lnTo>
                  <a:pt x="24110" y="14833"/>
                </a:lnTo>
              </a:path>
              <a:path w="1291" h="497">
                <a:moveTo>
                  <a:pt x="24408" y="14536"/>
                </a:moveTo>
                <a:cubicBezTo>
                  <a:pt x="24424" y="14536"/>
                  <a:pt x="24441" y="14536"/>
                  <a:pt x="24457" y="14536"/>
                </a:cubicBezTo>
                <a:cubicBezTo>
                  <a:pt x="24404" y="14549"/>
                  <a:pt x="24407" y="14573"/>
                  <a:pt x="24383" y="14610"/>
                </a:cubicBezTo>
                <a:cubicBezTo>
                  <a:pt x="24344" y="14669"/>
                  <a:pt x="24350" y="14684"/>
                  <a:pt x="24408" y="14709"/>
                </a:cubicBezTo>
                <a:cubicBezTo>
                  <a:pt x="24464" y="14733"/>
                  <a:pt x="24507" y="14786"/>
                  <a:pt x="24557" y="14808"/>
                </a:cubicBezTo>
                <a:cubicBezTo>
                  <a:pt x="24581" y="14818"/>
                  <a:pt x="24606" y="14858"/>
                  <a:pt x="24557" y="14883"/>
                </a:cubicBezTo>
                <a:cubicBezTo>
                  <a:pt x="24503" y="14910"/>
                  <a:pt x="24427" y="14855"/>
                  <a:pt x="24383" y="14833"/>
                </a:cubicBezTo>
              </a:path>
              <a:path w="1291" h="497">
                <a:moveTo>
                  <a:pt x="24358" y="14536"/>
                </a:moveTo>
                <a:cubicBezTo>
                  <a:pt x="24432" y="14468"/>
                  <a:pt x="24504" y="14408"/>
                  <a:pt x="24606" y="14387"/>
                </a:cubicBezTo>
                <a:cubicBezTo>
                  <a:pt x="24659" y="14376"/>
                  <a:pt x="24725" y="14387"/>
                  <a:pt x="24780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1880" y="4152960"/>
            <a:ext cx="196920" cy="133200"/>
          </a:xfrm>
          <a:custGeom>
            <a:avLst/>
            <a:gdLst/>
            <a:ahLst/>
            <a:rect l="l" t="t" r="r" b="b"/>
            <a:pathLst>
              <a:path w="547" h="373">
                <a:moveTo>
                  <a:pt x="18281" y="11782"/>
                </a:moveTo>
                <a:cubicBezTo>
                  <a:pt x="18281" y="11731"/>
                  <a:pt x="18272" y="11696"/>
                  <a:pt x="18306" y="11658"/>
                </a:cubicBezTo>
                <a:cubicBezTo>
                  <a:pt x="18330" y="11631"/>
                  <a:pt x="18393" y="11618"/>
                  <a:pt x="18430" y="11633"/>
                </a:cubicBezTo>
                <a:cubicBezTo>
                  <a:pt x="18482" y="11655"/>
                  <a:pt x="18484" y="11684"/>
                  <a:pt x="18504" y="11733"/>
                </a:cubicBezTo>
                <a:cubicBezTo>
                  <a:pt x="18528" y="11793"/>
                  <a:pt x="18548" y="11826"/>
                  <a:pt x="18504" y="11881"/>
                </a:cubicBezTo>
                <a:cubicBezTo>
                  <a:pt x="18476" y="11916"/>
                  <a:pt x="18446" y="11906"/>
                  <a:pt x="18405" y="11906"/>
                </a:cubicBezTo>
                <a:cubicBezTo>
                  <a:pt x="18380" y="11906"/>
                  <a:pt x="18356" y="11906"/>
                  <a:pt x="18331" y="11906"/>
                </a:cubicBezTo>
              </a:path>
              <a:path w="547" h="373">
                <a:moveTo>
                  <a:pt x="18628" y="11609"/>
                </a:moveTo>
                <a:cubicBezTo>
                  <a:pt x="18667" y="11570"/>
                  <a:pt x="18684" y="11568"/>
                  <a:pt x="18678" y="11534"/>
                </a:cubicBezTo>
                <a:cubicBezTo>
                  <a:pt x="18639" y="11573"/>
                  <a:pt x="18608" y="11600"/>
                  <a:pt x="18604" y="11658"/>
                </a:cubicBezTo>
                <a:cubicBezTo>
                  <a:pt x="18600" y="11722"/>
                  <a:pt x="18602" y="11807"/>
                  <a:pt x="18678" y="11832"/>
                </a:cubicBezTo>
                <a:cubicBezTo>
                  <a:pt x="18716" y="11845"/>
                  <a:pt x="18787" y="11832"/>
                  <a:pt x="18827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54920" y="4160880"/>
            <a:ext cx="106200" cy="71280"/>
          </a:xfrm>
          <a:custGeom>
            <a:avLst/>
            <a:gdLst/>
            <a:ahLst/>
            <a:rect l="l" t="t" r="r" b="b"/>
            <a:pathLst>
              <a:path w="298" h="199">
                <a:moveTo>
                  <a:pt x="19745" y="11559"/>
                </a:moveTo>
                <a:cubicBezTo>
                  <a:pt x="19753" y="11559"/>
                  <a:pt x="19761" y="11559"/>
                  <a:pt x="19769" y="11559"/>
                </a:cubicBezTo>
                <a:cubicBezTo>
                  <a:pt x="19732" y="11588"/>
                  <a:pt x="19718" y="11584"/>
                  <a:pt x="19670" y="11584"/>
                </a:cubicBezTo>
                <a:cubicBezTo>
                  <a:pt x="19645" y="11584"/>
                  <a:pt x="19621" y="11584"/>
                  <a:pt x="19596" y="11584"/>
                </a:cubicBezTo>
              </a:path>
              <a:path w="298" h="199">
                <a:moveTo>
                  <a:pt x="19869" y="11757"/>
                </a:moveTo>
                <a:cubicBezTo>
                  <a:pt x="19877" y="11757"/>
                  <a:pt x="19885" y="11757"/>
                  <a:pt x="19893" y="11757"/>
                </a:cubicBezTo>
                <a:cubicBezTo>
                  <a:pt x="19844" y="11757"/>
                  <a:pt x="19794" y="11757"/>
                  <a:pt x="19745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18240" y="3983040"/>
            <a:ext cx="206640" cy="169920"/>
          </a:xfrm>
          <a:custGeom>
            <a:avLst/>
            <a:gdLst/>
            <a:ahLst/>
            <a:rect l="l" t="t" r="r" b="b"/>
            <a:pathLst>
              <a:path w="571" h="472">
                <a:moveTo>
                  <a:pt x="21183" y="11385"/>
                </a:moveTo>
                <a:cubicBezTo>
                  <a:pt x="21130" y="11385"/>
                  <a:pt x="21113" y="11405"/>
                  <a:pt x="21059" y="11410"/>
                </a:cubicBezTo>
                <a:cubicBezTo>
                  <a:pt x="21003" y="11415"/>
                  <a:pt x="20902" y="11385"/>
                  <a:pt x="20886" y="11435"/>
                </a:cubicBezTo>
              </a:path>
              <a:path w="571" h="472">
                <a:moveTo>
                  <a:pt x="21307" y="11063"/>
                </a:moveTo>
                <a:cubicBezTo>
                  <a:pt x="21319" y="11098"/>
                  <a:pt x="21351" y="11098"/>
                  <a:pt x="21332" y="11162"/>
                </a:cubicBezTo>
                <a:cubicBezTo>
                  <a:pt x="21309" y="11241"/>
                  <a:pt x="21307" y="11299"/>
                  <a:pt x="21307" y="11385"/>
                </a:cubicBezTo>
                <a:cubicBezTo>
                  <a:pt x="21307" y="11410"/>
                  <a:pt x="21307" y="11435"/>
                  <a:pt x="21307" y="11460"/>
                </a:cubicBezTo>
                <a:cubicBezTo>
                  <a:pt x="21336" y="11421"/>
                  <a:pt x="21328" y="11360"/>
                  <a:pt x="21382" y="11336"/>
                </a:cubicBezTo>
                <a:cubicBezTo>
                  <a:pt x="21431" y="11314"/>
                  <a:pt x="21447" y="11372"/>
                  <a:pt x="21456" y="11410"/>
                </a:cubicBezTo>
                <a:cubicBezTo>
                  <a:pt x="21464" y="11444"/>
                  <a:pt x="21468" y="11516"/>
                  <a:pt x="21431" y="11534"/>
                </a:cubicBezTo>
                <a:cubicBezTo>
                  <a:pt x="21401" y="11549"/>
                  <a:pt x="21354" y="11518"/>
                  <a:pt x="21332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13800" y="4000680"/>
            <a:ext cx="88920" cy="115560"/>
          </a:xfrm>
          <a:custGeom>
            <a:avLst/>
            <a:gdLst/>
            <a:ahLst/>
            <a:rect l="l" t="t" r="r" b="b"/>
            <a:pathLst>
              <a:path w="249" h="324">
                <a:moveTo>
                  <a:pt x="21927" y="11212"/>
                </a:moveTo>
                <a:cubicBezTo>
                  <a:pt x="21990" y="11212"/>
                  <a:pt x="21873" y="11212"/>
                  <a:pt x="21853" y="11212"/>
                </a:cubicBezTo>
                <a:cubicBezTo>
                  <a:pt x="21803" y="11212"/>
                  <a:pt x="21754" y="11212"/>
                  <a:pt x="21704" y="11212"/>
                </a:cubicBezTo>
              </a:path>
              <a:path w="249" h="324">
                <a:moveTo>
                  <a:pt x="21803" y="11112"/>
                </a:moveTo>
                <a:cubicBezTo>
                  <a:pt x="21811" y="11112"/>
                  <a:pt x="21820" y="11112"/>
                  <a:pt x="21828" y="11112"/>
                </a:cubicBezTo>
                <a:cubicBezTo>
                  <a:pt x="21828" y="11178"/>
                  <a:pt x="21828" y="11245"/>
                  <a:pt x="21828" y="11311"/>
                </a:cubicBezTo>
              </a:path>
              <a:path w="249" h="324">
                <a:moveTo>
                  <a:pt x="21927" y="11435"/>
                </a:moveTo>
                <a:cubicBezTo>
                  <a:pt x="21878" y="11435"/>
                  <a:pt x="21828" y="11435"/>
                  <a:pt x="21779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81240" y="5938920"/>
            <a:ext cx="633600" cy="507960"/>
          </a:xfrm>
          <a:custGeom>
            <a:avLst/>
            <a:gdLst/>
            <a:ahLst/>
            <a:rect l="l" t="t" r="r" b="b"/>
            <a:pathLst>
              <a:path w="1762" h="1415">
                <a:moveTo>
                  <a:pt x="8632" y="16743"/>
                </a:moveTo>
                <a:cubicBezTo>
                  <a:pt x="8623" y="16770"/>
                  <a:pt x="8614" y="16789"/>
                  <a:pt x="8582" y="16793"/>
                </a:cubicBezTo>
                <a:cubicBezTo>
                  <a:pt x="8558" y="16793"/>
                  <a:pt x="8550" y="16793"/>
                  <a:pt x="8558" y="16818"/>
                </a:cubicBezTo>
                <a:cubicBezTo>
                  <a:pt x="8573" y="16755"/>
                  <a:pt x="8625" y="16726"/>
                  <a:pt x="8682" y="16694"/>
                </a:cubicBezTo>
                <a:cubicBezTo>
                  <a:pt x="8737" y="16664"/>
                  <a:pt x="8811" y="16639"/>
                  <a:pt x="8830" y="16718"/>
                </a:cubicBezTo>
                <a:cubicBezTo>
                  <a:pt x="8846" y="16785"/>
                  <a:pt x="8825" y="16843"/>
                  <a:pt x="8781" y="16892"/>
                </a:cubicBezTo>
                <a:cubicBezTo>
                  <a:pt x="8749" y="16928"/>
                  <a:pt x="8716" y="16962"/>
                  <a:pt x="8706" y="16991"/>
                </a:cubicBezTo>
                <a:cubicBezTo>
                  <a:pt x="8753" y="17026"/>
                  <a:pt x="8793" y="17016"/>
                  <a:pt x="8855" y="17016"/>
                </a:cubicBezTo>
                <a:cubicBezTo>
                  <a:pt x="8895" y="17016"/>
                  <a:pt x="8921" y="17040"/>
                  <a:pt x="8930" y="17066"/>
                </a:cubicBezTo>
                <a:cubicBezTo>
                  <a:pt x="8898" y="17089"/>
                  <a:pt x="8839" y="17108"/>
                  <a:pt x="8806" y="17115"/>
                </a:cubicBezTo>
                <a:cubicBezTo>
                  <a:pt x="8764" y="17115"/>
                  <a:pt x="8756" y="17115"/>
                  <a:pt x="8731" y="17115"/>
                </a:cubicBezTo>
              </a:path>
              <a:path w="1762" h="1415">
                <a:moveTo>
                  <a:pt x="9103" y="17016"/>
                </a:moveTo>
                <a:cubicBezTo>
                  <a:pt x="9155" y="17038"/>
                  <a:pt x="9166" y="17030"/>
                  <a:pt x="9178" y="17066"/>
                </a:cubicBezTo>
              </a:path>
              <a:path w="1762" h="1415">
                <a:moveTo>
                  <a:pt x="9351" y="16793"/>
                </a:moveTo>
                <a:cubicBezTo>
                  <a:pt x="9351" y="16768"/>
                  <a:pt x="9351" y="16760"/>
                  <a:pt x="9351" y="16743"/>
                </a:cubicBezTo>
                <a:cubicBezTo>
                  <a:pt x="9315" y="16752"/>
                  <a:pt x="9290" y="16781"/>
                  <a:pt x="9277" y="16818"/>
                </a:cubicBezTo>
                <a:cubicBezTo>
                  <a:pt x="9255" y="16882"/>
                  <a:pt x="9354" y="16881"/>
                  <a:pt x="9376" y="16892"/>
                </a:cubicBezTo>
                <a:cubicBezTo>
                  <a:pt x="9399" y="16904"/>
                  <a:pt x="9488" y="16951"/>
                  <a:pt x="9500" y="16966"/>
                </a:cubicBezTo>
                <a:cubicBezTo>
                  <a:pt x="9520" y="17007"/>
                  <a:pt x="9529" y="17013"/>
                  <a:pt x="9525" y="17041"/>
                </a:cubicBezTo>
                <a:cubicBezTo>
                  <a:pt x="9485" y="17051"/>
                  <a:pt x="9467" y="17080"/>
                  <a:pt x="9426" y="17090"/>
                </a:cubicBezTo>
              </a:path>
              <a:path w="1762" h="1415">
                <a:moveTo>
                  <a:pt x="9525" y="16793"/>
                </a:moveTo>
                <a:cubicBezTo>
                  <a:pt x="9533" y="16776"/>
                  <a:pt x="9542" y="16760"/>
                  <a:pt x="9550" y="16743"/>
                </a:cubicBezTo>
                <a:cubicBezTo>
                  <a:pt x="9500" y="16756"/>
                  <a:pt x="9486" y="16768"/>
                  <a:pt x="9426" y="16768"/>
                </a:cubicBezTo>
                <a:cubicBezTo>
                  <a:pt x="9409" y="16768"/>
                  <a:pt x="9393" y="16768"/>
                  <a:pt x="9376" y="16768"/>
                </a:cubicBezTo>
              </a:path>
              <a:path w="1762" h="1415">
                <a:moveTo>
                  <a:pt x="9748" y="16669"/>
                </a:moveTo>
                <a:cubicBezTo>
                  <a:pt x="9708" y="16642"/>
                  <a:pt x="9679" y="16631"/>
                  <a:pt x="9674" y="16594"/>
                </a:cubicBezTo>
                <a:cubicBezTo>
                  <a:pt x="9667" y="16538"/>
                  <a:pt x="9694" y="16513"/>
                  <a:pt x="9748" y="16495"/>
                </a:cubicBezTo>
                <a:cubicBezTo>
                  <a:pt x="9773" y="16495"/>
                  <a:pt x="9781" y="16495"/>
                  <a:pt x="9798" y="16495"/>
                </a:cubicBezTo>
                <a:cubicBezTo>
                  <a:pt x="9798" y="16544"/>
                  <a:pt x="9781" y="16581"/>
                  <a:pt x="9773" y="16619"/>
                </a:cubicBezTo>
                <a:cubicBezTo>
                  <a:pt x="9763" y="16667"/>
                  <a:pt x="9748" y="16694"/>
                  <a:pt x="9748" y="16743"/>
                </a:cubicBezTo>
                <a:cubicBezTo>
                  <a:pt x="9796" y="16743"/>
                  <a:pt x="9853" y="16732"/>
                  <a:pt x="9897" y="16718"/>
                </a:cubicBezTo>
                <a:cubicBezTo>
                  <a:pt x="9914" y="16710"/>
                  <a:pt x="9930" y="16702"/>
                  <a:pt x="9947" y="16694"/>
                </a:cubicBezTo>
              </a:path>
              <a:path w="1762" h="1415">
                <a:moveTo>
                  <a:pt x="10244" y="17264"/>
                </a:moveTo>
                <a:cubicBezTo>
                  <a:pt x="10269" y="17272"/>
                  <a:pt x="10294" y="17281"/>
                  <a:pt x="10319" y="17289"/>
                </a:cubicBezTo>
                <a:cubicBezTo>
                  <a:pt x="10231" y="17347"/>
                  <a:pt x="10127" y="17345"/>
                  <a:pt x="10021" y="17363"/>
                </a:cubicBezTo>
                <a:cubicBezTo>
                  <a:pt x="9812" y="17398"/>
                  <a:pt x="9602" y="17419"/>
                  <a:pt x="9401" y="17487"/>
                </a:cubicBezTo>
                <a:cubicBezTo>
                  <a:pt x="9301" y="17521"/>
                  <a:pt x="9169" y="17549"/>
                  <a:pt x="9079" y="17611"/>
                </a:cubicBezTo>
                <a:cubicBezTo>
                  <a:pt x="9044" y="17635"/>
                  <a:pt x="9047" y="17643"/>
                  <a:pt x="9029" y="17661"/>
                </a:cubicBezTo>
              </a:path>
              <a:path w="1762" h="1415">
                <a:moveTo>
                  <a:pt x="9674" y="17711"/>
                </a:moveTo>
                <a:cubicBezTo>
                  <a:pt x="9636" y="17661"/>
                  <a:pt x="9638" y="17658"/>
                  <a:pt x="9649" y="17611"/>
                </a:cubicBezTo>
                <a:cubicBezTo>
                  <a:pt x="9663" y="17551"/>
                  <a:pt x="9719" y="17562"/>
                  <a:pt x="9773" y="17562"/>
                </a:cubicBezTo>
                <a:cubicBezTo>
                  <a:pt x="9872" y="17562"/>
                  <a:pt x="9853" y="17642"/>
                  <a:pt x="9823" y="17711"/>
                </a:cubicBezTo>
                <a:cubicBezTo>
                  <a:pt x="9793" y="17778"/>
                  <a:pt x="9731" y="17809"/>
                  <a:pt x="9723" y="17884"/>
                </a:cubicBezTo>
                <a:cubicBezTo>
                  <a:pt x="9723" y="17892"/>
                  <a:pt x="9723" y="17901"/>
                  <a:pt x="9723" y="17909"/>
                </a:cubicBezTo>
                <a:cubicBezTo>
                  <a:pt x="9789" y="17909"/>
                  <a:pt x="9863" y="17890"/>
                  <a:pt x="9922" y="17859"/>
                </a:cubicBezTo>
                <a:cubicBezTo>
                  <a:pt x="10000" y="17807"/>
                  <a:pt x="10029" y="17790"/>
                  <a:pt x="10096" y="177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21080" y="5241960"/>
            <a:ext cx="689040" cy="142920"/>
          </a:xfrm>
          <a:custGeom>
            <a:avLst/>
            <a:gdLst/>
            <a:ahLst/>
            <a:rect l="l" t="t" r="r" b="b"/>
            <a:pathLst>
              <a:path w="1911" h="398">
                <a:moveTo>
                  <a:pt x="13915" y="14560"/>
                </a:moveTo>
                <a:cubicBezTo>
                  <a:pt x="13876" y="14565"/>
                  <a:pt x="13846" y="14579"/>
                  <a:pt x="13816" y="14585"/>
                </a:cubicBezTo>
                <a:cubicBezTo>
                  <a:pt x="13759" y="14597"/>
                  <a:pt x="13698" y="14591"/>
                  <a:pt x="13643" y="14610"/>
                </a:cubicBezTo>
                <a:cubicBezTo>
                  <a:pt x="13558" y="14638"/>
                  <a:pt x="13477" y="14661"/>
                  <a:pt x="13395" y="14684"/>
                </a:cubicBezTo>
                <a:cubicBezTo>
                  <a:pt x="13309" y="14708"/>
                  <a:pt x="13230" y="14714"/>
                  <a:pt x="13146" y="14734"/>
                </a:cubicBezTo>
                <a:cubicBezTo>
                  <a:pt x="13075" y="14751"/>
                  <a:pt x="12992" y="14761"/>
                  <a:pt x="12923" y="14784"/>
                </a:cubicBezTo>
                <a:cubicBezTo>
                  <a:pt x="12850" y="14808"/>
                  <a:pt x="12779" y="14829"/>
                  <a:pt x="12700" y="14833"/>
                </a:cubicBezTo>
                <a:cubicBezTo>
                  <a:pt x="12627" y="14837"/>
                  <a:pt x="12565" y="14835"/>
                  <a:pt x="12502" y="14858"/>
                </a:cubicBezTo>
                <a:cubicBezTo>
                  <a:pt x="12450" y="14876"/>
                  <a:pt x="12382" y="14899"/>
                  <a:pt x="12328" y="14908"/>
                </a:cubicBezTo>
                <a:cubicBezTo>
                  <a:pt x="12274" y="14917"/>
                  <a:pt x="12231" y="14913"/>
                  <a:pt x="12179" y="14932"/>
                </a:cubicBezTo>
                <a:cubicBezTo>
                  <a:pt x="12142" y="14945"/>
                  <a:pt x="12122" y="14954"/>
                  <a:pt x="12080" y="14957"/>
                </a:cubicBezTo>
                <a:cubicBezTo>
                  <a:pt x="12034" y="14960"/>
                  <a:pt x="12033" y="14949"/>
                  <a:pt x="12005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3760" y="5384880"/>
            <a:ext cx="13500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10567" y="15056"/>
                </a:moveTo>
                <a:cubicBezTo>
                  <a:pt x="10567" y="15032"/>
                  <a:pt x="10567" y="15023"/>
                  <a:pt x="10567" y="15007"/>
                </a:cubicBezTo>
                <a:cubicBezTo>
                  <a:pt x="10567" y="15156"/>
                  <a:pt x="10567" y="15304"/>
                  <a:pt x="10567" y="15453"/>
                </a:cubicBezTo>
              </a:path>
              <a:path w="373" h="497">
                <a:moveTo>
                  <a:pt x="10790" y="15032"/>
                </a:moveTo>
                <a:cubicBezTo>
                  <a:pt x="10803" y="15002"/>
                  <a:pt x="10829" y="14922"/>
                  <a:pt x="10815" y="14957"/>
                </a:cubicBezTo>
                <a:cubicBezTo>
                  <a:pt x="10790" y="15019"/>
                  <a:pt x="10768" y="15053"/>
                  <a:pt x="10765" y="15131"/>
                </a:cubicBezTo>
                <a:cubicBezTo>
                  <a:pt x="10763" y="15188"/>
                  <a:pt x="10744" y="15308"/>
                  <a:pt x="10790" y="15354"/>
                </a:cubicBezTo>
                <a:cubicBezTo>
                  <a:pt x="10828" y="15392"/>
                  <a:pt x="10918" y="15386"/>
                  <a:pt x="10939" y="15329"/>
                </a:cubicBezTo>
                <a:cubicBezTo>
                  <a:pt x="10950" y="15300"/>
                  <a:pt x="10946" y="15221"/>
                  <a:pt x="10914" y="15205"/>
                </a:cubicBezTo>
                <a:cubicBezTo>
                  <a:pt x="10876" y="15186"/>
                  <a:pt x="10843" y="15213"/>
                  <a:pt x="10815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27320" y="5446800"/>
            <a:ext cx="88920" cy="9036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11410" y="15131"/>
                </a:moveTo>
                <a:cubicBezTo>
                  <a:pt x="11418" y="15131"/>
                  <a:pt x="11427" y="15131"/>
                  <a:pt x="11435" y="15131"/>
                </a:cubicBezTo>
                <a:cubicBezTo>
                  <a:pt x="11410" y="15164"/>
                  <a:pt x="11393" y="15227"/>
                  <a:pt x="11361" y="15255"/>
                </a:cubicBezTo>
                <a:cubicBezTo>
                  <a:pt x="11329" y="15283"/>
                  <a:pt x="11281" y="15308"/>
                  <a:pt x="11261" y="15354"/>
                </a:cubicBezTo>
                <a:cubicBezTo>
                  <a:pt x="11261" y="15362"/>
                  <a:pt x="11261" y="15371"/>
                  <a:pt x="11261" y="15379"/>
                </a:cubicBezTo>
              </a:path>
              <a:path w="249" h="249">
                <a:moveTo>
                  <a:pt x="11410" y="15379"/>
                </a:moveTo>
                <a:cubicBezTo>
                  <a:pt x="11410" y="15337"/>
                  <a:pt x="11395" y="15284"/>
                  <a:pt x="11361" y="15255"/>
                </a:cubicBezTo>
                <a:cubicBezTo>
                  <a:pt x="11312" y="15213"/>
                  <a:pt x="11239" y="15197"/>
                  <a:pt x="11187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6160" y="5429160"/>
            <a:ext cx="214560" cy="142920"/>
          </a:xfrm>
          <a:custGeom>
            <a:avLst/>
            <a:gdLst/>
            <a:ahLst/>
            <a:rect l="l" t="t" r="r" b="b"/>
            <a:pathLst>
              <a:path w="597" h="398">
                <a:moveTo>
                  <a:pt x="11906" y="15156"/>
                </a:moveTo>
                <a:cubicBezTo>
                  <a:pt x="11906" y="15185"/>
                  <a:pt x="11922" y="15161"/>
                  <a:pt x="11956" y="15131"/>
                </a:cubicBezTo>
                <a:cubicBezTo>
                  <a:pt x="11992" y="15099"/>
                  <a:pt x="12051" y="15058"/>
                  <a:pt x="12105" y="15081"/>
                </a:cubicBezTo>
                <a:cubicBezTo>
                  <a:pt x="12159" y="15104"/>
                  <a:pt x="12154" y="15158"/>
                  <a:pt x="12154" y="15205"/>
                </a:cubicBezTo>
                <a:cubicBezTo>
                  <a:pt x="12154" y="15247"/>
                  <a:pt x="12119" y="15276"/>
                  <a:pt x="12080" y="15280"/>
                </a:cubicBezTo>
                <a:cubicBezTo>
                  <a:pt x="12055" y="15280"/>
                  <a:pt x="12047" y="15280"/>
                  <a:pt x="12055" y="15304"/>
                </a:cubicBezTo>
                <a:cubicBezTo>
                  <a:pt x="12065" y="15333"/>
                  <a:pt x="12111" y="15364"/>
                  <a:pt x="12154" y="15379"/>
                </a:cubicBezTo>
                <a:cubicBezTo>
                  <a:pt x="12190" y="15391"/>
                  <a:pt x="12224" y="15393"/>
                  <a:pt x="12229" y="15429"/>
                </a:cubicBezTo>
                <a:cubicBezTo>
                  <a:pt x="12236" y="15482"/>
                  <a:pt x="12191" y="15478"/>
                  <a:pt x="12154" y="15478"/>
                </a:cubicBezTo>
                <a:cubicBezTo>
                  <a:pt x="12121" y="15478"/>
                  <a:pt x="12088" y="15478"/>
                  <a:pt x="12055" y="15478"/>
                </a:cubicBezTo>
              </a:path>
              <a:path w="597" h="398">
                <a:moveTo>
                  <a:pt x="12328" y="15404"/>
                </a:moveTo>
                <a:cubicBezTo>
                  <a:pt x="12407" y="15398"/>
                  <a:pt x="12435" y="15379"/>
                  <a:pt x="12502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9640" y="5411880"/>
            <a:ext cx="107640" cy="152280"/>
          </a:xfrm>
          <a:custGeom>
            <a:avLst/>
            <a:gdLst/>
            <a:ahLst/>
            <a:rect l="l" t="t" r="r" b="b"/>
            <a:pathLst>
              <a:path w="298" h="422">
                <a:moveTo>
                  <a:pt x="12824" y="15156"/>
                </a:moveTo>
                <a:cubicBezTo>
                  <a:pt x="12824" y="15071"/>
                  <a:pt x="12842" y="15082"/>
                  <a:pt x="12799" y="15131"/>
                </a:cubicBezTo>
                <a:cubicBezTo>
                  <a:pt x="12774" y="15159"/>
                  <a:pt x="12754" y="15215"/>
                  <a:pt x="12774" y="15255"/>
                </a:cubicBezTo>
                <a:cubicBezTo>
                  <a:pt x="12799" y="15304"/>
                  <a:pt x="12857" y="15312"/>
                  <a:pt x="12898" y="15329"/>
                </a:cubicBezTo>
                <a:cubicBezTo>
                  <a:pt x="12914" y="15335"/>
                  <a:pt x="12990" y="15395"/>
                  <a:pt x="12948" y="15429"/>
                </a:cubicBezTo>
                <a:cubicBezTo>
                  <a:pt x="12918" y="15453"/>
                  <a:pt x="12866" y="15453"/>
                  <a:pt x="12824" y="15453"/>
                </a:cubicBezTo>
                <a:cubicBezTo>
                  <a:pt x="12791" y="15453"/>
                  <a:pt x="12775" y="15453"/>
                  <a:pt x="12750" y="15453"/>
                </a:cubicBezTo>
              </a:path>
              <a:path w="298" h="422">
                <a:moveTo>
                  <a:pt x="13047" y="15081"/>
                </a:moveTo>
                <a:cubicBezTo>
                  <a:pt x="13047" y="15065"/>
                  <a:pt x="13047" y="15048"/>
                  <a:pt x="13047" y="15032"/>
                </a:cubicBezTo>
                <a:cubicBezTo>
                  <a:pt x="12986" y="15032"/>
                  <a:pt x="12982" y="15067"/>
                  <a:pt x="12923" y="15081"/>
                </a:cubicBezTo>
                <a:cubicBezTo>
                  <a:pt x="12907" y="15081"/>
                  <a:pt x="12890" y="15081"/>
                  <a:pt x="12874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57240" y="5991120"/>
            <a:ext cx="438120" cy="169920"/>
          </a:xfrm>
          <a:custGeom>
            <a:avLst/>
            <a:gdLst/>
            <a:ahLst/>
            <a:rect l="l" t="t" r="r" b="b"/>
            <a:pathLst>
              <a:path w="1217" h="472">
                <a:moveTo>
                  <a:pt x="5159" y="16644"/>
                </a:moveTo>
                <a:cubicBezTo>
                  <a:pt x="5184" y="16652"/>
                  <a:pt x="5202" y="16703"/>
                  <a:pt x="5209" y="16743"/>
                </a:cubicBezTo>
                <a:cubicBezTo>
                  <a:pt x="5227" y="16843"/>
                  <a:pt x="5209" y="16964"/>
                  <a:pt x="5209" y="17066"/>
                </a:cubicBezTo>
              </a:path>
              <a:path w="1217" h="472">
                <a:moveTo>
                  <a:pt x="5358" y="16669"/>
                </a:moveTo>
                <a:cubicBezTo>
                  <a:pt x="5383" y="16669"/>
                  <a:pt x="5391" y="16669"/>
                  <a:pt x="5407" y="16669"/>
                </a:cubicBezTo>
                <a:cubicBezTo>
                  <a:pt x="5407" y="16732"/>
                  <a:pt x="5422" y="16761"/>
                  <a:pt x="5432" y="16818"/>
                </a:cubicBezTo>
                <a:cubicBezTo>
                  <a:pt x="5440" y="16864"/>
                  <a:pt x="5453" y="16918"/>
                  <a:pt x="5507" y="16942"/>
                </a:cubicBezTo>
                <a:cubicBezTo>
                  <a:pt x="5562" y="16967"/>
                  <a:pt x="5631" y="16926"/>
                  <a:pt x="5680" y="16917"/>
                </a:cubicBezTo>
                <a:cubicBezTo>
                  <a:pt x="5738" y="16907"/>
                  <a:pt x="5777" y="16883"/>
                  <a:pt x="5829" y="16867"/>
                </a:cubicBezTo>
                <a:cubicBezTo>
                  <a:pt x="5854" y="16867"/>
                  <a:pt x="5862" y="16867"/>
                  <a:pt x="5879" y="16867"/>
                </a:cubicBezTo>
              </a:path>
              <a:path w="1217" h="472">
                <a:moveTo>
                  <a:pt x="5705" y="16842"/>
                </a:moveTo>
                <a:cubicBezTo>
                  <a:pt x="5697" y="16842"/>
                  <a:pt x="5688" y="16842"/>
                  <a:pt x="5680" y="16842"/>
                </a:cubicBezTo>
                <a:cubicBezTo>
                  <a:pt x="5680" y="16897"/>
                  <a:pt x="5701" y="16936"/>
                  <a:pt x="5705" y="16991"/>
                </a:cubicBezTo>
                <a:cubicBezTo>
                  <a:pt x="5705" y="16999"/>
                  <a:pt x="5705" y="17008"/>
                  <a:pt x="5705" y="17016"/>
                </a:cubicBezTo>
              </a:path>
              <a:path w="1217" h="472">
                <a:moveTo>
                  <a:pt x="5879" y="16743"/>
                </a:moveTo>
                <a:cubicBezTo>
                  <a:pt x="5901" y="16721"/>
                  <a:pt x="5906" y="16712"/>
                  <a:pt x="5928" y="16718"/>
                </a:cubicBezTo>
                <a:cubicBezTo>
                  <a:pt x="5939" y="16773"/>
                  <a:pt x="5953" y="16808"/>
                  <a:pt x="5953" y="16867"/>
                </a:cubicBezTo>
                <a:cubicBezTo>
                  <a:pt x="5953" y="16943"/>
                  <a:pt x="5978" y="16934"/>
                  <a:pt x="6003" y="16991"/>
                </a:cubicBezTo>
                <a:cubicBezTo>
                  <a:pt x="6003" y="16999"/>
                  <a:pt x="6003" y="17008"/>
                  <a:pt x="6003" y="17016"/>
                </a:cubicBezTo>
                <a:cubicBezTo>
                  <a:pt x="6058" y="17016"/>
                  <a:pt x="6085" y="17000"/>
                  <a:pt x="6127" y="16991"/>
                </a:cubicBezTo>
                <a:cubicBezTo>
                  <a:pt x="6180" y="16980"/>
                  <a:pt x="6206" y="16981"/>
                  <a:pt x="6251" y="16966"/>
                </a:cubicBezTo>
                <a:cubicBezTo>
                  <a:pt x="6284" y="16955"/>
                  <a:pt x="6340" y="16966"/>
                  <a:pt x="6375" y="16966"/>
                </a:cubicBezTo>
              </a:path>
              <a:path w="1217" h="472">
                <a:moveTo>
                  <a:pt x="6251" y="16917"/>
                </a:moveTo>
                <a:cubicBezTo>
                  <a:pt x="6251" y="16983"/>
                  <a:pt x="6251" y="17049"/>
                  <a:pt x="6251" y="171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55920" y="6089760"/>
            <a:ext cx="125280" cy="90360"/>
          </a:xfrm>
          <a:custGeom>
            <a:avLst/>
            <a:gdLst/>
            <a:ahLst/>
            <a:rect l="l" t="t" r="r" b="b"/>
            <a:pathLst>
              <a:path w="349" h="249">
                <a:moveTo>
                  <a:pt x="7169" y="16991"/>
                </a:moveTo>
                <a:cubicBezTo>
                  <a:pt x="7095" y="16991"/>
                  <a:pt x="7038" y="17004"/>
                  <a:pt x="6970" y="17016"/>
                </a:cubicBezTo>
                <a:cubicBezTo>
                  <a:pt x="6925" y="17024"/>
                  <a:pt x="6868" y="17016"/>
                  <a:pt x="6821" y="17016"/>
                </a:cubicBezTo>
              </a:path>
              <a:path w="349" h="249">
                <a:moveTo>
                  <a:pt x="6945" y="16942"/>
                </a:moveTo>
                <a:cubicBezTo>
                  <a:pt x="6945" y="16880"/>
                  <a:pt x="6969" y="17000"/>
                  <a:pt x="6970" y="17016"/>
                </a:cubicBezTo>
                <a:cubicBezTo>
                  <a:pt x="6973" y="17071"/>
                  <a:pt x="6988" y="17111"/>
                  <a:pt x="6995" y="171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25920" y="517680"/>
            <a:ext cx="98280" cy="13464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10344" y="1811"/>
                </a:moveTo>
                <a:cubicBezTo>
                  <a:pt x="10337" y="1781"/>
                  <a:pt x="10326" y="1766"/>
                  <a:pt x="10319" y="1736"/>
                </a:cubicBezTo>
                <a:cubicBezTo>
                  <a:pt x="10279" y="1723"/>
                  <a:pt x="10309" y="1725"/>
                  <a:pt x="10269" y="1712"/>
                </a:cubicBezTo>
                <a:cubicBezTo>
                  <a:pt x="10256" y="1661"/>
                  <a:pt x="10220" y="1647"/>
                  <a:pt x="10220" y="1588"/>
                </a:cubicBezTo>
                <a:cubicBezTo>
                  <a:pt x="10180" y="1575"/>
                  <a:pt x="10210" y="1576"/>
                  <a:pt x="10170" y="1563"/>
                </a:cubicBezTo>
                <a:cubicBezTo>
                  <a:pt x="10170" y="1520"/>
                  <a:pt x="10180" y="1525"/>
                  <a:pt x="10145" y="1513"/>
                </a:cubicBezTo>
                <a:cubicBezTo>
                  <a:pt x="10135" y="1483"/>
                  <a:pt x="10104" y="1471"/>
                  <a:pt x="10071" y="14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16680" y="1214280"/>
            <a:ext cx="2830320" cy="36720"/>
          </a:xfrm>
          <a:custGeom>
            <a:avLst/>
            <a:gdLst/>
            <a:ahLst/>
            <a:rect l="l" t="t" r="r" b="b"/>
            <a:pathLst>
              <a:path w="7864" h="101">
                <a:moveTo>
                  <a:pt x="22051" y="3423"/>
                </a:moveTo>
                <a:cubicBezTo>
                  <a:pt x="22083" y="3358"/>
                  <a:pt x="22051" y="3398"/>
                  <a:pt x="22051" y="3373"/>
                </a:cubicBezTo>
                <a:cubicBezTo>
                  <a:pt x="22003" y="3381"/>
                  <a:pt x="22013" y="3394"/>
                  <a:pt x="21977" y="3398"/>
                </a:cubicBezTo>
                <a:cubicBezTo>
                  <a:pt x="19558" y="3642"/>
                  <a:pt x="17056" y="3264"/>
                  <a:pt x="14635" y="3423"/>
                </a:cubicBezTo>
                <a:cubicBezTo>
                  <a:pt x="14570" y="3427"/>
                  <a:pt x="14487" y="3444"/>
                  <a:pt x="14436" y="3448"/>
                </a:cubicBezTo>
                <a:cubicBezTo>
                  <a:pt x="14356" y="3454"/>
                  <a:pt x="14281" y="3459"/>
                  <a:pt x="14213" y="34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rcRect l="10681" t="9809" r="9907" b="19678"/>
          <a:stretch/>
        </p:blipFill>
        <p:spPr>
          <a:xfrm>
            <a:off x="0" y="-304920"/>
            <a:ext cx="585936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0:51:50Z</dcterms:created>
  <dc:creator>School</dc:creator>
  <dc:description/>
  <dc:language>en-US</dc:language>
  <cp:lastModifiedBy>N Holden</cp:lastModifiedBy>
  <dcterms:modified xsi:type="dcterms:W3CDTF">2009-03-10T18:31:39Z</dcterms:modified>
  <cp:revision>4</cp:revision>
  <dc:subject/>
  <dc:title>Slide 1</dc:title>
</cp:coreProperties>
</file>